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20FC-3012-44BC-9CF2-1124D0ACB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D994-51A5-4325-92DB-5B71D4E5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F57-2D13-42F0-8972-9998EA9F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20F-6452-473F-918B-BDD986E9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92BF-F6CE-4ED0-8C66-C834EF00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DD5-FB6E-48CC-B453-54C3E3708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A1D-0345-4FF8-9003-4B3477BB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6462-9825-419B-9136-45F1323E2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E19-692C-4899-9645-E634C783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067-B6A2-4C5E-B001-83CBBFF0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9543-B28D-4A82-889D-51E421E6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4FA-B0C2-4FF0-955A-10B4EC79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F1AE-279F-4B74-97F5-6BEDAAA81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FE6-792F-46E9-99EF-0F1BD61F1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6A60-B7BB-4282-861B-11ECF1E4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208B-7E7A-4F3E-9053-8265411AC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8871-AEDE-49B5-B864-E7F92A70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EDE-26D0-4B16-AEBB-BABE58B4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775-45C1-4F00-BBE2-23A7053B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FD2-FC35-497F-9D45-E138AF2A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AFC6-7674-4280-9C98-7B2B51839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1A2-16E4-4E38-9E8F-4C1FF7CF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989-8911-410C-895D-F6DB256ED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E6E-C3BF-49A2-A619-091DE4C0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9B37-9A32-4409-A19C-41F9BEAB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B1F-808A-4874-9B6C-C5F522C18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C09-41AA-474A-BFB9-C806CEA5A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6CD-FE92-45B4-B6A1-5DB5D28C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9803-DD37-48C0-8C62-15EB4736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AA88-EFE1-475F-AE41-35297619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693-7ABE-4C73-B114-618AE8858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2EE5-C0A9-44B0-8C3F-4740D821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D99-DE27-4AFA-B2EF-79F2CEE8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B8C-3FEF-462D-A9B7-607B58A64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81F7-71FC-43C3-9AF6-C326E884F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65C2-28E2-4E93-A9D2-799CB23F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F063-820B-4917-8437-251AD3DA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B449-7D48-4CE0-9AF9-94904342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3DF-7D4F-4C51-9C98-5B99C545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5FB-5994-4A4F-90DA-B7A6173A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801E-FFC7-40A2-953D-B02AC2CF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4C4-3A30-448A-851A-384D6311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79CE-6AE2-4CB8-BFC8-1459710F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6672-7F1E-4FBF-B4F4-AB5FD07D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371-2DE4-4F5D-8DE8-2C837588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0C8-D9FC-4AD5-8AD7-BDA71B91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FEC4-16AA-42A2-B778-7F2A4400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D70-D018-4D42-B3AA-9E1017786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0DC2-9BEF-4404-9530-08FEFF48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7A45-ABD9-4045-99C2-10F2197F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F195-FA95-4729-848C-A43EB1CF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61F2-ABF7-4E7D-A45D-A06FD506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5D3E-E1BC-4394-8EB2-5CB08BDF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1EC5-5888-4E85-9C17-D67E5618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6B34-A775-407D-9D93-CBBCFB200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E9C-9FE9-4512-942B-A69B80605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802-BD30-4E8F-9D3B-922407B3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DD88-ED1C-4BD4-BE4A-DB2955E3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9A1-F5C6-43F9-9890-4F99588B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5E6-C7B9-4E05-836A-A089BC2F5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C1E-3C64-4CD9-8D05-A32353B5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8AF-12A3-4965-BD0E-EA536685D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6ED-7EC5-436C-90F3-2C4A154A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115C-515E-41DC-B713-29DA711B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F6A2-F6A7-4FA1-8BAE-2F2609B90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12A1-0C6F-419B-BF51-B21A57D03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8B5C-FB01-4373-9DF1-69568EE88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0B7F4-6182-433A-A310-9E7FF4A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2D56-D8D6-4C05-935F-35EB9F6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E638-D7B0-4AD7-A4A7-14BF9F9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5E157-68F9-42C6-B7AB-9C0631F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A0193-CA36-4062-AF0D-5D1E9EA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CD38F-C55A-4BCB-8BE2-5FF04A3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CA2BA-F8D2-41F7-83F7-35B931E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975F-09AE-41EC-BD90-09CD794FC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43C5B-3BDB-427A-B23F-9D461FB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F16E0-3282-42FC-BB7A-C296CAC2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6105-4984-4656-B1B2-D0DADA8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3C2D-4A8B-48E3-AE37-8C8F7F0F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7FAE8-F04E-43EA-9B10-2E100D06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8C11-34DA-4E34-B282-87A9C2DFE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78F1-3586-4E60-B8A5-A390CF433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B690-2744-4FB8-885E-D69F70775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D6BC-F05F-4F55-9984-30906C73A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ADE8-5944-4226-B697-01100031C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177E-2EBA-447C-B40C-DDB15B5EC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9429-438B-45AE-9F3C-30B29B000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7-</a:t>
            </a:r>
            <a:fld id="{8F3197E2-0A8F-4405-B8FA-01AFC1B4EC24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4AC-61C2-470B-8FFF-70164AC792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7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mplementing Strategies: Management &amp; Operations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A5FA-14F8-4013-8BC5-4660CDFBDB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792504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mulation focuses o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lementation focuses on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ulation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CFDE-ACC7-4F7C-8542-36E097D7583B}" type="slidenum">
              <a:t>10</a:t>
            </a:fld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221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mulation is primarily an intellectu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lementation is primarily an operatio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ulation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E64D-5DEB-423A-B5F1-EA9EE710FC8E}" type="slidenum">
              <a:t>11</a:t>
            </a:fld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221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mulation requires good intuitive &amp; analyt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lementation requires special motivational &amp; leadership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ulation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91D8-48F9-4463-8A28-33F3861FB452}" type="slidenum">
              <a:t>12</a:t>
            </a:fld>
          </a:p>
        </p:txBody>
      </p:sp>
    </p:spTree>
  </p:cSld>
  <p:transition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7925040" cy="221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mulation requires coordination among a few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lementation requires coordination among many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ulation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0A46-67B5-4E38-B006-9D1BC1506674}" type="slidenum">
              <a:t>13</a:t>
            </a:fld>
          </a:p>
        </p:txBody>
      </p:sp>
    </p:spTree>
  </p:cSld>
  <p:transition>
    <p:cover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Varies among different types &amp; size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1906560" cy="19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AF0C-3533-4D6F-A653-8CC9E9564507}" type="slidenum">
              <a:t>14</a:t>
            </a:fld>
          </a:p>
        </p:txBody>
      </p:sp>
    </p:spTree>
  </p:cSld>
  <p:transition>
    <p:cover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ltering sales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dding new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os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iring new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st-contro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odifying advertis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uilding new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434-0C7B-4D92-B28C-01B48ED6C63A}" type="slidenum">
              <a:t>15</a:t>
            </a:fld>
          </a:p>
        </p:txBody>
      </p:sp>
    </p:spTree>
  </p:cSld>
  <p:transition>
    <p:cover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hift in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276720"/>
            <a:ext cx="2590560" cy="152388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vision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648320"/>
            <a:ext cx="5105520" cy="914400"/>
          </a:xfrm>
          <a:custGeom>
            <a:avLst/>
            <a:gdLst>
              <a:gd name="textAreaLeft" fmla="*/ 893520 w 5105520"/>
              <a:gd name="textAreaRight" fmla="*/ 3701520 w 51055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276720"/>
            <a:ext cx="2666880" cy="1523880"/>
          </a:xfrm>
          <a:prstGeom prst="ellips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6476-1AA3-4B6A-B5F2-8FB08232E4BD}" type="slidenum">
              <a:t>16</a:t>
            </a:fld>
          </a:p>
        </p:txBody>
      </p:sp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CA70-27E3-4465-8F0C-AC5268CFA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5BAD-BBBB-4D34-A1E4-8C17634A52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Objec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971800"/>
            <a:ext cx="7315200" cy="181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Decentraliz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Directly involve all managers in th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FEBF-4719-4A2D-98B3-A565D9B72F4D}" type="slidenum">
              <a:t>19</a:t>
            </a:fld>
          </a:p>
        </p:txBody>
      </p:sp>
    </p:spTree>
  </p:cSld>
  <p:transition>
    <p:cover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nnual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2E7E-B539-41AE-B544-9BF53960450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219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 of Annual Objec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286000"/>
            <a:ext cx="7315200" cy="331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asis for resource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echanism for managemen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etric for gauging progress on long-term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stablish priorities (organizational, division, &amp; departm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F41D-F200-4FA3-B31A-6159376ABF3B}" type="slidenum">
              <a:t>20</a:t>
            </a:fld>
          </a:p>
        </p:txBody>
      </p:sp>
    </p:spTree>
  </p:cSld>
  <p:transition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193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cy of Annual Objec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666880"/>
            <a:ext cx="731520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cross hierarchic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orizontally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Vertically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029200" y="2666880"/>
            <a:ext cx="3268800" cy="2408400"/>
            <a:chOff x="5029200" y="2666880"/>
            <a:chExt cx="3268800" cy="2408400"/>
          </a:xfrm>
        </p:grpSpPr>
        <p:sp>
          <p:nvSpPr>
            <p:cNvPr id="183" name="Pyr1"/>
            <p:cNvSpPr/>
            <p:nvPr/>
          </p:nvSpPr>
          <p:spPr>
            <a:xfrm>
              <a:off x="6301080" y="2666880"/>
              <a:ext cx="732600" cy="5338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Pyr2"/>
            <p:cNvSpPr/>
            <p:nvPr/>
          </p:nvSpPr>
          <p:spPr>
            <a:xfrm>
              <a:off x="5877000" y="3200760"/>
              <a:ext cx="1577160" cy="6260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Pyr3"/>
            <p:cNvSpPr/>
            <p:nvPr/>
          </p:nvSpPr>
          <p:spPr>
            <a:xfrm>
              <a:off x="5457240" y="3826800"/>
              <a:ext cx="2416320" cy="6253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Pyr4"/>
            <p:cNvSpPr/>
            <p:nvPr/>
          </p:nvSpPr>
          <p:spPr>
            <a:xfrm>
              <a:off x="5029200" y="4449240"/>
              <a:ext cx="3268800" cy="6260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D9AB-18E5-4849-B0A0-6A4CE92FA5FA}" type="slidenum">
              <a:t>21</a:t>
            </a:fld>
          </a:p>
        </p:txBody>
      </p:sp>
    </p:spTree>
  </p:cSld>
  <p:transition>
    <p:cover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2193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of Annual Objectiv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133720"/>
            <a:ext cx="7315200" cy="379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aso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hal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C665-87CD-45A2-824C-8626410A1B32}" type="slidenum">
              <a:t>22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4479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Objectives Shoul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362320"/>
            <a:ext cx="731520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e Verif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FE41-A399-487F-9304-4A6A9BB6456D}" type="slidenum">
              <a:t>23</a:t>
            </a:fld>
          </a:p>
        </p:txBody>
      </p:sp>
    </p:spTree>
  </p:cSld>
  <p:transition>
    <p:cover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8DE9-7E51-4EE2-8E9C-17008365AC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Facilitate the solving or recurring problems &amp; guide implementation of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D251-1D3C-4D4B-9100-4DE1D9438004}" type="slidenum">
              <a:t>25</a:t>
            </a:fld>
          </a:p>
        </p:txBody>
      </p:sp>
    </p:spTree>
  </p:cSld>
  <p:transition>
    <p:cover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Establish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971800"/>
            <a:ext cx="731520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B2F7-952F-40D5-8A72-40FACBE263D9}" type="slidenum">
              <a:t>26</a:t>
            </a:fld>
          </a:p>
        </p:txBody>
      </p:sp>
    </p:spTree>
  </p:cSld>
  <p:transition>
    <p:cover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5BDA-4CF8-4ADC-8764-BDFAE8CAC0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971800"/>
            <a:ext cx="7315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Central management activity that allows for the execution of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F17F-E4DF-427D-930B-764DC57704CC}" type="slidenum">
              <a:t>28</a:t>
            </a:fld>
          </a:p>
        </p:txBody>
      </p:sp>
    </p:spTree>
  </p:cSld>
  <p:transition>
    <p:cover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74320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nanci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hys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echnolog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Typ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9A98-46FC-4CFD-87F7-CB3BE086054B}" type="slidenum">
              <a:t>29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source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tching Structure with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3995-AE5F-469B-A530-BECB177AADCC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2971800"/>
            <a:ext cx="7315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Disagreement between two more parties on one or mor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220968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5EF3-C11B-4970-A004-CBFCB6D51911}" type="slidenum">
              <a:t>30</a:t>
            </a:fld>
          </a:p>
        </p:txBody>
      </p:sp>
    </p:spTree>
  </p:cSld>
  <p:transition>
    <p:cover dir="l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514600"/>
            <a:ext cx="6781680" cy="289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flict not always “b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 conflict may signal a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an energize opposing groups to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y help managers identif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aging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EB28-949B-45EE-93BE-5E4D1EFDB1A7}" type="slidenum">
              <a:t>31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895480"/>
            <a:ext cx="678168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lict Management &amp;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9A1D-E8E3-4AB0-A8CF-5514784536B9}" type="slidenum">
              <a:t>32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7C09-6C7D-41A9-8D0E-55ACF43DE5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ing Structure w/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971800"/>
            <a:ext cx="7315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Changes in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ategy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 = Changes in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ucture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549D-70FD-475D-93CD-391E13F78EDF}" type="slidenum">
              <a:t>34</a:t>
            </a:fld>
          </a:p>
        </p:txBody>
      </p:sp>
    </p:spTree>
  </p:cSld>
  <p:transition>
    <p:cover dir="l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743200"/>
            <a:ext cx="6781680" cy="202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ucture dictates how objectives &amp; policies will be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ucture dictates how resources will be 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 &amp;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17AE-5411-4E98-B82C-3ED79A6AC667}" type="slidenum">
              <a:t>35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00400" y="2362320"/>
            <a:ext cx="2362320" cy="106668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ew administ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roblems e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362320"/>
            <a:ext cx="2361960" cy="106668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ew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s for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2362320"/>
            <a:ext cx="2362320" cy="106668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ec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4419720"/>
            <a:ext cx="2743200" cy="106668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rganiz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419720"/>
            <a:ext cx="2743200" cy="106668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ew 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ucture is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8195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8195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34290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077320" y="48769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495320" y="48769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80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5800" y="35049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572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Chandler’s Strategy-Structur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D135-4C2B-4458-ABAC-42856BB1A2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743200"/>
            <a:ext cx="72388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unctio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visio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ic Business Unit Structure (SB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trix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1676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Forms o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470B-EFFE-4A42-B296-F41BD7EB1989}" type="slidenum">
              <a:t>37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Functional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idely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and least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activities by business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s accountability to the 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izes career development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ized by low employee morale, line/staff conflict, poor delegation of authority, inadequate planning for products and mar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leads to short-term and narrow th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0C7C-2DE0-4E5E-8D6F-2643380B7D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visional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most common type of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organiz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graphic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or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3456-C2B6-4875-8D43-8EDC89306F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structuring, Reengineering &amp; E-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nking Performance &amp; Pay to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ing Resistance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A4E3-1BDD-4BB4-A930-A53C6F9DC894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visional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accoun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er employee mo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career development opportunities for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local control of sit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to a competitive climate within an orga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new businesses and products to be added eas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8AA4-A79C-4508-A619-AE82200467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visional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costly to set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division requires functional specia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plication of staff services, facilities, and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must be well qual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n elaborate, headquarters-driven contro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 between divisions may become so intense that it is dysfunc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F1FA-9C1B-4D94-BD77-45D92452F7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Appropriateness of Divisional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graphic area – Organizations whose strategies need to be tailored to fit the needs and characteristics of customers in different geographic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or Service – When specific products or services need special emph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 – When each process (division) is responsible for generating revenues and prof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0901-1D18-4238-BD95-9EAE8BC16F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Strategic Business Unit (SBU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ultidivisional organizations, an SBU structure can greatly facilitate strategy-implementation effo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s of improved coordination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n additional layer of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of the group vice president is often ambigu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F515-6566-4CFE-8F15-52DE2BE5BD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1152360"/>
            <a:ext cx="8915400" cy="46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CFAA-7747-4270-89E2-7EE26AFA13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Matrix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plex of all designs – requires both vertical and horizontal flows of authority and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sult in higher over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al lines of budget autho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al sources of reward and 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 autho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al reporting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for an extensive and effective communica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AD17-404E-4985-BD9A-5082C8F5C5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Matrix Structur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objectives ar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hannels of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ers can see visible results of thei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tting down a project can be accomplished relatively eas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s the use of specialized personnel, equipment, and fac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8E3B-E950-4261-93DA-5E8032C48D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47720" y="228600"/>
            <a:ext cx="764856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2ED7-6163-4A25-8E48-0F26A96EFB3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o’s and Don’ts in Developing Organizational Chart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rve the title CEO for the top execu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itle “chief” or “VP” or “manager” for functional business execu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ly below the CEO it is best to have a COO and other “chief’ offic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itle president for the top execu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itle president for functional business execu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BC27-08E5-4C19-9CB5-886B61C6F9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33520" y="604800"/>
            <a:ext cx="8153280" cy="57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34D8-CF34-492B-9D16-BA2FF0593D2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ing the Natur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reating a Strategy-Supportiv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oduction/Operations Concerns When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lement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A8C7-3518-4DCE-BF05-EA0D8817594B}" type="slidenum">
              <a:t>5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6929-A7C8-4A1A-B747-BE7EAC5083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u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Reducing the size of the firm – # of employees, divisions and/or units, # of hierarchical lev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A059-A44B-420B-A416-F1C3CF8B49C3}" type="slidenum">
              <a:t>51</a:t>
            </a:fld>
          </a:p>
        </p:txBody>
      </p:sp>
    </p:spTree>
  </p:cSld>
  <p:transition>
    <p:cover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u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971800"/>
            <a:ext cx="731520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owns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Rights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e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C77C-C36A-43EB-9EB9-27A711B417AC}" type="slidenum">
              <a:t>52</a:t>
            </a:fld>
          </a:p>
        </p:txBody>
      </p:sp>
    </p:spTree>
  </p:cSld>
  <p:transition>
    <p:cover dir="l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Reconfiguring or redesigning work, jobs, &amp; processes to improve cost, quality, service, &amp;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DA99-122C-4240-A8B9-3AF2C34647CC}" type="slidenum">
              <a:t>53</a:t>
            </a:fld>
          </a:p>
        </p:txBody>
      </p:sp>
    </p:spTree>
  </p:cSld>
  <p:transition>
    <p:cover dir="l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2971800"/>
            <a:ext cx="731520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cess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cess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cess re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B3B8-A2DC-444C-B638-327AC053137F}" type="slidenum">
              <a:t>54</a:t>
            </a:fld>
          </a:p>
        </p:txBody>
      </p:sp>
    </p:spTree>
  </p:cSld>
  <p:transition>
    <p:cover dir="l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wards/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0B0B-2D0E-4774-B7B9-770DE29EEE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Pay/Performance to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971800"/>
            <a:ext cx="7315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Pay for performanc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DC55-9CB5-4109-856D-15CC569421CF}" type="slidenum">
              <a:t>56</a:t>
            </a:fld>
          </a:p>
        </p:txBody>
      </p:sp>
    </p:spTree>
  </p:cSld>
  <p:transition>
    <p:cover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Pay/Performance to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971800"/>
            <a:ext cx="731520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ual bonu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fit shar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Gain shar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E66D-3640-4D80-8A43-9EC686ECB2BF}" type="slidenum">
              <a:t>57</a:t>
            </a:fld>
          </a:p>
        </p:txBody>
      </p:sp>
    </p:spTree>
  </p:cSld>
  <p:transition>
    <p:cover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533520"/>
            <a:ext cx="8153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ests for Performance-Pay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19320"/>
            <a:ext cx="7540560" cy="60804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oes the plan capture atten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209680"/>
            <a:ext cx="7540560" cy="60804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o employees understand the pl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3276720"/>
            <a:ext cx="7540560" cy="60804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s the plan improving communic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4343400"/>
            <a:ext cx="7540560" cy="60804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oes the plan pay out when it shoul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5334120"/>
            <a:ext cx="7540560" cy="608040"/>
          </a:xfrm>
          <a:prstGeom prst="rect">
            <a:avLst/>
          </a:prstGeom>
          <a:solidFill>
            <a:srgbClr val="e3dd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s the company or unit performing bett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1E43-6C22-409E-B854-FA9889C322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95360" y="609480"/>
            <a:ext cx="8153280" cy="518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21E2-EFAC-4671-90E9-F324F8AE7AB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uman Resource Concerns When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lement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2D49-E513-4DD3-B93C-DABE215D7CF7}" type="slidenum">
              <a:t>6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4D5C-A386-469B-BB8A-E9CFAE70C7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971800"/>
            <a:ext cx="7315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Single greatest threat to successful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F501-E66D-40DA-9DF8-4DDAA451C613}" type="slidenum">
              <a:t>61</a:t>
            </a:fld>
          </a:p>
        </p:txBody>
      </p:sp>
    </p:spTree>
  </p:cSld>
  <p:transition>
    <p:cover dir="l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1371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2286000"/>
            <a:ext cx="7315200" cy="326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Raises anxiety; fear conce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conomic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reak in status-quo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852B-EF00-4F42-A431-CACB00A6B066}" type="slidenum">
              <a:t>62</a:t>
            </a:fld>
          </a:p>
        </p:txBody>
      </p:sp>
    </p:spTree>
  </p:cSld>
  <p:transition>
    <p:cover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371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2666880"/>
            <a:ext cx="7772400" cy="255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ce Change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ducative Change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Rational or Self-Interest Change Strategy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2735-0F2F-4330-BF2A-01427ED16B6D}" type="slidenum">
              <a:t>63</a:t>
            </a:fld>
          </a:p>
        </p:txBody>
      </p:sp>
    </p:spTree>
  </p:cSld>
  <p:transition>
    <p:cover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C875-E731-4EAC-8BD8-FCA44FFB83A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Wide appreciation for firms that “mend” rather than “harm”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D688-0AFB-4D42-9955-EFB608F15BB0}" type="slidenum">
              <a:t>65</a:t>
            </a:fld>
          </a:p>
        </p:txBody>
      </p:sp>
    </p:spTree>
  </p:cSld>
  <p:transition>
    <p:cover dir="l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600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Environment – Environmental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971800"/>
            <a:ext cx="7315200" cy="2671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velop/acquire “green”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vesting environmental-damag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ow-cost producer through waste minimization &amp; energy con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1BCA-EB11-4BEC-B313-3D5BAD7DDE7D}" type="slidenum">
              <a:t>66</a:t>
            </a:fld>
          </a:p>
        </p:txBody>
      </p:sp>
    </p:spTree>
  </p:cSld>
  <p:transition>
    <p:cover dir="l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52E1-B4AB-4E74-837D-19470D2D68C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-Supportiv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Preserve, emphasize, &amp; build upon aspects of existing culture that support 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9DD2-A5CD-4D55-B785-9CD33420654A}" type="slidenum">
              <a:t>68</a:t>
            </a:fld>
          </a:p>
        </p:txBody>
      </p:sp>
    </p:spTree>
  </p:cSld>
  <p:transition>
    <p:cover dir="l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09120" y="2437920"/>
            <a:ext cx="799812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mal statements of philosophy, charters, etc. used for recruitment and selection,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signing of physical spaces, facades,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liberate role modeling, teaching and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xplicit reward and status system, promo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tories, legends, myths about key people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1430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s linking culture to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B41F-20B0-463E-992E-E4458FC39D79}" type="slidenum">
              <a:t>69</a:t>
            </a:fld>
          </a:p>
        </p:txBody>
      </p:sp>
    </p:spTree>
  </p:cSld>
  <p:transition>
    <p:cover dir="l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619760" cy="2362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Pretend that every single person you meet has a sign around his or her neck that says, “Make me feel important”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Kay Ash, CEO of Mary Kay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mplement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0E58-66F0-4D3F-8480-A2318F9D3FE4}" type="slidenum">
              <a:t>7</a:t>
            </a:fld>
          </a:p>
        </p:txBody>
      </p: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997760" cy="289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leaders pay attention to, measur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der reactions to critical incidents and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ow the organization is designed and 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rganizational system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riteria used for recruitment, selection, promotion,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11430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s linking culture to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2D92-A83F-4124-A3FD-305DEBDB8F8C}" type="slidenum">
              <a:t>70</a:t>
            </a:fld>
          </a:p>
        </p:txBody>
      </p:sp>
    </p:spTree>
  </p:cSld>
  <p:transition>
    <p:cover dir="l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e0d4b4"/>
          </a:solidFill>
          <a:ln w="0">
            <a:noFill/>
          </a:ln>
          <a:effectLst>
            <a:outerShdw dist="17819" dir="2700000" blurRad="0" rotWithShape="0">
              <a:srgbClr val="857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FF27-B298-4CDB-89E7-5414475D6E9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500"/>
                            </p:stCondLst>
                            <p:childTnLst>
                              <p:par>
                                <p:cTn id="9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/Operations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Production processes typically constitute more than 70% of firm’s tot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A250-1587-4F69-8153-667DC052DBEF}" type="slidenum">
              <a:t>72</a:t>
            </a:fld>
          </a:p>
        </p:txBody>
      </p:sp>
    </p:spTree>
  </p:cSld>
  <p:transition>
    <p:cover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371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/Operations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2286000"/>
            <a:ext cx="7315200" cy="354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lan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Inventory/Inventor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os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echnological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49D5-5535-4AB0-8962-548222F2E600}" type="slidenum">
              <a:t>73</a:t>
            </a:fld>
          </a:p>
        </p:txBody>
      </p:sp>
    </p:spTree>
  </p:cSld>
  <p:transition>
    <p:cover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0d4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ive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ECB0-C449-4010-8DD8-2A177ACE0CD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2971800"/>
            <a:ext cx="7315200" cy="20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HR manager position has strategic responsibility &amp; has changed dramatically as companies continue to reorganize, outsour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7175-AC7E-47C3-8226-0B9E1EC7F0C5}" type="slidenum">
              <a:t>75</a:t>
            </a:fld>
          </a:p>
        </p:txBody>
      </p:sp>
    </p:spTree>
  </p:cSld>
  <p:transition>
    <p:cover dir="l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295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 Strategic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286000"/>
            <a:ext cx="7315200" cy="354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ssessing staffing needs/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eveloping performance ince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SO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hild-care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Work-life bal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E28D-691D-4E68-BA92-79A2839B7749}" type="slidenum">
              <a:t>76</a:t>
            </a:fld>
          </a:p>
        </p:txBody>
      </p:sp>
    </p:spTree>
  </p:cSld>
  <p:transition>
    <p:cover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versity Iss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57200" y="1905120"/>
          <a:ext cx="8229600" cy="3524040"/>
        </p:xfrm>
        <a:graphic>
          <a:graphicData uri="http://schemas.openxmlformats.org/drawingml/2006/table">
            <a:tbl>
              <a:tblPr/>
              <a:tblGrid>
                <a:gridCol w="2743200"/>
                <a:gridCol w="3124080"/>
                <a:gridCol w="2362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CE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Compa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Meg Whitm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eBa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ndrea Ju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von Produc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nne Mulcah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Xero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Marjorie Magn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Betsy Hold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Kraft Food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nn Moo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OL Time Warn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>
            <a:off x="609480" y="1143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CEO’s in U.S. 2005 (exam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8C08-B663-4999-BE91-F9161B3ABCA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enefits of a Diverse Workfor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s corporate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s employee mo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a higher retention of employ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easier recruitment of employ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es complaints and liti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s crea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es interpersonal confli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4DC7-611C-44AF-96BB-4E8A1496778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enefits of a Diverse Workfor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s the organization to move into emerging mar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s client re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s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s the bottom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s brand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training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8F6F-26DD-430C-9348-61293990DCF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514240"/>
            <a:ext cx="8229600" cy="15238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uccessful strategy formulation does not guarantee successful 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335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9D06-07FC-4C6B-AFCC-9004603EFB20}" type="slidenum">
              <a:t>8</a:t>
            </a:fld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nnual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fro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on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5F5A-EB7B-4161-B5AA-1873C700B45D}" type="slidenum">
              <a:t>80</a:t>
            </a:fld>
          </a:p>
        </p:txBody>
      </p:sp>
    </p:spTree>
  </p:cSld>
  <p:transition>
    <p:cover dir="l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lay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ducative Chang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-centralize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mployee Stock Ownership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lans (ESOP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ision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stablishing Annual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owns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orce Change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C136-CF02-4A12-9F06-1950CC36C598}" type="slidenum">
              <a:t>81</a:t>
            </a:fld>
          </a:p>
        </p:txBody>
      </p:sp>
    </p:spTree>
  </p:cSld>
  <p:transition>
    <p:cover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Just in Time (J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ain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rix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lass Ce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orizontal Consistenc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f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fit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DA87-67A6-47A4-9D46-B7E7F75C2414}" type="slidenum">
              <a:t>82</a:t>
            </a:fld>
          </a:p>
        </p:txBody>
      </p:sp>
    </p:spTree>
  </p:cSld>
  <p:transition>
    <p:cover dir="l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ational Chang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tru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ights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istance t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elf-Interest Chang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ourc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ic Business Unit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SB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C414-3EF4-4CBF-B8BD-FE77EF53D8DD}" type="slidenum">
              <a:t>83</a:t>
            </a:fld>
          </a:p>
        </p:txBody>
      </p:sp>
    </p:spTree>
  </p:cSld>
  <p:transition>
    <p:cover dir="l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2362320"/>
            <a:ext cx="350496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Vertical Consistenc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f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2362320"/>
            <a:ext cx="365760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rian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9328-10CE-4DAA-9C7B-CF5712EA8F95}" type="slidenum">
              <a:t>84</a:t>
            </a:fld>
          </a:p>
        </p:txBody>
      </p:sp>
    </p:spTree>
  </p:cSld>
  <p:transition>
    <p:cover dir="l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mulation positions forces before th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lementation manages forces during th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752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ulation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6087-006F-4749-BB0A-B17CBEEF2BCA}" type="slidenum">
              <a:t>9</a:t>
            </a:fld>
          </a:p>
        </p:txBody>
      </p:sp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23:24Z</dcterms:modified>
  <cp:revision>338</cp:revision>
  <dc:subject/>
  <dc:title>Chapter 1  The Nature of Strategic Management </dc:title>
</cp:coreProperties>
</file>