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355B-3E35-4B12-9EAD-CE07E35C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C890-58F1-486E-95B0-5B64024B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86C-D460-4CEC-A477-241C1BCB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3BC-C4B0-4A7D-853C-F506F74C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4C0-B876-4C02-A4AD-448DF19F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C1A-736A-4034-97E2-0B689DBB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1D89-6050-4455-A485-B079509C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151-A210-476E-8F74-18762C16F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7137-AA43-437A-ACAB-A4898478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CE0-645A-4326-AB43-A16D731A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B38-0273-4077-8BF0-74A7A7E1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C532-8E33-4FE4-83EA-A0A97C6F6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3D67-EA13-46B7-AB06-E61D9B63C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5E76-DFEE-49FC-AF1E-DBE520299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CC6B-3276-4EC7-B333-F1066F797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D6751-F0CF-4365-8106-DBF35E44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8E769-CACB-43E5-B9CA-BA76C4C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FDA9-F995-4714-B774-5894723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7EE50-FF01-4448-8988-C92286E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4B00-CEA6-4C91-BD20-D61DB55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1A57-C0FA-4FC2-8124-8B0E073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8459-B3BF-4979-A83E-59DEAD2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2253-6B9D-418E-9B6F-0934794C9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774C2-2AFC-4DD9-BF08-34C321E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4D07-CD7A-4711-985F-EADD911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15CCB-C11A-4D67-AD1C-D99BF51D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E702F-69B7-44BD-842A-D657E5C0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E51CB-31BD-413D-B523-B072E230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2CE8-BF50-4698-8B28-F578F4F06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AEA6-BD05-4662-8827-0C2F8DA51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1699-93D9-45AB-A532-B50716C2F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C3D2-3CBA-4366-8AD9-5449AB791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F04E-5EB9-40E7-802C-7E03DB50A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8133-0F06-4895-8ACD-924928664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7EA7-89D8-4AF7-B3BD-B61CAC012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9-</a:t>
            </a:r>
            <a:fld id="{FEE14AAC-E963-452B-9960-AB1575D1E2E8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9D3-02EB-472E-ACD3-082C0F44DA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9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7554-3BD6-44F5-ADA1-6D73A94D5F4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Have assets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crease in profi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crease in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crease in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rofit margins, ROI, &amp; EPS ratios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aisal of Strateg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3491-224F-42CA-A6B7-BD2EA78D5B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6019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melt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0CF7-AF05-4FC1-9D6C-384698C64F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trategy should not present inconsistent goals &amp;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02EA-0BAE-4969-B0A3-2B56A5DBAB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melt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771B-6B84-4EFA-8885-D24B5D3448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Need for strategies to examine sets of tr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33BF-DCCB-4381-9091-03E84974C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6019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melt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FDD3-AE66-47AC-B302-BF2CE2F01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Neither overtax resources or create unsolvable sub-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076C-FB7B-4593-B320-92311080A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melt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D58E-F5D8-450C-A160-01028B19E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5715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reation or maintenance of competitive advan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6A55-644C-4770-B2EB-E08F20408D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crease in environment’s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ifficulty predicting future with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creasing number of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iculties in 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67C9-98BD-46DE-8031-2B93B24209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 Strategy-Evalu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Balanced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1D02-75CB-4439-8217-0D97B5B3DB4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ate of obsolescence of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omestic and global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creasing time span for planning certai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iculties in 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7C6B-752F-4FD5-A79B-01DDAA4CC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6019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itiate managerial questi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Trigger review of objectives &amp; 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timulate creativity in generating altern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tegy Evaluation Should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CBB5-EEA3-460B-AC79-062F0AAEE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velop revised EFE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velop revised IFE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Underlying Bases of Strategy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76B2-809B-402D-840B-7203511591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mpetitors’ reaction to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mpetitors’ change in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mpetitors’ changes in strengths &amp; 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easons for competitors’ strategic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Effectiveness of Strategy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AB29-20D7-4A28-9487-C34274DCC9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easons for competitors’ successful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mpetitors’ present market positions &amp; profi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otential for competitor retal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otential for cooperation with compet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Effectiveness of Strategy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7923-7C74-4E8E-A393-231562CCCC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re strengths still strength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Have we added additional strength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re weaknesses still weaknes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Have we developed other weaknes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765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Strengths &amp; Weaknesses; Opportunities &amp;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606C-7419-4C52-A933-3402C262F6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5715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re opportunities still opportunit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Other opportunities develo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re threats still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Other threats emerg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re we vulnerable to hostile takeo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6002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Strengths &amp; Weaknesses; Opportunities &amp;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39D3-436C-403D-847A-A1DF23D812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393920"/>
            <a:ext cx="8915400" cy="39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04C4-F92A-4202-9591-4BCEB62C27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181480" y="228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Arial"/>
                <a:ea typeface="Arial"/>
              </a:rPr>
              <a:t>Evaluation Framewor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1240" y="227160"/>
            <a:ext cx="4538520" cy="1338120"/>
            <a:chOff x="111240" y="227160"/>
            <a:chExt cx="4538520" cy="1338120"/>
          </a:xfrm>
        </p:grpSpPr>
        <p:pic>
          <p:nvPicPr>
            <p:cNvPr id="2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11240" y="227160"/>
              <a:ext cx="4538520" cy="133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1" name=""/>
            <p:cNvSpPr/>
            <p:nvPr/>
          </p:nvSpPr>
          <p:spPr>
            <a:xfrm>
              <a:off x="325440" y="279360"/>
              <a:ext cx="4149720" cy="1041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I.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Review Underlying Bases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6360" y="6021360"/>
            <a:ext cx="3273480" cy="68256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tinue present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5160" y="3122640"/>
            <a:ext cx="5040000" cy="927000"/>
            <a:chOff x="65160" y="3122640"/>
            <a:chExt cx="5040000" cy="927000"/>
          </a:xfrm>
        </p:grpSpPr>
        <p:pic>
          <p:nvPicPr>
            <p:cNvPr id="20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5160" y="3122640"/>
              <a:ext cx="5040000" cy="92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342000" y="3174840"/>
              <a:ext cx="457740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II.  Measure Firm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91320" y="1143000"/>
            <a:ext cx="3060720" cy="4726080"/>
            <a:chOff x="5791320" y="1143000"/>
            <a:chExt cx="3060720" cy="4726080"/>
          </a:xfrm>
        </p:grpSpPr>
        <p:pic>
          <p:nvPicPr>
            <p:cNvPr id="207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791320" y="1143000"/>
              <a:ext cx="3060720" cy="4726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8" name=""/>
            <p:cNvSpPr/>
            <p:nvPr/>
          </p:nvSpPr>
          <p:spPr>
            <a:xfrm>
              <a:off x="6051960" y="1189800"/>
              <a:ext cx="2625480" cy="441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II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Ta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Corr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8080" y="1676520"/>
            <a:ext cx="2130480" cy="530280"/>
          </a:xfrm>
          <a:prstGeom prst="rect">
            <a:avLst/>
          </a:prstGeom>
          <a:solidFill>
            <a:srgbClr val="cc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ifferen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4192560"/>
            <a:ext cx="2130480" cy="53028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ifferen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11680" y="1525680"/>
            <a:ext cx="606240" cy="60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5680" y="5106960"/>
            <a:ext cx="606240" cy="60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1680" y="4116240"/>
            <a:ext cx="606240" cy="60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2363760"/>
            <a:ext cx="606240" cy="60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1160" y="1828800"/>
            <a:ext cx="1370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1160" y="4419720"/>
            <a:ext cx="1370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37304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51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289728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9639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57927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3240" y="1828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3240" y="441972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A672-235D-49E2-A384-80559F1A2E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mpare expected to actual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vestigate deviations from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Evaluate individual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rogress toward stated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suring Organizational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5510-CBD3-471C-A5B5-29D6F7F9C4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ublished Sources of Strategy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valua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haracteristics of an Effective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valu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tingency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1B2C-FB4D-4C8C-91F0-401633DA30DC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Financial Rat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are performance over different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are performance to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are performance to industry aver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tative Criteria for 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5648-EA32-4047-8682-FFE65C8764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eturn on investment (RO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eturn on equity (RO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rofit mar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Market Sh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Financial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71FB-EEBC-4FFF-BC4D-2BAD1BAE72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bt to equ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Earnings per share (E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ales grow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sset grow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Financial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9145-A943-43A1-B2B5-2D515F8A3D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790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ternal consistency of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onsistency with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ppropriateness in view of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tative Evaluation of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CBF1-8267-423F-9DD1-ADA6AEBBDC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5715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cceptable degree of r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ppropriate time fr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Workability of the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tative Evaluation of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F141-97FF-437E-8DA6-D1897DDAB4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380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trategy Review, Evaluation,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3520" y="2514240"/>
            <a:ext cx="7238880" cy="3048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Evaluate strategies from 4 persp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. 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2.  Custome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3.  Internal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4.  Learning &amp;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d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EF91-7D7F-4872-9235-F9F27C09B0C9}" type="slidenum">
              <a:t>35</a:t>
            </a:fld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Balanced Scorecar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880" y="914400"/>
          <a:ext cx="8229600" cy="5052960"/>
        </p:xfrm>
        <a:graphic>
          <a:graphicData uri="http://schemas.openxmlformats.org/drawingml/2006/table">
            <a:tbl>
              <a:tblPr/>
              <a:tblGrid>
                <a:gridCol w="3292560"/>
                <a:gridCol w="1552680"/>
                <a:gridCol w="1576440"/>
                <a:gridCol w="180792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of Ob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 or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Expec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Respon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rs/Employe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ons/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/Social Respon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Ethics/Natural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ED05-5AA2-4DCE-A4F0-C30115294C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843120"/>
            <a:ext cx="8382240" cy="51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A71C-FF1F-465E-AD1A-C7537FE5E4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305920" cy="28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Econom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Meaning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Generates usefu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Timel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rovides accurate picture of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BA6A-26C8-4983-B69E-C620C3C130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66680" y="228600"/>
            <a:ext cx="7239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Arial"/>
                <a:ea typeface="Arial"/>
              </a:rPr>
              <a:t>Strategy-Evaluation Assessment Matr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838080"/>
            <a:ext cx="8763120" cy="5342040"/>
            <a:chOff x="0" y="838080"/>
            <a:chExt cx="8763120" cy="5342040"/>
          </a:xfrm>
        </p:grpSpPr>
        <p:sp>
          <p:nvSpPr>
            <p:cNvPr id="254" name=""/>
            <p:cNvSpPr/>
            <p:nvPr/>
          </p:nvSpPr>
          <p:spPr>
            <a:xfrm>
              <a:off x="6248520" y="5784840"/>
              <a:ext cx="251460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ntinue cou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10240" y="5784840"/>
              <a:ext cx="243828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5120" y="578484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578484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5389560"/>
              <a:ext cx="251460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10240" y="5389560"/>
              <a:ext cx="243828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5120" y="538956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538956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4952880"/>
              <a:ext cx="2514600" cy="4366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10240" y="4952880"/>
              <a:ext cx="2438280" cy="4366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5120" y="4952880"/>
              <a:ext cx="1905120" cy="4366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952880"/>
              <a:ext cx="1905120" cy="4366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4524120"/>
              <a:ext cx="2514600" cy="4287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10240" y="4524120"/>
              <a:ext cx="2438280" cy="4287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4524120"/>
              <a:ext cx="1905120" cy="4287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4524120"/>
              <a:ext cx="1905120" cy="4287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4128840"/>
              <a:ext cx="251460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10240" y="4128840"/>
              <a:ext cx="243828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05120" y="412884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412884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733560"/>
              <a:ext cx="251460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0240" y="3733560"/>
              <a:ext cx="243828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05120" y="373356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73356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3246480"/>
              <a:ext cx="2514600" cy="4870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10240" y="3246480"/>
              <a:ext cx="2438280" cy="4870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5120" y="3246480"/>
              <a:ext cx="1905120" cy="4870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246480"/>
              <a:ext cx="1905120" cy="4870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2851200"/>
              <a:ext cx="251460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Corrective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0240" y="2851200"/>
              <a:ext cx="243828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5120" y="285120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2851200"/>
              <a:ext cx="1905120" cy="395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31040" y="838080"/>
              <a:ext cx="233208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10240" y="838080"/>
              <a:ext cx="262080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s the firm progressed satisfactorily toward achieving its stated objectiv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05120" y="838080"/>
              <a:ext cx="190512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ve major changes occurred in the firm’s external strategic posi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838080"/>
              <a:ext cx="190512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ve major changes occurred in the firm’s internal strategic posi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00" y="838080"/>
              <a:ext cx="87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00" y="618012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285264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3120" y="285264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839520"/>
              <a:ext cx="0" cy="20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3120" y="839520"/>
              <a:ext cx="0" cy="20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78628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763120" y="578628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324792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3120" y="324792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373536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63120" y="373536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13064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63120" y="413064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52592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63120" y="452592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4954320"/>
              <a:ext cx="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63120" y="4954320"/>
              <a:ext cx="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539100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63120" y="539100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06560" y="6180120"/>
              <a:ext cx="190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11680" y="618012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49960" y="6180120"/>
              <a:ext cx="251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F124-48DA-4A1E-9015-EBFF9568C3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2096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733920"/>
            <a:ext cx="7924680" cy="121896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21</a:t>
            </a:r>
            <a:r>
              <a:rPr b="0" lang="en-US" sz="2800" spc="-1" strike="noStrike" baseline="30000">
                <a:solidFill>
                  <a:srgbClr val="8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Century Challenges in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Strategi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9E34-30BB-4148-A7D7-103A370B3A39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586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305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Alternative plans that can be put into effect if certain key events do not occur as exp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gency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25A5-261B-4155-AD2C-32F2051553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15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28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Financial audits determine correspondence between assertions based on strategic plan &amp; established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Environmental audits insure sound and safe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6B18-6E55-4942-82A2-745E0B4518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86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289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Process is more an “art” than “scienc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hould strategies be visible or hidden from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hould process be more top-down or bottom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entury Challenge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tegi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C89E-8495-4B11-BCC3-19760F6765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tingency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rporate Ag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10552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so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alanced Score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510552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ACA4-C282-4044-9574-41B25D70C0ED}" type="slidenum">
              <a:t>43</a:t>
            </a:fld>
          </a:p>
        </p:txBody>
      </p:sp>
    </p:spTree>
  </p:cSld>
  <p:transition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42900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nagement by Wandering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vised EF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441972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easuring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rganization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vised IF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441972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aking Correctiv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33412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viewing Underlying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ases of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ture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CB3C-D511-4B17-AD39-58C4DD4788E3}" type="slidenum">
              <a:t>44</a:t>
            </a:fld>
          </a:p>
        </p:txBody>
      </p:sp>
    </p:spTree>
  </p:cSld>
  <p:transition>
    <p:cover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619760" cy="281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Organizations are most vulnerable when they are at the peak of their succes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T. 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0E2B-A2A8-43A3-A663-F8CF3BC82B8D}" type="slidenum">
              <a:t>5</a:t>
            </a:fld>
          </a:p>
        </p:txBody>
      </p:sp>
    </p:spTree>
  </p:cSld>
  <p:transition>
    <p:cover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Strategies become obso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Internal environments are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External environments are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57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DD11-41AC-47F9-9056-99F2C2017533}" type="slidenum">
              <a:t>6</a:t>
            </a:fld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Vital to the organization’s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lert management to potential/actual problems in a timely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rroneous strategic decisions can have severe negative impact o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8FE6-CC18-4A14-A251-E35990A359F0}" type="slidenum">
              <a:t>7</a:t>
            </a:fld>
          </a:p>
        </p:txBody>
      </p: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amine the underlying bases of a firm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mpare expected to actu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dentify corrective actions to ensure that performance conforms to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Basic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B4F4-DA9E-4754-B467-B683BF1F9223}" type="slidenum">
              <a:t>8</a:t>
            </a:fld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mplex &amp; sensitiv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veremphasis can be costly &amp; counter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Review, Evaluation,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D8D3-6C23-46FC-8F27-F7F67B301F79}" type="slidenum">
              <a:t>9</a:t>
            </a:fld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32:12Z</dcterms:modified>
  <cp:revision>397</cp:revision>
  <dc:subject/>
  <dc:title>Chapter 1  The Nature of Strategic Management </dc:title>
</cp:coreProperties>
</file>