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5.wmf" ContentType="image/x-wmf"/>
  <Override PartName="/ppt/media/image1.png" ContentType="image/png"/>
  <Override PartName="/ppt/media/image24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8E46-A811-4A47-A585-E5B1DDCEC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FE75-70AC-4666-842D-4DFC27A6A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5143-7C02-47D1-8E33-7DD986DA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42F7-DA75-4947-BE34-B69AED0A2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8818-3866-4D84-89BA-23E871564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03B1-0AB0-4400-8F6A-05C37094C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0E1F-5ECD-4F75-85C5-186667734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58C9-B0FB-4867-810F-6B436EEB8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A1C1-32A6-4F78-9963-E8CCDD298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9DF-3D16-42DF-9944-36F6A2085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D66E-732B-4DF9-A9CA-97BA845AE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160C-69E0-4789-B78F-2D39516ED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4610-1EB2-453D-851C-D9226C863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C226-4C6C-4448-8413-8C14171E8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0984-65DD-4AF5-AB5F-B5D77BB4E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041A-778E-4727-B17B-1D214CB99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0928-FEB3-4645-BD37-B8FD78B17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ABA7-91A7-4A46-9588-284099FAA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3197-10EE-4FB1-836B-F5FCC05D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B6EA-6E30-467A-BF57-DC30E9A14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D91B-8DC0-4930-8689-2F12464A7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C2BD-48CC-4193-9815-F15DA4071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8C0F-1446-4777-AAD3-289794F25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5CAC-AE09-4CC9-881A-E94084685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FEDA-D45C-439C-8B3E-30851C9A1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A309-142D-4B35-982F-ABAD315C5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AE6A-4A39-45A1-B190-1D40BFF49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4A8A-88EE-47CB-9B04-D7AD97354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725F-8A99-4DE2-8BDB-CF0C68C13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0903-05E2-4891-9E41-0F66EE5E7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F7A1-B688-4323-A7E1-6FD78A3C0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8745-AB99-4D39-9224-79A2558FD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F4C4-8AF9-4C2C-81CE-865E3BEB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ED6E-2B29-4FFE-B724-1699FA24D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0F40-3FB6-4715-BEED-E8501BE47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BB9B-2801-44E6-891B-D24C52863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241F-24DA-4145-BF0E-D9C3E8B57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E5D4-9F27-4B0A-81F0-FE0F14F47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9987-9B33-4B1B-862D-6B3F33CD1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2943-D23B-451D-B742-236C22243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E78D-B198-4D9A-8866-4235D8E5C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4121-A4B2-4407-AFD3-AB7EDB108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0467-2594-42C1-884A-5BB8CBE72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1C36-DD23-4EBE-8993-872323695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DA82-6AA3-4212-99FD-DECFB8E8C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48C9-88AF-44D0-A4AB-6CBCD3302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48F6-A26F-4C30-80C2-F311FBDC8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4B5A-B637-4972-B2C4-FC0E5F562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3EFC-329F-4107-ACE3-682F8C30A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BFEE-5593-4FD7-94A0-F385BD1CA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6A2B-A24D-423B-AAF8-741405AB8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97A8-0C93-45B6-BA93-239614902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C5BF-DF70-4A05-AB80-9C2CEFDA8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1B4A-F782-4D0C-A5DD-C39B09B11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629B-E8A8-44D4-856A-B1285BECF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6636-E344-4E6C-AA26-489A5C779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9739-1504-48E7-897D-F7FC00CDE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690C-70F1-4088-BCF3-0A6A8DB98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05B0-4749-4A69-825A-11E975C79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4F98-118D-4C24-8B77-3E684411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ED8A-268F-48FE-ADBF-13874ECF0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B101-34F4-4999-BE6E-95075438E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19FA-9524-4A3F-BF17-BF7159DF4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10D2-C569-4D7D-A0E4-884FEECA2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5D89-9185-4BC5-9570-E51338B29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369F-82D9-45E0-AA4D-7D9E94575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D8BB-DAF4-4C51-8EE8-CDB352329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B409-8473-4809-9F70-9D1DE9E3D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1777-82BC-4B4D-A320-C981DE542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13CE-7E59-43CB-98FE-5AC3983D9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72448-C490-482B-814B-9C2CB2D0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251E9-FE33-4555-8979-2C7667E7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FF41B-ACBF-4160-823F-915310DC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AAD62-7DDE-49FE-95CA-5D0335B5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52A29-72C1-4AB2-80F9-08ECE88B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6068E-0124-4989-9171-96989503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E7922-FC2F-4675-BE63-381DA58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9A16-347E-406F-A397-2332F172E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B7CB8-03E3-45C2-8E09-5CD306F2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F75CC-C869-4109-A818-94C650F9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42EC9-1BB6-49B1-8835-BDA5FDFD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A3057-5A21-4267-B131-81C29D0D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B4014-39D9-43C5-87B0-19C523EC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FD11-D9F3-4F7E-9927-4F2B67BBA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6053-FB98-4217-8F59-F80B329C1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01F0-32E5-4069-9E25-457A2FAB7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0B4D8-9CF8-47B9-89BC-347A8986A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EFCF-711E-406E-B58A-0F0ABDE9D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4D12-485E-4E9D-A4D4-FC8F6C364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DC11-5ACB-4118-A44E-913E47F5D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24816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1602f"/>
                </a:solidFill>
                <a:latin typeface="Arial"/>
              </a:rPr>
              <a:t>Copyright 2007 Prentice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202F135E-34E4-4BAE-AE28-5CFB26694B83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5249-43C3-419A-990A-C1F9841185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hapter 3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External Assessment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403848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rategic Management: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cepts &amp;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1</a:t>
            </a:r>
            <a:r>
              <a:rPr b="1" lang="en-US" sz="2400" spc="-1" strike="noStrike" baseline="30000">
                <a:solidFill>
                  <a:srgbClr val="8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red David</a:t>
            </a:r>
            <a:br>
              <a:rPr sz="2400"/>
            </a:br>
            <a:br>
              <a:rPr sz="2100"/>
            </a:br>
            <a:br>
              <a:rPr sz="2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86400" y="2851200"/>
            <a:ext cx="289548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9A4A-344F-414C-ACBE-00E5C69858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Extern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600200"/>
            <a:ext cx="8153640" cy="4035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Economic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olitical, governmental &amp; leg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echnologic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Competitive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AF6D-4819-46AE-A93A-07FFE15ACA99}" type="slidenum">
              <a:t>10</a:t>
            </a:fld>
          </a:p>
        </p:txBody>
      </p:sp>
    </p:spTree>
  </p:cSld>
  <p:transition>
    <p:cover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371600"/>
            <a:ext cx="8458200" cy="4495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2301840" cy="1590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21120" y="1295280"/>
            <a:ext cx="3101760" cy="4666320"/>
          </a:xfrm>
          <a:prstGeom prst="rect">
            <a:avLst/>
          </a:prstGeom>
          <a:solidFill>
            <a:srgbClr val="e3ddcb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istribu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e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ock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bor Un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pecial Interes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atural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53080" y="2590920"/>
            <a:ext cx="2325960" cy="1589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480" y="27432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28954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hr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572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  <a:ea typeface="Arial"/>
              </a:rPr>
              <a:t>Key External Forces &amp;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6364-59B5-42C3-AD29-186300676C58}" type="slidenum">
              <a:t>11</a:t>
            </a:fld>
          </a:p>
        </p:txBody>
      </p:sp>
    </p:spTree>
  </p:cSld>
  <p:transition>
    <p:cover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5410080" cy="419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Gather competitive intelligence –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a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External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1598760" cy="19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257B-A74A-4ECA-BFA9-3BD30DF8C6E3}" type="slidenum">
              <a:t>12</a:t>
            </a:fld>
          </a:p>
        </p:txBody>
      </p:sp>
    </p:spTree>
  </p:cSld>
  <p:transition>
    <p:cover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External Audit – Sources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523880"/>
            <a:ext cx="5334120" cy="4412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is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ales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65840" y="2995560"/>
            <a:ext cx="1819080" cy="17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66EC-1470-421F-B15C-BF69A3CF81A7}" type="slidenum">
              <a:t>13</a:t>
            </a:fld>
          </a:p>
        </p:txBody>
      </p:sp>
    </p:spTree>
  </p:cSld>
  <p:transition>
    <p:cover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erforming External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23623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-- Key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y by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09F4-42EA-41EB-BBE1-3BAE2A7FBA42}" type="slidenum">
              <a:t>14</a:t>
            </a:fld>
          </a:p>
        </p:txBody>
      </p:sp>
    </p:spTree>
  </p:cSld>
  <p:transition>
    <p:cover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erforming External Audit --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286000"/>
            <a:ext cx="6781680" cy="311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rket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Breadth of competing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World econo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oreign affil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roprietary account 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69EDF-66E7-4544-B408-0D311D3A598B}" type="slidenum">
              <a:t>15</a:t>
            </a:fld>
          </a:p>
        </p:txBody>
      </p:sp>
    </p:spTree>
  </p:cSld>
  <p:transition>
    <p:cover dir="l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erforming External Audit --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286000"/>
            <a:ext cx="678168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rice competi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echnological adv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ollution ab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9014-8663-4206-8C18-9DB2B3801533}" type="slidenum">
              <a:t>16</a:t>
            </a:fld>
          </a:p>
        </p:txBody>
      </p:sp>
    </p:spTree>
  </p:cSld>
  <p:transition>
    <p:cover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5335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erforming External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514600"/>
            <a:ext cx="2819160" cy="228600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xternal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971800"/>
            <a:ext cx="29718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2133720"/>
            <a:ext cx="29718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-term 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3809880"/>
            <a:ext cx="297180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ble t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eting fi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648320"/>
            <a:ext cx="29718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erarch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09880" y="243792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809880" y="32767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3657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36576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FAD1-EBF1-47B1-AB96-6E519018FDD5}" type="slidenum">
              <a:t>17</a:t>
            </a:fld>
          </a:p>
        </p:txBody>
      </p:sp>
    </p:spTree>
  </p:cSld>
  <p:transition>
    <p:cover dir="l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dustrial Organization (I/O)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209680"/>
            <a:ext cx="8229600" cy="32004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-- Industry factors more important than internal facto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 determined by industry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B9086-A7EB-4246-A84D-91217D8EDD99}" type="slidenum">
              <a:t>18</a:t>
            </a:fld>
          </a:p>
        </p:txBody>
      </p:sp>
    </p:spTree>
  </p:cSld>
  <p:transition>
    <p:cover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09480" y="2895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2971800"/>
            <a:ext cx="3886200" cy="380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conomies of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752480"/>
            <a:ext cx="3733920" cy="106704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Industry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3581280"/>
            <a:ext cx="3886200" cy="3812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rriers to market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4191120"/>
            <a:ext cx="3886200" cy="380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duct differen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800600"/>
            <a:ext cx="3886200" cy="380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vel of competi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2819520"/>
            <a:ext cx="0" cy="220968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20040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441972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502920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380988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57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I/O Perspective Firm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C34E-C270-4049-8355-1C9AF763CA86}" type="slidenum">
              <a:t>19</a:t>
            </a:fld>
          </a:p>
        </p:txBody>
      </p:sp>
    </p:spTree>
  </p:cSld>
  <p:transition>
    <p:cover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Nature of the External Au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Industrial Organization (I/O)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ocial, Cultural, Demographic &amp;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nvironmental 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F1A4-86A8-42EC-8DFE-8B5FB801BD97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Research Finding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roximately 20% of a firm’s profitability can be explained by the industry, whereas 36% of the variance in profitability is attributed to the firm’s internal factor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800600" y="3454560"/>
            <a:ext cx="2828880" cy="26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BDC5-114B-48B9-92D9-596EBB3E56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conomic Forc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1095480"/>
            <a:ext cx="9144000" cy="5035320"/>
            <a:chOff x="0" y="1095480"/>
            <a:chExt cx="9144000" cy="50353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0" y="1095480"/>
              <a:ext cx="9144000" cy="50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0" y="1095480"/>
              <a:ext cx="9144000" cy="503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B8D5-618E-4830-8E51-0AD0DC48BA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conomic Forc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nds in the dollar’s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of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onomic standard of li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47A8-C451-4E55-A064-C6A4A2D8DA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conomic Standard of Living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1095480"/>
            <a:ext cx="9144000" cy="5035320"/>
            <a:chOff x="0" y="1095480"/>
            <a:chExt cx="9144000" cy="50353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0" y="1095480"/>
              <a:ext cx="9144000" cy="50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 txBox="1"/>
            <p:nvPr/>
          </p:nvSpPr>
          <p:spPr>
            <a:xfrm>
              <a:off x="0" y="1095480"/>
              <a:ext cx="9144000" cy="503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1F69-B94B-49E5-9AE0-B32BB84B22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Russia’s Economy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bureauc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llegal actions by official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olic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-run gas; monopoly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of newsp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eign direct inve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50532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1BF7-E6F8-4FC6-A540-02F9EFF0A2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Economic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2286000"/>
            <a:ext cx="617220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vailability of cr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evel of disposable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flation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50760" cy="211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8511-BC9A-4299-89CF-4165B7356724}" type="slidenum">
              <a:t>25</a:t>
            </a:fld>
          </a:p>
        </p:txBody>
      </p:sp>
    </p:spTree>
  </p:cSld>
  <p:transition>
    <p:cover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286000"/>
            <a:ext cx="6172200" cy="311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jor Impact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DEDA-E4CF-4843-B43A-46F6682D75C0}" type="slidenum">
              <a:t>26</a:t>
            </a:fld>
          </a:p>
        </p:txBody>
      </p:sp>
    </p:spTree>
  </p:cSld>
  <p:transition>
    <p:cover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828800"/>
            <a:ext cx="6782040" cy="3764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U.S.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ing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ss Caucas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dening gap between rich &amp;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25 = 18.5% population &gt;6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75 = no ethnic or racial maj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34DE-8C00-4800-8074-EF4A34E8ECD8}" type="slidenum">
              <a:t>27</a:t>
            </a:fld>
          </a:p>
        </p:txBody>
      </p:sp>
    </p:spTree>
  </p:cSld>
  <p:transition>
    <p:cover dir="l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905120"/>
            <a:ext cx="6782040" cy="354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ld population approaching 7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ld population = 8 billion by 20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ld population = 9 billion by 20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.S. population &lt; 30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15F6-3062-4DEB-A85A-9268E9B2114D}" type="slidenum">
              <a:t>28</a:t>
            </a:fld>
          </a:p>
        </p:txBody>
      </p:sp>
    </p:spTree>
  </p:cSld>
  <p:transition>
    <p:cover dir="l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American households with people living al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2021 Hispanics will be largest minority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ing Americans – affects all organiz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hift to the south and w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interested in fitness and exerc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mation and degradation of the natural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ocial, Cultural, Demographic &amp; Environmental Forc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144D-CD5E-45CD-8AB3-A2AF721F6C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olitical, Governmental, and Legal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echnological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mpetitive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72F67-C96F-4FBF-8432-3F83729B57F4}" type="slidenum">
              <a:t>3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U.S. – Mexico Border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th America’s fastes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wing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500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quilado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longer larges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rter to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638680" y="990720"/>
            <a:ext cx="3022560" cy="26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7E91-91DF-42B6-9D44-B58E6EF138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828800"/>
            <a:ext cx="7010640" cy="354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lobal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03 – China largest exporter to U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0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ia receives highest foreign direct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aper labor and utilities than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ina joined W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772400" y="2819520"/>
            <a:ext cx="843120" cy="224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527E-33D2-4F74-96CB-9C9E832C5546}" type="slidenum">
              <a:t>31</a:t>
            </a:fld>
          </a:p>
        </p:txBody>
      </p:sp>
    </p:spTree>
  </p:cSld>
  <p:transition>
    <p:cover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2209680"/>
            <a:ext cx="7086600" cy="224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lobal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ina’s labor rates less than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ina provides more site location incentives than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084400" cy="130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EA5B-8E0E-4DB6-8F71-CAED6B2D786C}" type="slidenum">
              <a:t>32</a:t>
            </a:fld>
          </a:p>
        </p:txBody>
      </p:sp>
    </p:spTree>
  </p:cSld>
  <p:transition>
    <p:cover dir="l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3520" y="457200"/>
            <a:ext cx="6095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2438280"/>
            <a:ext cx="8153640" cy="280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More educated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ging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Minorities more influ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Local rather than federal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6765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entury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8979-CEAE-432D-B8A0-F14FFFFB8061}" type="slidenum">
              <a:t>33</a:t>
            </a:fld>
          </a:p>
        </p:txBody>
      </p:sp>
    </p:spTree>
  </p:cSld>
  <p:transition>
    <p:cover dir="l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3520" y="457200"/>
            <a:ext cx="6095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Social, Cultural, Demographic &amp; Environmental Forc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819520"/>
            <a:ext cx="8153640" cy="206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ixation with youth decr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Hispanics increase to 15% by 20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frican American increase to 14% by 20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9810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entury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98CB-B402-4085-8092-D52C3D444384}" type="slidenum">
              <a:t>34</a:t>
            </a:fld>
          </a:p>
        </p:txBody>
      </p:sp>
    </p:spTree>
  </p:cSld>
  <p:transition>
    <p:cover dir="l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304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Key Social, Cultural, Demographic &amp; Environment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1430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337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12408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1148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51055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1320" y="322884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umber of marriages &amp; div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0240" y="2238480"/>
            <a:ext cx="55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umber of special interes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0240" y="4219560"/>
            <a:ext cx="431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umber of births &amp;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41680" y="5210280"/>
            <a:ext cx="50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mmigration &amp; emigration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1320" y="124776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hildbearing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4944-3ED9-4422-B111-C9EA1A8E0F04}" type="slidenum">
              <a:t>35</a:t>
            </a:fld>
          </a:p>
        </p:txBody>
      </p:sp>
    </p:spTree>
  </p:cSld>
  <p:transition>
    <p:cover dir="l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191120" y="297180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ctuarial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3505320"/>
            <a:ext cx="3276720" cy="10666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Monitor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3581280"/>
            <a:ext cx="3886200" cy="3812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Per capita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419112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ttitudes toward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480060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vg. disposable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572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733920" y="3200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733920" y="380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038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0384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9F8B-F526-4278-AB91-63C26DE9CD22}" type="slidenum">
              <a:t>36</a:t>
            </a:fld>
          </a:p>
        </p:txBody>
      </p:sp>
    </p:spTree>
  </p:cSld>
  <p:transition>
    <p:cover dir="l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191120" y="297180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Consumer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505320"/>
            <a:ext cx="3276720" cy="10666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Monitor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3581280"/>
            <a:ext cx="3886200" cy="3812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Ethical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19112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ttitudes toward sa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480060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acial e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572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733920" y="3200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733920" y="380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4038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0384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F643-C1C1-436A-8EE4-1DFA042D74D9}" type="slidenum">
              <a:t>37</a:t>
            </a:fld>
          </a:p>
        </p:txBody>
      </p:sp>
    </p:spTree>
  </p:cSld>
  <p:transition>
    <p:cover dir="l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6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191120" y="297180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vg. education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505320"/>
            <a:ext cx="3276720" cy="10666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Monitor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3581280"/>
            <a:ext cx="3886200" cy="3812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Governmental re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419112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ttitudes toward custom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480060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ttitudes toward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4572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733920" y="3200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733920" y="380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4038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0384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D924-4B8B-4BBE-8355-E0988102C7C0}" type="slidenum">
              <a:t>38</a:t>
            </a:fld>
          </a:p>
        </p:txBody>
      </p:sp>
    </p:spTree>
  </p:cSld>
  <p:transition>
    <p:cover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191120" y="297180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Energy con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505320"/>
            <a:ext cx="3276720" cy="10666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Monitor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3581280"/>
            <a:ext cx="3886200" cy="3812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Social respons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91120" y="419112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Leisure time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91120" y="480060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ecyc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4572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733920" y="3200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733920" y="380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038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40384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E8FA-6BF3-42CC-8BEF-9C3B57A70C8C}" type="slidenum">
              <a:t>39</a:t>
            </a:fld>
          </a:p>
        </p:txBody>
      </p:sp>
    </p:spTree>
  </p:cSld>
  <p:transition>
    <p:cover dir="l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orter’s Five-Force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ources of Exter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orecasting Tools &amp;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FC98-A2F1-4A80-8D0F-23F1F1844422}" type="slidenum">
              <a:t>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91120" y="297180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Wast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3505320"/>
            <a:ext cx="3276720" cy="10666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Monitor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3581280"/>
            <a:ext cx="3886200" cy="3812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ir &amp; water pol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419112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Ozone de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4800600"/>
            <a:ext cx="3886200" cy="3808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Endangered 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572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Social, Cultural, Demographic &amp; Environ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733920" y="3200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733920" y="380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4038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40384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B673-C260-4A52-B9E5-75BB51C7C082}" type="slidenum">
              <a:t>40</a:t>
            </a:fld>
          </a:p>
        </p:txBody>
      </p:sp>
    </p:spTree>
  </p:cSld>
  <p:transition>
    <p:cover dir="l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olitical, Government &amp; Leg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2590920"/>
            <a:ext cx="5943600" cy="3124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Key opportunities &amp; threa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itrust legi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x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bbying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ent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905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vernment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9C0B-69A2-42AE-B9C0-69A5495D7C85}" type="slidenum">
              <a:t>41</a:t>
            </a:fld>
          </a:p>
        </p:txBody>
      </p:sp>
    </p:spTree>
  </p:cSld>
  <p:transition>
    <p:cover dir="l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olitical, Government &amp; Leg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2895480"/>
            <a:ext cx="5943600" cy="2362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Political variables impact 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rmulation of strateg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mplementation of strateg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905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reasing Global Inter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7D1F-F4A6-4FC2-A2AC-9ED190942893}" type="slidenum">
              <a:t>42</a:t>
            </a:fld>
          </a:p>
        </p:txBody>
      </p:sp>
    </p:spTree>
  </p:cSld>
  <p:transition>
    <p:cover dir="l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olitical, Government &amp; Leg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2895480"/>
            <a:ext cx="6705720" cy="2743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Strategists in a global economy 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recast political clim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galistic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erse world cultur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905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reasing Global Inter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408D-CB2E-4F69-ACE0-B62E2418C5BA}" type="slidenum">
              <a:t>43</a:t>
            </a:fld>
          </a:p>
        </p:txBody>
      </p:sp>
    </p:spTree>
  </p:cSld>
  <p:transition>
    <p:cover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olitical, Government &amp; Leg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666880"/>
            <a:ext cx="7543800" cy="297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Worldwide trend toward similar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consumption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lobal buyers and se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-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echnology for instant currency trans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1905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lobalization of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562720" y="3276720"/>
            <a:ext cx="2298600" cy="138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8329-B592-41D2-9439-98DC5077C495}" type="slidenum">
              <a:t>44</a:t>
            </a:fld>
          </a:p>
        </p:txBody>
      </p:sp>
    </p:spTree>
  </p:cSld>
  <p:transition>
    <p:cover dir="l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3520" y="304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Key Political, Governmental, &amp; Leg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11430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21337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312408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41148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51055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9160" y="322884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pecial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0600" y="223848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ax law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0600" y="42195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AC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9520" y="521028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Voter participation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42040" y="124776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Regulation/de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0615-017C-4616-B24E-01BFA83722C9}" type="slidenum">
              <a:t>45</a:t>
            </a:fld>
          </a:p>
        </p:txBody>
      </p:sp>
    </p:spTree>
  </p:cSld>
  <p:transition>
    <p:cover dir="l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Key Political, Governmental, &amp; Legal Variables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1430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1337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12408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41148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51055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41320" y="3228840"/>
            <a:ext cx="49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nvironmental protection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40600" y="223848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hanges in patent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1680" y="4219560"/>
            <a:ext cx="48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qual employment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0600" y="52102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overnment subsi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0600" y="124776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umber of pa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7919-3747-452D-990B-6EDAE06348F3}" type="slidenum">
              <a:t>46</a:t>
            </a:fld>
          </a:p>
        </p:txBody>
      </p:sp>
    </p:spTree>
  </p:cSld>
  <p:transition>
    <p:cover dir="l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Key Political, Governmental, &amp; Legal Variables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11430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21337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312408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41148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1055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40240" y="3228840"/>
            <a:ext cx="41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mport/export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0600" y="223848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lob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9520" y="421956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olitical condi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7000" y="5210280"/>
            <a:ext cx="64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ocation and severity of terrorist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9880" y="1247760"/>
            <a:ext cx="36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nti-trust 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65B5-FDBC-49C5-B73B-3F2D3FAC3877}" type="slidenum">
              <a:t>47</a:t>
            </a:fld>
          </a:p>
        </p:txBody>
      </p:sp>
    </p:spTree>
  </p:cSld>
  <p:transition>
    <p:cover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5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echnologic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2286000"/>
            <a:ext cx="617220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ajor Impact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micond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1965240" cy="183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ECB6-AD1C-4AD9-A602-6E8657FAECAA}" type="slidenum">
              <a:t>48</a:t>
            </a:fld>
          </a:p>
        </p:txBody>
      </p:sp>
    </p:spTree>
  </p:cSld>
  <p:transition>
    <p:cover dir="l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echnologic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2286000"/>
            <a:ext cx="6172200" cy="224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ignificance of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ief Information Officer (C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ief Technology Officer (CTO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084E-5D02-4C11-AC4C-3B5D68F6B7AF}" type="slidenum">
              <a:t>49</a:t>
            </a:fld>
          </a:p>
        </p:txBody>
      </p:sp>
    </p:spTree>
  </p:cSld>
  <p:transition>
    <p:cover dir="l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Chapter Outline (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Global 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External Factor Evaluation (EFE)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mpetitive Profile Matrix (C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BF67-BC91-42FA-9687-32222639FA14}" type="slidenum">
              <a:t>5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echnologic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2590920"/>
            <a:ext cx="7086600" cy="181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ssential for nearly every strategic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523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chnology-base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3B4F-7A6C-42E4-A5D2-765195A897EA}" type="slidenum">
              <a:t>50</a:t>
            </a:fld>
          </a:p>
        </p:txBody>
      </p:sp>
    </p:spTree>
  </p:cSld>
  <p:transition>
    <p:cover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mpetitive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2286000"/>
            <a:ext cx="723888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llection &amp; evaluation of data on competitors is essential for successful strategy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C3D7-0ED3-42D9-9D33-51D72E380387}" type="slidenum">
              <a:t>51</a:t>
            </a:fld>
          </a:p>
        </p:txBody>
      </p:sp>
    </p:spTree>
  </p:cSld>
  <p:transition>
    <p:cover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mpetitive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2286000"/>
            <a:ext cx="723888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ompetition on virtually all industries can be described as int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1706400" cy="151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1DC0-0BD6-453A-A5A2-983CEB7CD3B7}" type="slidenum">
              <a:t>52</a:t>
            </a:fld>
          </a:p>
        </p:txBody>
      </p:sp>
    </p:spTree>
  </p:cSld>
  <p:transition>
    <p:cover dir="l"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mpetitive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981080"/>
            <a:ext cx="6172200" cy="379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9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ing Rival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227C-BA28-4FCF-9577-F6525806DDCA}" type="slidenum">
              <a:t>53</a:t>
            </a:fld>
          </a:p>
        </p:txBody>
      </p:sp>
    </p:spTree>
  </p:cSld>
  <p:transition>
    <p:cover dir="l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304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Key Questions Concerning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1430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1337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312408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148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51055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9520" y="3228840"/>
            <a:ext cx="50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ir objectives and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0960" y="2238480"/>
            <a:ext cx="30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ir weak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9520" y="4219560"/>
            <a:ext cx="61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ir responses to external 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9520" y="5210280"/>
            <a:ext cx="73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ir vulnerability to our alternativ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9880" y="124776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ir str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0ACB-DB29-4B76-BC0F-21F770C736E2}" type="slidenum">
              <a:t>54</a:t>
            </a:fld>
          </a:p>
        </p:txBody>
      </p:sp>
    </p:spTree>
  </p:cSld>
  <p:transition>
    <p:cover dir="l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35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Key Questions Concerning Competitors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1430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21337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312408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41148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5105520"/>
            <a:ext cx="8229600" cy="7617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7720" y="3228840"/>
            <a:ext cx="59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ntry and exit of firms in the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9880" y="2238480"/>
            <a:ext cx="50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Our product/service pos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7720" y="4219560"/>
            <a:ext cx="73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Key factors for our current position in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9160" y="5210280"/>
            <a:ext cx="73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ales/profit rankings of competitor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080" y="1247760"/>
            <a:ext cx="68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Our vulnerability to strategic counterat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CB0C-B71B-4749-993B-2FC9771717E1}" type="slidenum">
              <a:t>55</a:t>
            </a:fld>
          </a:p>
        </p:txBody>
      </p:sp>
    </p:spTree>
  </p:cSld>
  <p:transition>
    <p:cover dir="l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335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Key Questions Concerning Competitors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18288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3200400"/>
            <a:ext cx="8229600" cy="7621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7720" y="33526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threat of substitute products/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920" y="1981080"/>
            <a:ext cx="70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ature of supplier &amp; distributo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4572000"/>
            <a:ext cx="8229600" cy="9907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3560" y="4572000"/>
            <a:ext cx="68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hould we keep our strategies secret from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employees and stakehold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0395-7699-4C70-BD8E-1EBA4232916D}" type="slidenum">
              <a:t>56</a:t>
            </a:fld>
          </a:p>
        </p:txBody>
      </p:sp>
    </p:spTree>
  </p:cSld>
  <p:transition>
    <p:cover dir="l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0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mpetitive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1981080"/>
            <a:ext cx="6172200" cy="379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oody’s Man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andard Corporation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Value Line Investment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un’s Business Rank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andard &amp; Poor’s Industry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ndustry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orbes, Fortune, Busines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1219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urces of Corporat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255C-D058-49AB-8894-89665CC7A468}" type="slidenum">
              <a:t>57</a:t>
            </a:fld>
          </a:p>
        </p:txBody>
      </p:sp>
    </p:spTree>
  </p:cSld>
  <p:transition>
    <p:cover dir="l"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mpetitive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2819520"/>
            <a:ext cx="6172200" cy="212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Market share 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Understand what business you ar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Broke or not, fix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Innovate or evap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121932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 Characteristics of most Competitive U.S. Fi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943600" y="3809880"/>
            <a:ext cx="1503360" cy="221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79C1-6262-403E-BA62-15D2228DCFE3}" type="slidenum">
              <a:t>58</a:t>
            </a:fld>
          </a:p>
        </p:txBody>
      </p:sp>
    </p:spTree>
  </p:cSld>
  <p:transition>
    <p:cover dir="l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ompetitive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2819520"/>
            <a:ext cx="6172200" cy="157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Acquisition is essential to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eople make a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No substitute fo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 Characteristics of most Competitive U.S. Fi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150336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FB9C-C705-4754-A322-9DD3023260D5}" type="slidenum">
              <a:t>59</a:t>
            </a:fld>
          </a:p>
        </p:txBody>
      </p:sp>
    </p:spTree>
  </p:cSld>
  <p:transition>
    <p:cover dir="l"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0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761976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It is not the strongest of the species that survive, nor the most intelligent, but the one most responsive to change. 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External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886200"/>
            <a:ext cx="762012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othing focuses the mind better than the constant sight of a competitor who wants to wipe you off the map.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yne Calloway, Former CEO, Pep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454D-519E-40BB-9976-313EF646AA1F}" type="slidenum">
              <a:t>6</a:t>
            </a:fld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Five-Forces Model of Competit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1219320"/>
            <a:ext cx="4726080" cy="763560"/>
          </a:xfrm>
          <a:custGeom>
            <a:avLst/>
            <a:gdLst/>
            <a:ahLst/>
            <a:rect l="l" t="t" r="r" b="b"/>
            <a:pathLst>
              <a:path w="2977" h="481">
                <a:moveTo>
                  <a:pt x="0" y="0"/>
                </a:moveTo>
                <a:lnTo>
                  <a:pt x="0" y="480"/>
                </a:lnTo>
                <a:lnTo>
                  <a:pt x="2976" y="480"/>
                </a:lnTo>
                <a:lnTo>
                  <a:pt x="2976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06520" y="1270080"/>
            <a:ext cx="4530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tential develop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substitut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2971800"/>
            <a:ext cx="2287800" cy="1068480"/>
          </a:xfrm>
          <a:custGeom>
            <a:avLst/>
            <a:gdLst/>
            <a:ahLst/>
            <a:rect l="l" t="t" r="r" b="b"/>
            <a:pathLst>
              <a:path w="1441" h="673">
                <a:moveTo>
                  <a:pt x="0" y="0"/>
                </a:moveTo>
                <a:lnTo>
                  <a:pt x="0" y="672"/>
                </a:lnTo>
                <a:lnTo>
                  <a:pt x="1440" y="672"/>
                </a:lnTo>
                <a:lnTo>
                  <a:pt x="1440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49520" y="3022560"/>
            <a:ext cx="2092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valry amo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eting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3200400"/>
            <a:ext cx="2440080" cy="763560"/>
          </a:xfrm>
          <a:custGeom>
            <a:avLst/>
            <a:gdLst/>
            <a:ahLst/>
            <a:rect l="l" t="t" r="r" b="b"/>
            <a:pathLst>
              <a:path w="1537" h="481">
                <a:moveTo>
                  <a:pt x="0" y="0"/>
                </a:moveTo>
                <a:lnTo>
                  <a:pt x="0" y="480"/>
                </a:lnTo>
                <a:lnTo>
                  <a:pt x="1536" y="480"/>
                </a:lnTo>
                <a:lnTo>
                  <a:pt x="1536" y="0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9120" y="3251160"/>
            <a:ext cx="224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rgaining 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58280" y="68580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09680" y="5105520"/>
            <a:ext cx="4726080" cy="763560"/>
          </a:xfrm>
          <a:custGeom>
            <a:avLst/>
            <a:gdLst/>
            <a:ahLst/>
            <a:rect l="l" t="t" r="r" b="b"/>
            <a:pathLst>
              <a:path w="2977" h="481">
                <a:moveTo>
                  <a:pt x="0" y="0"/>
                </a:moveTo>
                <a:lnTo>
                  <a:pt x="0" y="480"/>
                </a:lnTo>
                <a:lnTo>
                  <a:pt x="2976" y="480"/>
                </a:lnTo>
                <a:lnTo>
                  <a:pt x="2976" y="0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06520" y="5156280"/>
            <a:ext cx="4530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tential entry of new 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3200400"/>
            <a:ext cx="2440080" cy="763560"/>
          </a:xfrm>
          <a:custGeom>
            <a:avLst/>
            <a:gdLst/>
            <a:ahLst/>
            <a:rect l="l" t="t" r="r" b="b"/>
            <a:pathLst>
              <a:path w="1537" h="481">
                <a:moveTo>
                  <a:pt x="0" y="0"/>
                </a:moveTo>
                <a:lnTo>
                  <a:pt x="0" y="480"/>
                </a:lnTo>
                <a:lnTo>
                  <a:pt x="1536" y="480"/>
                </a:lnTo>
                <a:lnTo>
                  <a:pt x="1536" y="0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97640" y="3251160"/>
            <a:ext cx="2244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rgaining 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consu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19720" y="1981080"/>
            <a:ext cx="306360" cy="992160"/>
          </a:xfrm>
          <a:custGeom>
            <a:avLst/>
            <a:gdLst/>
            <a:ahLst/>
            <a:rect l="l" t="t" r="r" b="b"/>
            <a:pathLst>
              <a:path w="193" h="625">
                <a:moveTo>
                  <a:pt x="96" y="0"/>
                </a:moveTo>
                <a:lnTo>
                  <a:pt x="192" y="125"/>
                </a:lnTo>
                <a:lnTo>
                  <a:pt x="144" y="125"/>
                </a:lnTo>
                <a:lnTo>
                  <a:pt x="144" y="499"/>
                </a:lnTo>
                <a:lnTo>
                  <a:pt x="192" y="499"/>
                </a:lnTo>
                <a:lnTo>
                  <a:pt x="96" y="624"/>
                </a:lnTo>
                <a:lnTo>
                  <a:pt x="0" y="499"/>
                </a:lnTo>
                <a:lnTo>
                  <a:pt x="48" y="499"/>
                </a:lnTo>
                <a:lnTo>
                  <a:pt x="48" y="125"/>
                </a:lnTo>
                <a:lnTo>
                  <a:pt x="0" y="125"/>
                </a:lnTo>
                <a:lnTo>
                  <a:pt x="96" y="0"/>
                </a:lnTo>
              </a:path>
            </a:pathLst>
          </a:custGeom>
          <a:solidFill>
            <a:srgbClr val="8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4038480"/>
            <a:ext cx="306360" cy="1068480"/>
          </a:xfrm>
          <a:custGeom>
            <a:avLst/>
            <a:gdLst/>
            <a:ahLst/>
            <a:rect l="l" t="t" r="r" b="b"/>
            <a:pathLst>
              <a:path w="193" h="673">
                <a:moveTo>
                  <a:pt x="96" y="0"/>
                </a:moveTo>
                <a:lnTo>
                  <a:pt x="192" y="134"/>
                </a:lnTo>
                <a:lnTo>
                  <a:pt x="144" y="134"/>
                </a:lnTo>
                <a:lnTo>
                  <a:pt x="144" y="538"/>
                </a:lnTo>
                <a:lnTo>
                  <a:pt x="192" y="538"/>
                </a:lnTo>
                <a:lnTo>
                  <a:pt x="96" y="672"/>
                </a:lnTo>
                <a:lnTo>
                  <a:pt x="0" y="538"/>
                </a:lnTo>
                <a:lnTo>
                  <a:pt x="48" y="538"/>
                </a:lnTo>
                <a:lnTo>
                  <a:pt x="48" y="134"/>
                </a:lnTo>
                <a:lnTo>
                  <a:pt x="0" y="134"/>
                </a:lnTo>
                <a:lnTo>
                  <a:pt x="96" y="0"/>
                </a:lnTo>
              </a:path>
            </a:pathLst>
          </a:custGeom>
          <a:solidFill>
            <a:srgbClr val="8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90920" y="3505320"/>
            <a:ext cx="763560" cy="153720"/>
          </a:xfrm>
          <a:custGeom>
            <a:avLst/>
            <a:gdLst/>
            <a:ahLst/>
            <a:rect l="l" t="t" r="r" b="b"/>
            <a:pathLst>
              <a:path w="481" h="97">
                <a:moveTo>
                  <a:pt x="0" y="48"/>
                </a:moveTo>
                <a:lnTo>
                  <a:pt x="96" y="96"/>
                </a:lnTo>
                <a:lnTo>
                  <a:pt x="96" y="72"/>
                </a:lnTo>
                <a:lnTo>
                  <a:pt x="384" y="72"/>
                </a:lnTo>
                <a:lnTo>
                  <a:pt x="384" y="96"/>
                </a:lnTo>
                <a:lnTo>
                  <a:pt x="480" y="48"/>
                </a:lnTo>
                <a:lnTo>
                  <a:pt x="384" y="0"/>
                </a:lnTo>
                <a:lnTo>
                  <a:pt x="384" y="24"/>
                </a:lnTo>
                <a:lnTo>
                  <a:pt x="96" y="24"/>
                </a:lnTo>
                <a:lnTo>
                  <a:pt x="96" y="0"/>
                </a:lnTo>
                <a:lnTo>
                  <a:pt x="0" y="48"/>
                </a:lnTo>
              </a:path>
            </a:pathLst>
          </a:custGeom>
          <a:solidFill>
            <a:srgbClr val="8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38680" y="3505320"/>
            <a:ext cx="763560" cy="153720"/>
          </a:xfrm>
          <a:custGeom>
            <a:avLst/>
            <a:gdLst/>
            <a:ahLst/>
            <a:rect l="l" t="t" r="r" b="b"/>
            <a:pathLst>
              <a:path w="481" h="97">
                <a:moveTo>
                  <a:pt x="0" y="48"/>
                </a:moveTo>
                <a:lnTo>
                  <a:pt x="96" y="96"/>
                </a:lnTo>
                <a:lnTo>
                  <a:pt x="96" y="72"/>
                </a:lnTo>
                <a:lnTo>
                  <a:pt x="384" y="72"/>
                </a:lnTo>
                <a:lnTo>
                  <a:pt x="384" y="96"/>
                </a:lnTo>
                <a:lnTo>
                  <a:pt x="480" y="48"/>
                </a:lnTo>
                <a:lnTo>
                  <a:pt x="384" y="0"/>
                </a:lnTo>
                <a:lnTo>
                  <a:pt x="384" y="24"/>
                </a:lnTo>
                <a:lnTo>
                  <a:pt x="96" y="24"/>
                </a:lnTo>
                <a:lnTo>
                  <a:pt x="96" y="0"/>
                </a:lnTo>
                <a:lnTo>
                  <a:pt x="0" y="48"/>
                </a:lnTo>
              </a:path>
            </a:pathLst>
          </a:custGeom>
          <a:solidFill>
            <a:srgbClr val="8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9FAA-07E9-42BC-99C7-6F0D4BF743C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0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Steps to Determine if an Acceptable 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Profit Can be Earned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key aspects or elements of each competitive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how strong and important each element is for the fi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ide whether the collective strength of the elements is worth the firm entering or staying in the indus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DF22-5ACC-4A01-80CE-E98442FE7C8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Five-Force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895480"/>
            <a:ext cx="7391520" cy="175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Most powerful of the five fo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Focus on competitive advantage of strateg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1905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valry Among Competing Fi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1D334-6027-47FC-ADA1-C14B4703FE3C}" type="slidenum">
              <a:t>62</a:t>
            </a:fld>
          </a:p>
        </p:txBody>
      </p:sp>
    </p:spTree>
  </p:cSld>
  <p:transition>
    <p:cover dir="l"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0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Five-Force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2895480"/>
            <a:ext cx="7391520" cy="175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Barriers to entry are impor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Quality, pricing, and marketing can overcome barri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1905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Entry of New Compet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D844-A307-44D0-96EB-5EF9DC80A68C}" type="slidenum">
              <a:t>63</a:t>
            </a:fld>
          </a:p>
        </p:txBody>
      </p:sp>
    </p:spTree>
  </p:cSld>
  <p:transition>
    <p:cover dir="l"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0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Five-Force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3352680"/>
            <a:ext cx="7467480" cy="213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Pressures increase when consumer’s switching costs decre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Firm’s plans for increased capacity &amp; market pene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051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Development of Substitute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B1F1-0492-434D-BBE7-EADEAECC2331}" type="slidenum">
              <a:t>64</a:t>
            </a:fld>
          </a:p>
        </p:txBody>
      </p:sp>
    </p:spTree>
  </p:cSld>
  <p:transition>
    <p:cover dir="l"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Five-Force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3048120"/>
            <a:ext cx="7848720" cy="2133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Large number of suppliers &amp; few substitutes affects intensity of compet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Backward integration can gain control or ownership of suppli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1905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rgaining Power of Supp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1D4E-2C60-4C9B-83CA-7AFF5F09F9DD}" type="slidenum">
              <a:t>65</a:t>
            </a:fld>
          </a:p>
        </p:txBody>
      </p:sp>
    </p:spTree>
  </p:cSld>
  <p:transition>
    <p:cover dir="l"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Five-Force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2971800"/>
            <a:ext cx="7848720" cy="213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Customers concentrated or buying in volume affects intensity of compet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Consumer power is higher where products are standard or undifferenti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905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rgaining Power of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3107-1A7C-421F-8A87-0F08CDA0D98A}" type="slidenum">
              <a:t>66</a:t>
            </a:fld>
          </a:p>
        </p:txBody>
      </p:sp>
    </p:spTree>
  </p:cSld>
  <p:transition>
    <p:cover dir="l"/>
  </p:transition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Conditions where Consumers Gain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Bargaining Powe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y can inexpensively swit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y are particularly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ellers are struggling in the face of falling consumer dem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y are informed about seller’s products, prices and co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y have discretion in whether and when they purchase the produ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E9F9-CDCF-42AE-B5B2-AF557411974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Forecasting Tools and Techniqu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ecasts are educated assumptions about future trends and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tative techniques – Most appropriate when historical data is available and there is a constant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tative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F0E1-9FEA-4E6F-B9B3-FD9516489DB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Global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1905120"/>
            <a:ext cx="6172200" cy="2671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Faced by U.S. Firms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in &amp; maintain exports to other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end domestic markets against imported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843200" cy="176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E6EA5-4009-41C7-9982-FDC705C4A1F8}" type="slidenum">
              <a:t>69</a:t>
            </a:fld>
          </a:p>
        </p:txBody>
      </p:sp>
    </p:spTree>
  </p:cSld>
  <p:transition>
    <p:cover dir="l"/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External Strategic Management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236232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-- Environmental Sc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-- Industr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DA00-E014-4CB5-9A88-8E5A94181C74}" type="slidenum">
              <a:t>7</a:t>
            </a:fld>
          </a:p>
        </p:txBody>
      </p:sp>
    </p:spTree>
  </p:cSld>
  <p:transition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Global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048120"/>
            <a:ext cx="716292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Simultaneously globally competitive &amp; nationally respo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1905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national Corporations (MNC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FE34-33C8-414F-8735-1F9FBA2BAE30}" type="slidenum">
              <a:t>70</a:t>
            </a:fld>
          </a:p>
        </p:txBody>
      </p:sp>
    </p:spTree>
  </p:cSld>
  <p:transition>
    <p:cover dir="l"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0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Global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666880"/>
            <a:ext cx="7162560" cy="280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Worldwide integration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Strategy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Strategy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Strategy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1905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6BAD-605A-47A9-80DA-C7184BF04971}" type="slidenum">
              <a:t>71</a:t>
            </a:fld>
          </a:p>
        </p:txBody>
      </p:sp>
    </p:spTree>
  </p:cSld>
  <p:transition>
    <p:cover dir="l"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0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500"/>
                            </p:stCondLst>
                            <p:childTnLst>
                              <p:par>
                                <p:cTn id="1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Global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2362320"/>
            <a:ext cx="7162560" cy="329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Similar consumption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Global buyers and se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E-comm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Instant transmission of money &amp;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523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lobalization of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30EC-1FC8-49BB-B227-77857A9A5057}" type="slidenum">
              <a:t>72</a:t>
            </a:fld>
          </a:p>
        </p:txBody>
      </p:sp>
    </p:spTree>
  </p:cSld>
  <p:transition>
    <p:cover dir="l"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33520" y="3808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dustry Analysis: The External Factor Evaluation (EFE)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880" y="2438280"/>
            <a:ext cx="8074080" cy="357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09480" y="3048120"/>
            <a:ext cx="7620120" cy="2539800"/>
            <a:chOff x="609480" y="3048120"/>
            <a:chExt cx="7620120" cy="2539800"/>
          </a:xfrm>
        </p:grpSpPr>
        <p:sp>
          <p:nvSpPr>
            <p:cNvPr id="425" name=""/>
            <p:cNvSpPr/>
            <p:nvPr/>
          </p:nvSpPr>
          <p:spPr>
            <a:xfrm>
              <a:off x="5740200" y="4741560"/>
              <a:ext cx="248940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Tahoma"/>
                </a:rPr>
                <a:t>Competiti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95480" y="4741560"/>
              <a:ext cx="284472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Tahoma"/>
                </a:rPr>
                <a:t>Politi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480" y="4741560"/>
              <a:ext cx="228600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Tahoma"/>
                </a:rPr>
                <a:t>Cultur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40200" y="3893760"/>
              <a:ext cx="2489400" cy="84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Tahoma"/>
                </a:rPr>
                <a:t>Technologi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95480" y="3893760"/>
              <a:ext cx="2844720" cy="84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Tahoma"/>
                </a:rPr>
                <a:t>Environment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9480" y="3893760"/>
              <a:ext cx="2286000" cy="84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Tahoma"/>
                </a:rPr>
                <a:t>Soc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40200" y="3048120"/>
              <a:ext cx="2489400" cy="84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Tahoma"/>
                </a:rPr>
                <a:t>Government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95480" y="3048120"/>
              <a:ext cx="2844720" cy="84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Tahoma"/>
                </a:rPr>
                <a:t>Demograph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3048120"/>
              <a:ext cx="2286000" cy="84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Tahoma"/>
                </a:rPr>
                <a:t>Econom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0920" y="3048120"/>
              <a:ext cx="22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480" y="3049200"/>
              <a:ext cx="0" cy="25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229600" y="3049200"/>
              <a:ext cx="0" cy="25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0920" y="5587920"/>
              <a:ext cx="22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96920" y="304812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42000" y="3048120"/>
              <a:ext cx="24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96920" y="558792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42000" y="5587920"/>
              <a:ext cx="24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95480" y="3049200"/>
              <a:ext cx="0" cy="25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40200" y="3049200"/>
              <a:ext cx="0" cy="25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609480" y="17524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mmarize &amp; Eval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AF80-ADD0-4B3D-92D4-3B28974148A6}" type="slidenum">
              <a:t>73</a:t>
            </a:fld>
          </a:p>
        </p:txBody>
      </p:sp>
    </p:spTree>
  </p:cSld>
  <p:transition>
    <p:cover dir="l"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0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228600" y="1122480"/>
            <a:ext cx="8915400" cy="3396960"/>
            <a:chOff x="228600" y="1122480"/>
            <a:chExt cx="8915400" cy="3396960"/>
          </a:xfrm>
        </p:grpSpPr>
        <p:pic>
          <p:nvPicPr>
            <p:cNvPr id="446" name="" descr=""/>
            <p:cNvPicPr/>
            <p:nvPr/>
          </p:nvPicPr>
          <p:blipFill>
            <a:blip r:embed="rId1"/>
            <a:stretch/>
          </p:blipFill>
          <p:spPr>
            <a:xfrm>
              <a:off x="228600" y="1122480"/>
              <a:ext cx="891540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2"/>
            <a:stretch/>
          </p:blipFill>
          <p:spPr>
            <a:xfrm>
              <a:off x="228600" y="1905120"/>
              <a:ext cx="8915400" cy="26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80F2-08F3-4184-9A4F-40CB93AF3A2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14480" y="1122480"/>
            <a:ext cx="9029520" cy="3840120"/>
            <a:chOff x="114480" y="1122480"/>
            <a:chExt cx="9029520" cy="384012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228600" y="1122480"/>
              <a:ext cx="891540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2"/>
            <a:stretch/>
          </p:blipFill>
          <p:spPr>
            <a:xfrm>
              <a:off x="114480" y="1895400"/>
              <a:ext cx="8915400" cy="306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7465-0E2F-4BB0-9F30-7905FBF3146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001000" cy="190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Total weighted score of 4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response is outstanding to threats and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dustry Analysis E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3657600"/>
            <a:ext cx="8001000" cy="190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Total weighted score of 1.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m’s strategies not capitalizing on opportunities or avoiding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3DE0-D9B5-4660-ABC5-3F1F2717B0E7}" type="slidenum">
              <a:t>76</a:t>
            </a:fld>
          </a:p>
        </p:txBody>
      </p:sp>
    </p:spTree>
  </p:cSld>
  <p:transition>
    <p:cover dir="l"/>
  </p:transition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0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dustry Analysis E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2819520"/>
            <a:ext cx="800100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Understanding the factors used in the EFE Matrix is more important than the actual weights and ratings assigned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1981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rtant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33F8-D250-49A8-B712-02CE0D1ADE65}" type="slidenum">
              <a:t>77</a:t>
            </a:fld>
          </a:p>
        </p:txBody>
      </p:sp>
    </p:spTree>
  </p:cSld>
  <p:transition>
    <p:cover dir="l"/>
  </p:transition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533520" y="3808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dustry Analysis: Competitive Profile Matrix (C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880" y="2438280"/>
            <a:ext cx="807408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800000"/>
                </a:solidFill>
                <a:latin typeface="Arial"/>
                <a:ea typeface="Arial"/>
              </a:rPr>
              <a:t>Identifies firm’s major competitors and their strengths &amp; weaknesses in relation to a sample firm’s strategic posi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BAD2-5F6F-4CA9-AD6C-EE287D10909B}" type="slidenum">
              <a:t>78</a:t>
            </a:fld>
          </a:p>
        </p:txBody>
      </p:sp>
    </p:spTree>
  </p:cSld>
  <p:transition>
    <p:cover dir="l"/>
  </p:transition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0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380880" y="990720"/>
          <a:ext cx="8458200" cy="4332240"/>
        </p:xfrm>
        <a:graphic>
          <a:graphicData uri="http://schemas.openxmlformats.org/drawingml/2006/table">
            <a:tbl>
              <a:tblPr/>
              <a:tblGrid>
                <a:gridCol w="2057400"/>
                <a:gridCol w="838440"/>
                <a:gridCol w="914400"/>
                <a:gridCol w="914400"/>
                <a:gridCol w="838080"/>
                <a:gridCol w="990720"/>
                <a:gridCol w="914400"/>
                <a:gridCol w="990360"/>
              </a:tblGrid>
              <a:tr h="48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te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F’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’d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’d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’d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ntory s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 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. 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. Loyal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 Dis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 Ex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. 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ED39-BB51-4127-833A-B54FFE0EADC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7848360" cy="3962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Identify &amp; Evaluate factors beyond the control of a single fi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reased foreign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pulation shif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ging soci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ear of trav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ock market volatilit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External Strategic Management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4538-AFFE-4D56-A809-4CAC9FA5CD69}" type="slidenum">
              <a:t>8</a:t>
            </a:fld>
          </a:p>
        </p:txBody>
      </p:sp>
    </p:spTree>
  </p:cSld>
  <p:transition>
    <p:cover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380880" y="990720"/>
          <a:ext cx="8458200" cy="4636800"/>
        </p:xfrm>
        <a:graphic>
          <a:graphicData uri="http://schemas.openxmlformats.org/drawingml/2006/table">
            <a:tbl>
              <a:tblPr/>
              <a:tblGrid>
                <a:gridCol w="2057400"/>
                <a:gridCol w="838440"/>
                <a:gridCol w="914400"/>
                <a:gridCol w="914400"/>
                <a:gridCol w="838080"/>
                <a:gridCol w="990720"/>
                <a:gridCol w="914400"/>
                <a:gridCol w="990360"/>
              </a:tblGrid>
              <a:tr h="48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te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F’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ont’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’d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’d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’d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. 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comme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S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 compet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t. exper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d4b4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BF0A-BF70-4041-A995-0C738B0782B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dustry Analysis C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819520"/>
            <a:ext cx="8153640" cy="259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Just because one firm receives a 3.2 rating and another receives a 2.8 rating, it does not follow that the first firm is 20 percent better than the second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1981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rtant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45FB4-2D18-4637-8E77-358ECF451BF7}" type="slidenum">
              <a:t>81</a:t>
            </a:fld>
          </a:p>
        </p:txBody>
      </p:sp>
    </p:spTree>
  </p:cSld>
  <p:transition>
    <p:cover dir="l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mpetitiv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hief Information Officer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C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mpetitive Intelligenc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hief Technology Officer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mpetitive Profil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trix (C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mpetitive Adva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ecru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327B-174A-45E0-BA7E-B6C2596AF569}" type="slidenum">
              <a:t>82</a:t>
            </a:fld>
          </a:p>
        </p:txBody>
      </p:sp>
    </p:spTree>
  </p:cSld>
  <p:transition>
    <p:cover dir="l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0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irector of Competitiv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xternal Factor Evaluation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atrix (EF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Downs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xternal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nvironmental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dustr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xternal Au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dustrial Organizational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3C83-F4E9-4815-A0B8-6842C98FAB38}" type="slidenum">
              <a:t>83</a:t>
            </a:fld>
          </a:p>
        </p:txBody>
      </p:sp>
    </p:spTree>
  </p:cSld>
  <p:transition>
    <p:cover dir="l"/>
  </p:transition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24382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formation Technolog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(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00600" y="24382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Lifecare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3526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00600" y="33526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orter’s Five-Force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2120" y="42670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Learning from the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42670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Rights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120" y="5181480"/>
            <a:ext cx="350496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00600" y="5181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World Wid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65CA-13F1-4353-98DC-708F7CA787BE}" type="slidenum">
              <a:t>84</a:t>
            </a:fld>
          </a:p>
        </p:txBody>
      </p:sp>
    </p:spTree>
  </p:cSld>
  <p:transition>
    <p:cover dir="l"/>
  </p:transition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500"/>
                            </p:stCondLst>
                            <p:childTnLst>
                              <p:par>
                                <p:cTn id="1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7620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Key Terms &amp;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For Review (Chapter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289548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Tax Harm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4114800"/>
            <a:ext cx="35053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Foreign Direct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1D90-898A-4599-8F4D-3237D5E5F776}" type="slidenum">
              <a:t>85</a:t>
            </a:fld>
          </a:p>
        </p:txBody>
      </p:sp>
    </p:spTree>
  </p:cSld>
  <p:transition>
    <p:cover dir="l"/>
  </p:transition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5943600" cy="3124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Purpose of External Aud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Ident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2116080" cy="1717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External Strategic Management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792A-D73B-4691-8B7A-3B2D59E0D8ED}" type="slidenum">
              <a:t>9</a:t>
            </a:fld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 </cp:lastModifiedBy>
  <dcterms:modified xsi:type="dcterms:W3CDTF">2006-04-18T17:03:48Z</dcterms:modified>
  <cp:revision>168</cp:revision>
  <dc:subject/>
  <dc:title>Chapter 1  The Nature of Strategic Management </dc:title>
</cp:coreProperties>
</file>