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0634-5608-4C48-A80E-112F69A2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F3D7-33E4-40AF-A30B-F910D704D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962C-95AC-48E7-A217-B4DE8D5C0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9A67-37E1-4BB3-8579-4A13CFDAB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F06C-B654-4D9B-8F71-6519B5060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057-CFA6-491C-8F32-961294701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E9E3-8751-4282-B9FF-675D0054F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1E0A-27DF-4232-93AA-AF1FE11F0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CF42-4B05-4E45-87AA-5CAACB493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8245-21D3-436D-8423-94AB549C1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BE76-6C70-4FD8-BC0D-89E9CCAFE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3551-7976-4081-B84E-6EB41A78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68CC-A168-48AC-91F9-E3C07110F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4063-F41E-4CC8-81A1-1760A62C1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7DDC-C825-4E37-A8C3-A9BA888E8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E797-1CA3-4A40-8938-79BB06584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1AC6-EE54-412C-9BD4-D9BEF070F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8831-8189-4136-9F74-BAC4EA17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CBC4-09D1-46E0-AED0-0E5AD8332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02A8-001E-4A56-BDF6-2F9A9F1B1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F4F-BE77-4659-B797-4DC3CA32E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5CB1-6062-4FF4-9FCF-A08C30252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7A30-47BE-4980-AA1C-301BA7478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41C7-241C-4F40-B919-D8F8466E9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915E-AD91-499B-9A6C-9038CB5C8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2397-5951-45FE-B3B2-992E5D0CB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E6A8-5527-4E27-AF6A-B1CE2CA8A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6DB3-EBA1-47F3-8424-D5DAAAE76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5081-4BC4-43A1-BC17-EF12F4748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B0BF-AE00-4EFF-98BE-259EA2B44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C53A-C05D-4BAB-9B73-A4C3CC41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3115-1ADD-424E-98AC-94DB35269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DD28-7E89-406A-A669-639D8B626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0A3D-C843-4A2B-A4E4-7B68A3310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2EDB-F544-4150-B471-21D86B625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203-5EE7-48BD-9CF2-4BEF6FB3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E5ED-9841-466A-8883-321DC7460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FF35-2456-4654-BE3B-C53A68468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48FF-5E1A-49DF-8A1D-66B36B1AE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A729-3E98-4B60-8948-2FBA41936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739F-4692-4D40-BC2A-4B3E153C3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B226-7456-439B-9A48-91D1EA29C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E350-34B2-41ED-A5F2-F585D4042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5FE5-C822-407F-A709-9685158E4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046A-B975-4F68-AC0E-33D74DBC0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A5AB-B59D-4A78-ABA3-B98F6787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5A76-5368-48D6-A10A-3EAAD7881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67F4-DD68-444A-B1D0-9E4ADB79C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66F5-7C16-4C76-82C1-10E0A3501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413A-6E9E-4F47-9D4E-366E30747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731-2E1E-4465-B4EF-493FCD0BF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B854-50A3-4853-8426-957B95FF6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D49E-15DD-42BB-A6AC-CE348A421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AED0-E6C6-4880-B397-731155DE2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595E-6EA7-41D5-821B-63F78D14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1636-587B-4154-BD09-032AFFC67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06BB-482B-453B-AAEF-AD7614927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CFD9-D7E1-4876-A465-1F2871E5F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58FC-83FE-4002-A417-9B12D7750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A1C7-5C2A-46C7-9A21-5D9FFB8BC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BCE95-B142-47DA-8120-AE67F0C7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E5221-1035-4778-9583-6B53ED1A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8CF2C-0682-4F13-9E88-FFA34470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15237-216B-49D1-8923-921744D3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C3773-2DE8-4310-ABBA-7137F292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33664-B37A-4894-A90C-60C03E17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BBF8-3350-4607-8B7E-EA2EE2D6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A139-7089-474F-A8A6-E319BCCA2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9DAA7-9F5B-4A8B-982C-291C07E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C1871-2C26-43EA-B64C-EDF777E1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E3F82-ED8F-4AD6-AF66-0FC93480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0D016-212F-4D93-BB09-9E899509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5DE06-270C-4A4E-92A7-EAD783DE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3336-F6DF-4806-9241-F3658D0CC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EC56-0E69-41B1-9A4A-FEFD1DECF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441D-A043-4DD5-9B26-2FD7C0962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AC1B-FD14-4C38-A729-BF2012FB4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8F78-1B74-4F1C-AFDF-16C336CAC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C70B-D877-4207-AD26-65F687B83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73A2-1160-47A8-9FED-C1104858C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1602f"/>
                </a:solidFill>
                <a:latin typeface="Arial"/>
              </a:rPr>
              <a:t>Copyright 2007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4 -</a:t>
            </a:r>
            <a:fld id="{C069BF3D-4902-4525-A12C-5E1CDE1A40B1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8CE8-9E5C-408B-9AB4-ECB3551A70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hapter 4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Internal Assessment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38480" cy="37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rategic Management: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cepts &amp;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1</a:t>
            </a:r>
            <a:r>
              <a:rPr b="1" lang="en-US" sz="2400" spc="-1" strike="noStrike" baseline="30000">
                <a:solidFill>
                  <a:srgbClr val="8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red 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2851200"/>
            <a:ext cx="28954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0789-107A-4ACE-8F76-66754F50B65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Intern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inctive Compet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819520"/>
            <a:ext cx="67820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irm’s strengths that cannot be easily matched or imitated by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DFE7-2E8C-465C-A85B-3F1702A40C62}" type="slidenum">
              <a:t>10</a:t>
            </a:fld>
          </a:p>
        </p:txBody>
      </p:sp>
    </p:spTree>
  </p:cSld>
  <p:transition>
    <p:cover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Intern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inctive Compet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819520"/>
            <a:ext cx="678204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uilding competitive advantage involves taking advantage of distinctive compet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D2F1-C5CD-4709-9568-43279FFDA5BD}" type="slidenum">
              <a:t>11</a:t>
            </a:fld>
          </a:p>
        </p:txBody>
      </p:sp>
    </p:spTree>
  </p:cSld>
  <p:transition>
    <p:cover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Intern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inctive Compet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819520"/>
            <a:ext cx="67820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ategies designed to improve on a firm’s weaknesses and turn to 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225520" cy="23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0A58-282E-4FBE-80C5-5D7CA46B4173}" type="slidenum">
              <a:t>12</a:t>
            </a:fld>
          </a:p>
        </p:txBody>
      </p:sp>
    </p:spTree>
  </p:cSld>
  <p:transition>
    <p:cover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286000"/>
            <a:ext cx="8153280" cy="336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Information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e/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ion/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523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llels process of external au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C07C-DA7A-4109-8ED0-0C2B74BF99E9}" type="slidenum">
              <a:t>13</a:t>
            </a:fld>
          </a:p>
        </p:txBody>
      </p:sp>
    </p:spTree>
  </p:cSld>
  <p:transition>
    <p:cover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981080"/>
            <a:ext cx="678168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volvement in performing an internal strategic-management audit provides vehicle for understanding nature and effect of decisions in other functional business areas of the fi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654960" y="4011480"/>
            <a:ext cx="1749240" cy="182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4426-3D64-4C6D-BD33-76D3EBBC0886}" type="slidenum">
              <a:t>14</a:t>
            </a:fld>
          </a:p>
        </p:txBody>
      </p:sp>
    </p:spTree>
  </p:cSld>
  <p:transition>
    <p:cover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819520"/>
            <a:ext cx="678168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ordination &amp; understanding among managers from all functional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7524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to Organizational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4775-FECC-44B9-B2D1-DE2B8D3245D3}" type="slidenum">
              <a:t>15</a:t>
            </a:fld>
          </a:p>
        </p:txBody>
      </p:sp>
    </p:spTree>
  </p:cSld>
  <p:transition>
    <p:cover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19520"/>
            <a:ext cx="678168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umber and complexity increases relative to organization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7524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EE76-407D-4DBC-A5EA-3061E0364735}" type="slidenum">
              <a:t>16</a:t>
            </a:fld>
          </a:p>
        </p:txBody>
      </p:sp>
    </p:spTree>
  </p:cSld>
  <p:transition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819520"/>
            <a:ext cx="678168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xemplifies complexity of relationships among functional areas of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7524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ancial Ratio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260360" cy="16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AAD4-C578-45AF-A0C7-F7B10A384F61}" type="slidenum">
              <a:t>17</a:t>
            </a:fld>
          </a:p>
        </p:txBody>
      </p:sp>
    </p:spTree>
  </p:cSld>
  <p:transition>
    <p:cover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source Based View (RB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ach to Competi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819520"/>
            <a:ext cx="678168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rnal resources are more important than external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8D4B-BFC6-4DC4-A95B-CF0B046E9AEA}" type="slidenum">
              <a:t>18</a:t>
            </a:fld>
          </a:p>
        </p:txBody>
      </p:sp>
    </p:spTree>
  </p:cSld>
  <p:transition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source Based View (RB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All Encompassing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6781680" cy="181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hysic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rganization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6AE0-FA47-4E4B-8F1B-33A452D97D89}" type="slidenum">
              <a:t>19</a:t>
            </a:fld>
          </a:p>
        </p:txBody>
      </p:sp>
    </p:spTree>
  </p:cSld>
  <p:transition>
    <p:cover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Nature of an Internal Au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Resource-Based View (RB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grating Strategy &amp;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1569-996D-4047-8BC6-5D6D2CC521F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source Based View (RB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irical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819520"/>
            <a:ext cx="6781680" cy="181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Hard to imi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ot easily substit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5157-11FF-424C-905C-700AF675FAAD}" type="slidenum">
              <a:t>20</a:t>
            </a:fld>
          </a:p>
        </p:txBody>
      </p:sp>
    </p:spTree>
  </p:cSld>
  <p:transition>
    <p:cover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grating Strategy &amp;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8229600" cy="32004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attern of behavior developed by an organization as it learns to cope with its problem of external adaptation and internal integration…is considered valid and taught to new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4EA0-E372-4105-AFB3-9C0D81B66D70}" type="slidenum">
              <a:t>21</a:t>
            </a:fld>
          </a:p>
        </p:txBody>
      </p:sp>
    </p:spTree>
  </p:cSld>
  <p:transition>
    <p:cover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grating Strategy &amp;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819520"/>
            <a:ext cx="678168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esistant t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y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2743200" cy="245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E02D-7A0C-42EE-9989-8B88FAADC1BE}" type="slidenum">
              <a:t>22</a:t>
            </a:fld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352680" y="2971800"/>
            <a:ext cx="2133720" cy="8380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838080"/>
            <a:ext cx="1143000" cy="1143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295280"/>
            <a:ext cx="1143000" cy="1143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1219320"/>
            <a:ext cx="1143000" cy="1143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i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819520"/>
            <a:ext cx="1143000" cy="1143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r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2819520"/>
            <a:ext cx="1143000" cy="1143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495680"/>
            <a:ext cx="1143000" cy="1143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4495680"/>
            <a:ext cx="1143000" cy="1143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t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648320"/>
            <a:ext cx="1143000" cy="1143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1972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486400" y="22856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8098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90920" y="380988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36196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895480" y="22856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0780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  <a:ea typeface="Arial"/>
              </a:rPr>
              <a:t>Integrating Strategy &amp;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D9F0-C51F-4CC5-AEEF-80C59E855B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grating Strategy &amp;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5238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Culture Can Inhibit Strategic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048120"/>
            <a:ext cx="6781680" cy="202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iss external changes due to strongly held beli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atural tendency to “hold the course” even during times of strategic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7754-A24C-4A23-9399-9FF33C9B69EA}" type="slidenum">
              <a:t>24</a:t>
            </a:fld>
          </a:p>
        </p:txBody>
      </p:sp>
    </p:spTree>
  </p:cSld>
  <p:transition>
    <p:cover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U.S. Versus Foreign Cultur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 successfully compete in world markets, U.S. managers must obtain a better knowledge of historical, cultural, and religious forces that motivate and drive people in other count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F4DC-A9F1-4390-BF9D-073250EF42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9144000" cy="502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2111-28B1-4538-9EDD-CF99A00BE5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 of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362320"/>
            <a:ext cx="6781680" cy="311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otiv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4583160" cy="27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C73E-1A80-41D6-B5F3-88818915A350}" type="slidenum">
              <a:t>27</a:t>
            </a:fld>
          </a:p>
        </p:txBody>
      </p:sp>
    </p:spTree>
  </p:cSld>
  <p:transition>
    <p:cover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360" y="2103480"/>
            <a:ext cx="1949400" cy="441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2360" y="2286000"/>
            <a:ext cx="31989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11430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When 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29528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59440" y="2103480"/>
            <a:ext cx="2940120" cy="4413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rategy For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9360" y="2941560"/>
            <a:ext cx="1949400" cy="441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9440" y="2941560"/>
            <a:ext cx="2940120" cy="4413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rategy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9360" y="3780000"/>
            <a:ext cx="1949400" cy="441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</a:rPr>
              <a:t>Motiv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59440" y="3780000"/>
            <a:ext cx="2940120" cy="44100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rategy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9360" y="4618080"/>
            <a:ext cx="1949400" cy="441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9360" y="5456160"/>
            <a:ext cx="1949400" cy="441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</a:rPr>
              <a:t>Cont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59440" y="4618080"/>
            <a:ext cx="2940120" cy="48744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rategy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59440" y="5456160"/>
            <a:ext cx="2940120" cy="4413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rategy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2360" y="3124080"/>
            <a:ext cx="31989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2360" y="4038480"/>
            <a:ext cx="31989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2360" y="4876920"/>
            <a:ext cx="31989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92360" y="5715000"/>
            <a:ext cx="31989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8E5B-8A3E-4726-9AFE-632ABCE518DA}" type="slidenum">
              <a:t>28</a:t>
            </a:fld>
          </a:p>
        </p:txBody>
      </p:sp>
    </p:spTree>
  </p:cSld>
  <p:transition>
    <p:cover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2362320"/>
            <a:ext cx="6781680" cy="224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eginning of manage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ridge between present &amp;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mproves likelihood of attaining desir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1036800" cy="148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8299-5E04-4C2A-9442-A5BB6AE13CAC}" type="slidenum">
              <a:t>29</a:t>
            </a:fld>
          </a:p>
        </p:txBody>
      </p:sp>
    </p:spTree>
  </p:cSld>
  <p:transition>
    <p:cover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pportunit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2271-780C-48DE-9215-8FDA62D589C4}" type="slidenum">
              <a:t>3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2971800"/>
            <a:ext cx="2209680" cy="1203480"/>
          </a:xfrm>
          <a:prstGeom prst="rect">
            <a:avLst/>
          </a:prstGeom>
          <a:solidFill>
            <a:srgbClr val="e0d4b4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40080" y="3962520"/>
            <a:ext cx="236052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ing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DBAB-7A8E-45B8-8AB0-52F562EDB2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590920"/>
            <a:ext cx="678168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chieves coordinated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fines task &amp; authority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partment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legation of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00AA-D69F-4A4A-B997-47A9537E701E}" type="slidenum">
              <a:t>31</a:t>
            </a:fld>
          </a:p>
        </p:txBody>
      </p:sp>
    </p:spTree>
  </p:cSld>
  <p:transition>
    <p:cover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2971800"/>
            <a:ext cx="2209680" cy="1203480"/>
          </a:xfrm>
          <a:prstGeom prst="rect">
            <a:avLst/>
          </a:prstGeom>
          <a:solidFill>
            <a:srgbClr val="e0d4b4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3962520"/>
            <a:ext cx="236052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spe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y of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2D91F-CA20-477F-92C3-C608513C0A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v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2590920"/>
            <a:ext cx="6781680" cy="159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fluencing to accomplish specific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mmunication – major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24D6-03D8-4EAE-A728-D727369E871D}" type="slidenum">
              <a:t>33</a:t>
            </a:fld>
          </a:p>
        </p:txBody>
      </p:sp>
    </p:spTree>
  </p:cSld>
  <p:transition>
    <p:cover dir="l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2971800"/>
            <a:ext cx="2209680" cy="120348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40080" y="3962520"/>
            <a:ext cx="236052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ork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ob enri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ob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eds 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Organization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95E5-4D0A-426E-962D-D45C61FD53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590920"/>
            <a:ext cx="6781680" cy="116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ersonne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Human resources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C8ED-321E-45BB-8FED-EE02269AF199}" type="slidenum">
              <a:t>35</a:t>
            </a:fld>
          </a:p>
        </p:txBody>
      </p:sp>
    </p:spTree>
  </p:cSld>
  <p:transition>
    <p:cover dir="l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3520" y="2971800"/>
            <a:ext cx="2209680" cy="120348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40080" y="3962520"/>
            <a:ext cx="236052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 &amp; salary ad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1602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DEF4-01C2-4497-B201-B0292D757C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500"/>
                            </p:stCondLst>
                            <p:childTnLst>
                              <p:par>
                                <p:cTn id="6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5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2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2590920"/>
            <a:ext cx="6781680" cy="224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stablishing performanc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nsure actual operations conform to planne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aking corrective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943600" y="3809880"/>
            <a:ext cx="2405160" cy="173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9083-2340-46CA-9A48-A745D3E38FCF}" type="slidenum">
              <a:t>37</a:t>
            </a:fld>
          </a:p>
        </p:txBody>
      </p:sp>
    </p:spTree>
  </p:cSld>
  <p:transition>
    <p:cover dir="l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971800"/>
            <a:ext cx="2209680" cy="120348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t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40080" y="3962520"/>
            <a:ext cx="236052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49CF-CD18-4A09-B8A1-730C383448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000"/>
                            </p:stCondLst>
                            <p:childTnLst>
                              <p:par>
                                <p:cTn id="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500"/>
                            </p:stCondLst>
                            <p:childTnLst>
                              <p:par>
                                <p:cTn id="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Audit 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firm use strategic management concep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objectives/goals measurable?  Well communi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managers at all levels plan effective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D020-0718-42FA-9570-61E664381DE4}" type="slidenum">
              <a:t>39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inance/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roduction/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esearch &amp;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6B66-C67D-4F62-814F-007614659B4C}" type="slidenum">
              <a:t>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Audit 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managers delegate we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organization’s structure appropri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job descriptions cl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job specifications cl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employee morale hig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5938-0F54-4411-A10D-ECCFF049CD72}" type="slidenum">
              <a:t>40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Audit 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employee absenteeism l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employee turnover l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 reward mechanisms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 organization’s control mechanisms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4F62-7A5C-4A94-A65D-8F5ED38FCB3A}" type="slidenum">
              <a:t>41</a:t>
            </a:fld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523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stomer Needs/Wants for Products/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362320"/>
            <a:ext cx="678168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f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nticip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r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ulfi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799240" y="3943440"/>
            <a:ext cx="1788840" cy="133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C1E9-7618-4EFE-BBF5-EE70F6650215}" type="slidenum">
              <a:t>42</a:t>
            </a:fld>
          </a:p>
        </p:txBody>
      </p:sp>
    </p:spTree>
  </p:cSld>
  <p:transition>
    <p:cover dir="l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19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981080"/>
            <a:ext cx="6781680" cy="379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ustome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elling products/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duct &amp; service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rketing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pportunit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D1D0-B0D2-4E0A-9B21-B73C799833DE}" type="slidenum">
              <a:t>43</a:t>
            </a:fld>
          </a:p>
        </p:txBody>
      </p:sp>
    </p:spTree>
  </p:cSld>
  <p:transition>
    <p:cover dir="l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500"/>
                            </p:stCondLst>
                            <p:childTnLst>
                              <p:par>
                                <p:cTn id="7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971800"/>
            <a:ext cx="2209680" cy="120348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ustome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urvey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inform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ositioning strategi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profi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segmentation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457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D2A7-DB27-4197-9125-AE35451157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500"/>
                            </p:stCondLst>
                            <p:childTnLst>
                              <p:par>
                                <p:cTn id="8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0d4b4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for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457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2743200"/>
            <a:ext cx="2667240" cy="16311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ling Products/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846CF-3FDF-4734-8CD4-95FE643C338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500"/>
                            </p:stCondLst>
                            <p:childTnLst>
                              <p:par>
                                <p:cTn id="8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0d4b4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pos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ing warran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features/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57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743200"/>
            <a:ext cx="2667240" cy="1631160"/>
          </a:xfrm>
          <a:prstGeom prst="rect">
            <a:avLst/>
          </a:prstGeom>
          <a:solidFill>
            <a:srgbClr val="716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lanning Product/Serv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973A-871E-437D-9960-5D09792F1F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500"/>
                            </p:stCondLst>
                            <p:childTnLst>
                              <p:par>
                                <p:cTn id="8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71602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ward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 of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457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2743200"/>
            <a:ext cx="2667240" cy="132624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9803-90D5-45F0-A39B-F2CCB0B2704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0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are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tail site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ales terr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ventor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1602f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6B36-E46C-4B2A-9E0F-FE13A790888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71602f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pport busines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C078-0C0C-46D7-91E9-5C38FFCFC7E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8288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809880"/>
            <a:ext cx="792504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Internal Factor Evaluation (IFE)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CBAC-BC6F-406D-8CD7-7FC8748749EA}" type="slidenum">
              <a:t>5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716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ing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ing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/benefit/risk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2819520"/>
            <a:ext cx="2667240" cy="16311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Opportun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C026-AB9B-475E-B3A0-38E095640F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1219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678168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re markets segmented effectiv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s the organization positioned well among competit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Has the firm’s market share been increa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re the distribution channels reliable &amp; cost ef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s the sales force ef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A4C0-B564-4A7B-94A2-750C46088B1E}" type="slidenum">
              <a:t>51</a:t>
            </a:fld>
          </a:p>
        </p:txBody>
      </p:sp>
    </p:spTree>
  </p:cSld>
  <p:transition>
    <p:cover dir="l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219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981080"/>
            <a:ext cx="6781680" cy="3225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oes the firm conduct market resear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re product quality &amp; customer service g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re the firm’s products/services priced appropria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oes the firm have effective promotion, advertising, &amp; publicity strate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9C0F-5D57-4D5F-A520-B37FA1B24992}" type="slidenum">
              <a:t>52</a:t>
            </a:fld>
          </a:p>
        </p:txBody>
      </p:sp>
    </p:spTree>
  </p:cSld>
  <p:transition>
    <p:cover dir="l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219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514600"/>
            <a:ext cx="678168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re the marketing planning &amp; budgeting ef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o the firm’s marketing managers have adequate experience and trai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9127-2D8A-4A44-8C5D-8D35C00CB986}" type="slidenum">
              <a:t>53</a:t>
            </a:fld>
          </a:p>
        </p:txBody>
      </p:sp>
    </p:spTree>
  </p:cSld>
  <p:transition>
    <p:cover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286000"/>
            <a:ext cx="678168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Determining financial strengths &amp; weaknesses key to strategy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1808280" cy="269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8141-67ED-4269-8A14-32A477280F1A}" type="slidenum">
              <a:t>54</a:t>
            </a:fld>
          </a:p>
        </p:txBody>
      </p:sp>
    </p:spTree>
  </p:cSld>
  <p:transition>
    <p:cover dir="l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219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ance/Account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743200"/>
            <a:ext cx="6781680" cy="157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nvestment decision (Capital budge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inancing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ividen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F200-C0E8-4F6D-9442-47B2F59A7F68}" type="slidenum">
              <a:t>55</a:t>
            </a:fld>
          </a:p>
        </p:txBody>
      </p:sp>
    </p:spTree>
  </p:cSld>
  <p:transition>
    <p:cover dir="l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0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 ability to meet its short-term obl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Quick (or acid test)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71602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411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asic Financi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Liquidity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D1D4-F4AE-424D-BCCB-DF4FB4F05A6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ent of debt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bt-to-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bt-to-eq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ong-term debt-to-eq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imes-interest 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71602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411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asic Financi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Levera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824C-BDCF-4D2E-961C-BF329B97891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ffective use of firm’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nventory-turn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xed assets turn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otal assets turn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ccounts receivable turn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verage collection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71602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411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asic Financi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Activity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D9ED-7D84-4DA9-835C-6F8F5E5C1B4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ffectiveness shown by returns on sales &amp;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Gross profit mar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Operating profit mar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Net profit mar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Return on total assets (RO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71602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411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asic Financi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Profitability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FFBE-5804-4DA3-AA7E-FF7EB46657F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619760" cy="228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The biggest levers you’ve got to change a company are strategy, structure, and culture.  If I could pick two, I’d pick strategy and culture. 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ne Leonard, CEO, Ent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rnal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733920"/>
            <a:ext cx="762012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Weak leadership can wreck the soundest strategy.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n 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5639-8B3B-4B3C-A901-334289B2CD8C}" type="slidenum">
              <a:t>6</a:t>
            </a:fld>
          </a:p>
        </p:txBody>
      </p:sp>
    </p:spTree>
  </p:cSld>
  <p:transition>
    <p:cover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ffectiveness shown by returns on sales &amp;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Return on stockholders equity (RO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arnings per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ice-earnings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11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asic Financi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2819520"/>
            <a:ext cx="2667240" cy="147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Profitability Ratios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(cont’d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4D21-B623-43F3-879D-6F0876813FD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 ability to maintain economic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N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arnings per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vidends per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411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asic Financi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Growth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21B7-258F-4974-BD51-93758627793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e3ddcb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is the firm strong/weak as indicated by financial ratio analy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the firm raise short-term capital as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the firm raise long-term capital as needed through debt and/or equ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597A-D8BA-4B23-84CD-42B6480F6815}" type="slidenum">
              <a:t>62</a:t>
            </a:fld>
          </a:p>
        </p:txBody>
      </p:sp>
    </p:spTree>
  </p:cSld>
  <p:transition>
    <p:cover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e3ddcb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firm have sufficient working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capital budgeting procedures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dividend payout policies reason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 firm’s financial managers experienced &amp; well trai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EDEF-624D-48C1-B235-2F5489031B6A}" type="slidenum">
              <a:t>63</a:t>
            </a:fld>
          </a:p>
        </p:txBody>
      </p:sp>
    </p:spTree>
  </p:cSld>
  <p:transition>
    <p:cover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inance/Accounting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e3ddcb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ffective Financial Analysis 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lysis of how the ratios have changed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the ratios compare to industry n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the ratios compare with key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2985-7254-456A-AC10-CA123C009D51}" type="slidenum">
              <a:t>64</a:t>
            </a:fld>
          </a:p>
        </p:txBody>
      </p:sp>
    </p:spTree>
  </p:cSld>
  <p:transition>
    <p:cover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ion/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on/Operation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2438280"/>
            <a:ext cx="6781680" cy="268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Work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0F31-D0AD-4444-8F03-85595BABF752}" type="slidenum">
              <a:t>65</a:t>
            </a:fld>
          </a:p>
        </p:txBody>
      </p:sp>
    </p:spTree>
  </p:cSld>
  <p:transition>
    <p:cover dir="l"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acility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echnology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acility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cess flow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acility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ine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1602f"/>
          </a:solidFill>
          <a:ln w="9360">
            <a:solidFill>
              <a:srgbClr val="71602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4874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ion/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9CF3-DC1E-494C-A5B1-B2DC8475245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0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cc9900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ie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ing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1602f"/>
          </a:solidFill>
          <a:ln w="9360">
            <a:solidFill>
              <a:srgbClr val="71602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4874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ion/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6BB4-16AE-499E-9A6C-7349E6ED836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0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ork 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nished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aterials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1602f"/>
          </a:solidFill>
          <a:ln w="9360">
            <a:solidFill>
              <a:srgbClr val="71602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874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ion/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26C4-93A1-4BB1-BF3F-1E399804EB1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0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cc9900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enri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1602f"/>
          </a:solidFill>
          <a:ln w="9360">
            <a:solidFill>
              <a:srgbClr val="71602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4874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ion/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Work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11E3-3581-412E-BEBE-B130E6CFAA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Nature of an In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520" y="2971440"/>
            <a:ext cx="8229600" cy="20574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Str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- Weaknes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9810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al Areas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42424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5193-5D63-468B-9B2A-4F9C4193637C}" type="slidenum">
              <a:t>7</a:t>
            </a:fld>
          </a:p>
        </p:txBody>
      </p:sp>
    </p:spTree>
  </p:cSld>
  <p:transition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724280" y="1523880"/>
            <a:ext cx="3854520" cy="4098960"/>
          </a:xfrm>
          <a:prstGeom prst="rect">
            <a:avLst/>
          </a:prstGeom>
          <a:solidFill>
            <a:srgbClr val="e3ddcb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1602f"/>
          </a:solidFill>
          <a:ln w="9360">
            <a:solidFill>
              <a:srgbClr val="71602f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874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ion/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819520"/>
            <a:ext cx="2667240" cy="1326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EEA9-770A-4826-B38C-57901888A74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ion/Operations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suppliers of materials, parts, etc. reliable and reason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facilities, equipment &amp; machinery in good cond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inventory-control policies and procedures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CFE3-249E-4495-8D8F-0AE36A490AB2}" type="slidenum">
              <a:t>71</a:t>
            </a:fld>
          </a:p>
        </p:txBody>
      </p:sp>
    </p:spTree>
  </p:cSld>
  <p:transition>
    <p:cover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oduction/Operations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quality-control policies &amp; procedures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facilities, resources, and markets strategically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firm have technological competenc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01C0-7D95-4DBE-8D26-080681FE8A65}" type="slidenum">
              <a:t>72</a:t>
            </a:fld>
          </a:p>
        </p:txBody>
      </p:sp>
    </p:spTree>
  </p:cSld>
  <p:transition>
    <p:cover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search &amp;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 &amp; Develop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438280"/>
            <a:ext cx="6781680" cy="230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evelopment of new products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mproving produc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mproving manufacturing processes to redu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88240" y="1906560"/>
            <a:ext cx="1477800" cy="17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E509-CD98-4A6D-87F8-F50CC549F4D8}" type="slidenum">
              <a:t>73</a:t>
            </a:fld>
          </a:p>
        </p:txBody>
      </p:sp>
    </p:spTree>
  </p:cSld>
  <p:transition>
    <p:cover dir="l"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0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724280" y="1219320"/>
            <a:ext cx="3886200" cy="4724280"/>
          </a:xfrm>
          <a:prstGeom prst="rect">
            <a:avLst/>
          </a:prstGeom>
          <a:solidFill>
            <a:srgbClr val="5f5f5f"/>
          </a:solidFill>
          <a:ln w="9360">
            <a:solidFill>
              <a:srgbClr val="716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ng as many projects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ercent-of-sales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ing relative to competito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successful new products ar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3276720"/>
            <a:ext cx="2438280" cy="6094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4874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search &amp;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2895480"/>
            <a:ext cx="266724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R&amp;D Bud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54F9-E97F-48A1-9A32-4DC9B279216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33520" y="457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search &amp; Development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e3ddcb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 R&amp;D facilities adequ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R&amp;D is outsourced, is it cost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 R&amp;D personnel well qualifi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R&amp;D resources allocated effective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490E-7DCD-491D-9FF5-F88BE95BD09E}" type="slidenum">
              <a:t>75</a:t>
            </a:fld>
          </a:p>
        </p:txBody>
      </p:sp>
    </p:spTree>
  </p:cSld>
  <p:transition>
    <p:cover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3520" y="457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search &amp; Development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Document"/>
          <p:cNvSpPr/>
          <p:nvPr/>
        </p:nvSpPr>
        <p:spPr>
          <a:xfrm>
            <a:off x="685800" y="1447920"/>
            <a:ext cx="7543800" cy="4267080"/>
          </a:xfrm>
          <a:prstGeom prst="pie">
            <a:avLst/>
          </a:prstGeom>
          <a:solidFill>
            <a:srgbClr val="e3ddcb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MIS and computer systems adequ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ommunication between R&amp;D &amp; other organizational units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present products technologically competi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BF76-C0D0-4B00-8B46-11AD4373DE1C}" type="slidenum">
              <a:t>76</a:t>
            </a:fld>
          </a:p>
        </p:txBody>
      </p:sp>
    </p:spTree>
  </p:cSld>
  <p:transition>
    <p:cover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20574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3124080"/>
            <a:ext cx="6781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mprove performance of an enterprise by improving the quality of managerial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1801800" cy="16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12E6-7132-4878-A3B7-F53112FFF34D}" type="slidenum">
              <a:t>77</a:t>
            </a:fld>
          </a:p>
        </p:txBody>
      </p:sp>
    </p:spTree>
  </p:cSld>
  <p:transition>
    <p:cover dir="l"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0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049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Information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CIO/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User-friend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E-commerce</a:t>
            </a: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0F26-E207-4C53-BB3B-4D89A2C242B4}" type="slidenum">
              <a:t>78</a:t>
            </a:fld>
          </a:p>
        </p:txBody>
      </p:sp>
    </p:spTree>
  </p:cSld>
  <p:transition>
    <p:cover dir="l"/>
  </p:transition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0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33520" y="4572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nformation Systems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Document"/>
          <p:cNvSpPr/>
          <p:nvPr/>
        </p:nvSpPr>
        <p:spPr>
          <a:xfrm>
            <a:off x="685800" y="1676520"/>
            <a:ext cx="7543800" cy="4267080"/>
          </a:xfrm>
          <a:prstGeom prst="pie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managers use the information system to make decis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re a CIO or Director of Information Systems position in the fir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data updated regul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73C6-78E8-4987-9796-94098B842343}" type="slidenum">
              <a:t>79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84872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Internal strengths/weakn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ternal opportunities/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lear statement of 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e of an In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765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is for Objectives &amp;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D0F9-CEF8-4459-B50B-907C89E14E9F}" type="slidenum">
              <a:t>8</a:t>
            </a:fld>
          </a:p>
        </p:txBody>
      </p:sp>
    </p:spTree>
  </p:cSld>
  <p:transition>
    <p:cover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nformation Systems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Document"/>
          <p:cNvSpPr/>
          <p:nvPr/>
        </p:nvSpPr>
        <p:spPr>
          <a:xfrm>
            <a:off x="685800" y="1676520"/>
            <a:ext cx="7696080" cy="4267080"/>
          </a:xfrm>
          <a:prstGeom prst="pie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managers from all functional areas contribute input to the information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re effective passwords for entry into the firm’s information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strategists of the firm familiar with the information systems of rival fi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C8F3-5C2C-4C49-B844-52232642E413}" type="slidenum">
              <a:t>80</a:t>
            </a:fld>
          </a:p>
        </p:txBody>
      </p:sp>
    </p:spTree>
  </p:cSld>
  <p:transition>
    <p:cover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3520" y="4572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Management Information Systems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Document"/>
          <p:cNvSpPr/>
          <p:nvPr/>
        </p:nvSpPr>
        <p:spPr>
          <a:xfrm>
            <a:off x="685800" y="1676520"/>
            <a:ext cx="7696080" cy="4267080"/>
          </a:xfrm>
          <a:prstGeom prst="pie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information system user-friend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all users understand the competitive advantages that information can prov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computer training workshops provided for us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firm’s system being impro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0791-1661-4CCC-8B06-8B768AC7616E}" type="slidenum">
              <a:t>81</a:t>
            </a:fld>
          </a:p>
        </p:txBody>
      </p:sp>
    </p:spTree>
  </p:cSld>
  <p:transition>
    <p:cover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685800"/>
            <a:ext cx="9143640" cy="4876560"/>
            <a:chOff x="0" y="685800"/>
            <a:chExt cx="9143640" cy="4876560"/>
          </a:xfrm>
        </p:grpSpPr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16920" y="685800"/>
              <a:ext cx="9109080" cy="10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0" y="1752120"/>
              <a:ext cx="9143640" cy="381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E452-77BC-4958-A4B8-D91A28A1E1C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0" y="990720"/>
            <a:ext cx="9143640" cy="4876200"/>
            <a:chOff x="0" y="990720"/>
            <a:chExt cx="9143640" cy="487620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5400" y="990720"/>
              <a:ext cx="913248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0" y="2163960"/>
              <a:ext cx="9143640" cy="370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96EE-3090-4464-BFB5-B07A923B872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ctivity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st/Benef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apital Budg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ultural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stinctive Compet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7ADA-7C52-415E-B0B9-7FEE57A7E366}" type="slidenum">
              <a:t>84</a:t>
            </a:fld>
          </a:p>
        </p:txBody>
      </p:sp>
    </p:spTree>
  </p:cSld>
  <p:transition>
    <p:cover dir="l"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vidend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unctions of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Finance/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mpirical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unctions of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inancial Ratio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unctions of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inancing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unctions of Production/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4C89-C5C2-4630-B65D-58C97F081C15}" type="slidenum">
              <a:t>85</a:t>
            </a:fld>
          </a:p>
        </p:txBody>
      </p:sp>
    </p:spTree>
  </p:cSld>
  <p:transition>
    <p:cover dir="l"/>
  </p:transition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0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Growth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vestment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Human Resourc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Levera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rnal Au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Liquidity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rnal Factor Evaluation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IFE)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nagement Information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752B-6FE5-4763-AD14-7A147D1BCA68}" type="slidenum">
              <a:t>86</a:t>
            </a:fld>
          </a:p>
        </p:txBody>
      </p:sp>
    </p:spTree>
  </p:cSld>
  <p:transition>
    <p:cover dir="l"/>
  </p:transition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0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otiv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ersonnel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pportun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rganizational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Organ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roduct &amp;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3503-F705-4528-AE83-29E602A58E03}" type="slidenum">
              <a:t>87</a:t>
            </a:fld>
          </a:p>
        </p:txBody>
      </p:sp>
    </p:spTree>
  </p:cSld>
  <p:transition>
    <p:cover dir="l"/>
  </p:transition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roduction/Operation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rofitability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taff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Sy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esource Based View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RB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est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9C00-B088-438D-9EA3-F865E117CA55}" type="slidenum">
              <a:t>88</a:t>
            </a:fld>
          </a:p>
        </p:txBody>
      </p:sp>
    </p:spTree>
  </p:cSld>
  <p:transition>
    <p:cover dir="l"/>
  </p:transition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0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500"/>
                            </p:stCondLst>
                            <p:childTnLst>
                              <p:par>
                                <p:cTn id="1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2895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Value Chain Analysi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V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41B0-9106-42E6-8DF6-490589C3542C}" type="slidenum">
              <a:t>89</a:t>
            </a:fld>
          </a:p>
        </p:txBody>
      </p:sp>
    </p:spTree>
  </p:cSld>
  <p:transition>
    <p:cover dir="l"/>
  </p:transition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0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Intern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47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 Business Ar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819520"/>
            <a:ext cx="6782040" cy="159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Vary by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ivisions have differing strengths &amp; 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B32C-3E65-4BC6-A8A3-EB182F5D8EFF}" type="slidenum">
              <a:t>9</a:t>
            </a:fld>
          </a:p>
        </p:txBody>
      </p:sp>
    </p:spTree>
  </p:cSld>
  <p:transition>
    <p:cover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 </cp:lastModifiedBy>
  <dcterms:modified xsi:type="dcterms:W3CDTF">2006-04-18T17:07:42Z</dcterms:modified>
  <cp:revision>222</cp:revision>
  <dc:subject/>
  <dc:title>Chapter 1  The Nature of Strategic Management </dc:title>
</cp:coreProperties>
</file>