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AAD6-D8E4-4800-9C2F-8196BA191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83F-E449-4FF4-8552-56533578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75BC-FE88-46FE-A546-86F39D5B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49E-2AB1-4406-AD4E-A9B9599F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9C57-8A86-4F27-8C85-EFCEFD71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336-6B5F-4426-B451-46648D6D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8EF9-879F-4ABA-9B0D-EDA6061F6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44C4-FA4A-41E8-89F2-B88D51F2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B4D-D487-46B6-86AE-C07824FF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F03-DD2D-43A0-BD5C-75FAD98B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3CD-11E0-4C36-8B38-4F5D917B0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356-5F66-4387-A6A5-C0BDA6E9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C5E4-6278-4E5D-92CE-D4C21F841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4E2E-1ABE-4370-9459-445F128C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050-5273-4EEC-891F-81FC9283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226-12FF-4D11-AA21-07B580BA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B3E-4AD6-495D-BB4F-9257F63E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B648-40BD-450E-8A62-A37360D4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8236-9660-4913-BA0D-FBD12F8B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3E2-2DF0-4106-8D8E-48561024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253-C23E-4D24-9290-D569AEE0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53B1-306C-4706-9F91-EB626EBD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CDA6-472A-411D-B6C0-E46DAF55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6FE6-C38D-40A0-BEB9-9873426F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D457-7355-480D-B6A4-6DBA37D6A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130-E174-410E-A391-55B573537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2A4-2418-4D6A-8307-2D32E770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D8F1-C850-4631-8046-8D529C89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56F-3DB8-4CE3-9A17-D9B5DE5C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9641-4851-4855-BA36-8489904E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97B-07CA-4ECE-BF47-D0FCBA44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EBD-3E9A-448E-BA0A-F19F42F2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6A0-BA3F-4158-8C14-CD3712679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6F9-9198-4ED9-8CA9-2F7243849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4CFB-D0B6-4583-A4AA-5D6C343A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DFEC-D015-417F-901E-B0C073935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E4A-15E9-4F41-B0D8-D9EFDCF30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2FA-6064-4BD5-9CF7-800D5E8FD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8FD-AA02-489E-AD0A-2016682F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177-E807-4797-B1AD-93B5985E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EBC-9C52-49E6-912F-0211FAAF7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C24D-2B8C-4B47-A777-C8DF9DCD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CF1-BF64-49BD-8250-85E307A7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98B-0077-4AAC-859F-C2F32D8E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D72-9F8E-44EC-9655-0EC5BBB4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435-8E9B-46F3-B48B-4C5DE0B6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75F7-A851-4AF8-AABE-D68ED37F0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59A-A156-46C7-B26E-27998F76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0499-002C-4F59-A956-0F1E5C0F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062C-6E93-4C01-A7C6-F2B30A20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032-C66B-4FB9-B217-0AA101F4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354-38BC-48FC-B9C5-64199AFE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A45-04A5-4C6F-8D9C-ABB3413E3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AB82-3F51-4416-AF38-F5AB41E52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7B5B-F25D-41C2-A60B-82E37AB00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FAF2-C06F-4E55-82CD-29770C87D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A4E2-2A23-4F2A-8657-AD81C9FB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D168-3F4D-4525-A70F-BE9E4DE5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82E88-22AF-4BA6-A7C4-6713E08C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7510-1E27-4964-8681-9E1AB33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A92B-B317-4E91-AACC-C7DD6B7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20CC3-47C3-4665-AAC1-2AB6484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08017-DC36-4444-B097-92580A5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3EE0-C0C3-45E4-B35D-85FF50C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B4B6-49D5-498D-8D16-766318EE4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2EC9-DFB0-4758-9E63-739048D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6F3D5-6077-43F3-90AE-BC699BD9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4834-0284-4912-BE6F-028169C5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48F5-B4D9-424C-A957-F38428FF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6985-85E6-4F9D-ACE8-E12DCE55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2C9C-D6B4-452D-98A8-818F2641A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1BE4-39D6-4D9C-9B83-E4E5A399A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E4A5-D773-4D80-AD9F-C0034545B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FA48-C0FF-4F87-9007-A49290782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D541-51B9-43B2-89F3-35F5B7C9B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B46F-B9B7-4C12-90F3-3AF1CA3F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F33F-A317-40CC-880D-A2B831F42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5 -</a:t>
            </a:r>
            <a:fld id="{B993B946-5D48-4B59-81DB-948EB6E98A53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2AB-AE6E-4DC3-A482-EB283CE79C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5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es in Ac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400"/>
            </a:br>
            <a:br>
              <a:rPr sz="21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6E23-194F-43F5-9F57-351035A5A8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ong-Term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95480"/>
            <a:ext cx="678168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erarc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btai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ime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0228-9053-4A83-9494-B9FC30FF0EE9}" type="slidenum">
              <a:t>10</a:t>
            </a:fld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ong-Term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sts Should Avoid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78168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naging by Extra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naging by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naging by Su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naging by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185C-06AF-4DD3-AF0D-CB3931F56E53}" type="slidenum">
              <a:t>11</a:t>
            </a:fld>
          </a:p>
        </p:txBody>
      </p:sp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Varying Performance Measures by Organizational Leve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2111400"/>
            <a:ext cx="8077320" cy="25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B7CB-4D86-4F02-B2CD-5519D6307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ial vs. 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6765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514600"/>
            <a:ext cx="6782040" cy="324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rowth in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rowth in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er divid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er profit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er earnings per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mprov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8AC9-DADB-4810-8573-50A445C6A11B}" type="slidenum">
              <a:t>13</a:t>
            </a:fld>
          </a:p>
        </p:txBody>
      </p:sp>
    </p:spTree>
  </p:cSld>
  <p:transition>
    <p:cover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ial vs. 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6765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6782040" cy="324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arger 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Quicker on-time delivery than 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Quicker design-to-market times than 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ower costs than 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er product quality than 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ider geographic coverage than 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B93B-420B-450D-B625-956AFEFA5B92}" type="slidenum">
              <a:t>14</a:t>
            </a:fld>
          </a:p>
        </p:txBody>
      </p:sp>
    </p:spTree>
  </p:cSld>
  <p:transition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ial vs. 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514600"/>
            <a:ext cx="6782040" cy="303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ximize short-term financial objectives – harm long-term strategic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ursue increased market share at the expense of short-term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radeoffs related to risk of actions; concern for business ethics; need to preserve natural environment; social responsi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C90E-75A8-45C9-804D-182E18DC2128}" type="slidenum">
              <a:t>15</a:t>
            </a:fld>
          </a:p>
        </p:txBody>
      </p:sp>
    </p:spTree>
  </p:cSld>
  <p:transition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Not</a:t>
            </a: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Managing by Objectiv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ing by extrapo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ing by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ing by su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ing by h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49960" y="2455920"/>
            <a:ext cx="191124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B207-4992-43DB-B042-8BC369FD4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Balanced Score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ert Kaplan &amp; David Norton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895480"/>
            <a:ext cx="6781680" cy="23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ategy evaluation &amp; control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alance financial measures with non-financial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alance shareholder objectives with customer &amp; operational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2117880" cy="14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2B4C-1372-473E-A723-DD11413E52B2}" type="slidenum">
              <a:t>17</a:t>
            </a:fld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990720"/>
            <a:ext cx="8229240" cy="4785840"/>
            <a:chOff x="533520" y="990720"/>
            <a:chExt cx="8229240" cy="4785840"/>
          </a:xfrm>
        </p:grpSpPr>
        <p:sp>
          <p:nvSpPr>
            <p:cNvPr id="155" name="Pyr1"/>
            <p:cNvSpPr/>
            <p:nvPr/>
          </p:nvSpPr>
          <p:spPr>
            <a:xfrm>
              <a:off x="3735720" y="990720"/>
              <a:ext cx="1844640" cy="1060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Pyr2"/>
            <p:cNvSpPr/>
            <p:nvPr/>
          </p:nvSpPr>
          <p:spPr>
            <a:xfrm>
              <a:off x="2667600" y="2051640"/>
              <a:ext cx="3970800" cy="1244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Pyr3"/>
            <p:cNvSpPr/>
            <p:nvPr/>
          </p:nvSpPr>
          <p:spPr>
            <a:xfrm>
              <a:off x="1611360" y="3296160"/>
              <a:ext cx="6083280" cy="1242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Pyr4"/>
            <p:cNvSpPr/>
            <p:nvPr/>
          </p:nvSpPr>
          <p:spPr>
            <a:xfrm>
              <a:off x="533520" y="4532400"/>
              <a:ext cx="8229240" cy="1244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8288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809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514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vis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rg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6DCF-82CD-4E8D-B776-000C69CF2867}" type="slidenum">
              <a:t>18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33520" y="1066680"/>
            <a:ext cx="8229240" cy="4786200"/>
            <a:chOff x="533520" y="1066680"/>
            <a:chExt cx="8229240" cy="4786200"/>
          </a:xfrm>
        </p:grpSpPr>
        <p:sp>
          <p:nvSpPr>
            <p:cNvPr id="165" name="Pyr1"/>
            <p:cNvSpPr/>
            <p:nvPr/>
          </p:nvSpPr>
          <p:spPr>
            <a:xfrm>
              <a:off x="3735720" y="1066680"/>
              <a:ext cx="1844640" cy="1060920"/>
            </a:xfrm>
            <a:prstGeom prst="pie">
              <a:avLst/>
            </a:prstGeom>
            <a:solidFill>
              <a:srgbClr val="e0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Pyr2"/>
            <p:cNvSpPr/>
            <p:nvPr/>
          </p:nvSpPr>
          <p:spPr>
            <a:xfrm>
              <a:off x="2667600" y="2127600"/>
              <a:ext cx="3970800" cy="1244520"/>
            </a:xfrm>
            <a:prstGeom prst="pie">
              <a:avLst/>
            </a:prstGeom>
            <a:solidFill>
              <a:srgbClr val="e0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Pyr3"/>
            <p:cNvSpPr/>
            <p:nvPr/>
          </p:nvSpPr>
          <p:spPr>
            <a:xfrm>
              <a:off x="1611360" y="3372120"/>
              <a:ext cx="6083280" cy="124308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Pyr4"/>
            <p:cNvSpPr/>
            <p:nvPr/>
          </p:nvSpPr>
          <p:spPr>
            <a:xfrm>
              <a:off x="533520" y="4608720"/>
              <a:ext cx="8229240" cy="12441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809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209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n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7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mall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C22D-607C-44A2-97D1-6957A23A6877}" type="slidenum">
              <a:t>19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ong-Term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ypes of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gra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E78D-E189-40BA-A487-21E05558439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5146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tic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523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Forward 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97180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Backward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441972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Horizontal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19047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4290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E675-09EA-4C63-A51E-B4B808B4F194}" type="slidenum">
              <a:t>20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Vertical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Control Over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819520"/>
            <a:ext cx="678204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s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9B4D-2D98-4B68-A55A-09F3D3BB99B7}" type="slidenum">
              <a:t>21</a:t>
            </a:fld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ward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Control Over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819520"/>
            <a:ext cx="678204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s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ta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33A3-740A-4347-BBAB-042A433E8C8E}" type="slidenum">
              <a:t>22</a:t>
            </a:fld>
          </a:p>
        </p:txBody>
      </p:sp>
    </p:spTree>
  </p:cSld>
  <p:transition>
    <p:cover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ward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0"/>
            <a:ext cx="7391520" cy="341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distributors – expensive or 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vailability of quality distributors –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rm competing in industry expected to grow marke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rm has both capital &amp; HR to manage new business of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distributors have high profit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EE04-57DF-4A66-8296-1EB45CA37CD5}" type="slidenum">
              <a:t>23</a:t>
            </a:fld>
          </a:p>
        </p:txBody>
      </p:sp>
    </p:spTree>
  </p:cSld>
  <p:transition>
    <p:cover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ckward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ship or Control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276720"/>
            <a:ext cx="6782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rm’s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7DC4-2D3C-4BE7-8B18-A54865831512}" type="slidenum">
              <a:t>24</a:t>
            </a:fld>
          </a:p>
        </p:txBody>
      </p:sp>
    </p:spTree>
  </p:cSld>
  <p:transition>
    <p:cover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ckward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286000"/>
            <a:ext cx="7391520" cy="360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suppliers – expensive or 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# of suppliers is small; # of competitors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igh growth in industry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rm has both capital &amp; HR to manage new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ble price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suppliers have high profit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367A-9979-4033-B8D5-A8D38F99184C}" type="slidenum">
              <a:t>25</a:t>
            </a:fld>
          </a:p>
        </p:txBody>
      </p:sp>
    </p:spTree>
  </p:cSld>
  <p:transition>
    <p:cover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Horizontal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ship or Control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3276720"/>
            <a:ext cx="6782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rm’s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FB48-33E5-4246-9159-B96C0F036735}" type="slidenum">
              <a:t>26</a:t>
            </a:fld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Horizontal Integ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286000"/>
            <a:ext cx="7391520" cy="3225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ain monopolistic characteristics w/o federal government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etes in growing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creased economies of scale – major competitive 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altering due to lack of managerial expertise or need for particular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3D12-C9C9-4DAD-8517-CD23EFFEDDFF}" type="slidenum">
              <a:t>27</a:t>
            </a:fld>
          </a:p>
        </p:txBody>
      </p:sp>
    </p:spTree>
  </p:cSld>
  <p:transition>
    <p:cover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25146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ns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1523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97180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441972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Product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514600" y="19047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4290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7DF9-4CDC-4440-A15F-F844E4F1F78D}" type="slidenum">
              <a:t>28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ns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ve Effort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8195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rove competitive position with exis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54BD-3CA9-42F4-A4C8-BD147868C62B}" type="slidenum">
              <a:t>29</a:t>
            </a:fld>
          </a:p>
        </p:txBody>
      </p:sp>
    </p:spTree>
  </p:cSld>
  <p:transition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ns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versifica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fens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3B73-3783-422E-BEF5-EA5DF5BA39BF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 Penet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Market Share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276720"/>
            <a:ext cx="678204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esent products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esent mar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reater marketing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8C14-720A-4D13-A97C-ECE4F21E4783}" type="slidenum">
              <a:t>30</a:t>
            </a:fld>
          </a:p>
        </p:txBody>
      </p:sp>
    </p:spTree>
  </p:cSld>
  <p:transition>
    <p:cover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 Penet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286000"/>
            <a:ext cx="7391520" cy="3225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markets not 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sage rate of present customers can be increase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hares of competitors declining; industry sales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creased economies of scale provide major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C29B-1FD4-47EE-9C9A-09409463F1BB}" type="slidenum">
              <a:t>31</a:t>
            </a:fld>
          </a:p>
        </p:txBody>
      </p:sp>
    </p:spTree>
  </p:cSld>
  <p:transition>
    <p:cover dir="l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 Develop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Market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2767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esent products/services to new geographic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CCCC-0260-4C53-A8ED-724DB5D22807}" type="slidenum">
              <a:t>32</a:t>
            </a:fld>
          </a:p>
        </p:txBody>
      </p:sp>
    </p:spTree>
  </p:cSld>
  <p:transition>
    <p:cover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 Develop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286000"/>
            <a:ext cx="7391520" cy="3050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New channels of distribution – reliable, inexpensive, good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rm is successful at what i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ntapped/unsaturated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xcess production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asic industry rapidly becoming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736D-5533-42EC-AFC7-049533041726}" type="slidenum">
              <a:t>33</a:t>
            </a:fld>
          </a:p>
        </p:txBody>
      </p:sp>
    </p:spTree>
  </p:cSld>
  <p:transition>
    <p:cover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 Develop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Sal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276720"/>
            <a:ext cx="678204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roving present products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veloping new products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B314-C934-446E-8CAF-DA2025A876C1}" type="slidenum">
              <a:t>34</a:t>
            </a:fld>
          </a:p>
        </p:txBody>
      </p:sp>
    </p:spTree>
  </p:cSld>
  <p:transition>
    <p:cover dir="l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 Develop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286000"/>
            <a:ext cx="7391520" cy="341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ducts in maturity stage of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dustry characterized by rapid technologic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etitors offer better-quality products @ comparable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ete in high-grow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ong R&amp;D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7BC1-651B-4D09-81B9-C7782E8F64F2}" type="slidenum">
              <a:t>35</a:t>
            </a:fld>
          </a:p>
        </p:txBody>
      </p:sp>
    </p:spTree>
  </p:cSld>
  <p:transition>
    <p:cover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5146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versificati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1523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Rel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41972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Unrelated</a:t>
            </a:r>
            <a:br>
              <a:rPr sz="2000"/>
            </a:b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14600" y="19047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4290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AC8F-D9E7-43E6-9337-C5874FC49C5E}" type="slidenum">
              <a:t>3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versifica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ed – When their value chains posses competitively valuable cross-business strategic f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related – When their value chains are so dissimilar that no competitively valuable cross-business relationships ex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36CE-9CB4-4F6C-A281-40353E8694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lated Diversification Preferred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To Capitalize o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erring competitively valuable expert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the related activities of separate businesses into a single operation to lower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iting common use of a well-known 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business collaboration to create competitively valuable resource strengths and cap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8076-EC79-4DF7-B18F-D3FE699FEC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iversific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Popular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4829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ore difficult to manage diverse busines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6576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648320"/>
            <a:ext cx="67820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greatest risk of being in a single industry is having all your eggs in one bas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6B3F-10AE-4B90-93CA-15D0A7CDE516}" type="slidenum">
              <a:t>39</a:t>
            </a:fld>
          </a:p>
        </p:txBody>
      </p:sp>
    </p:spTree>
  </p:cSld>
  <p:transition>
    <p:cover dir="l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ichael Porter’s Generic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eans for Achiev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rst Mover 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0B18-94D5-4209-AAB4-9825823F06AC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lated Diversification May be Effective Whe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 competes in a no-growth or a slow growth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ng new, but related, products would significantly enhance the sales of current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, but related products could be offered at highly competitive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AF16-911B-4949-AE14-AF50EC3EB69F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lated Diversification May be Effective Whe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, but related, products have seasonal sales levels that counterbalance an organization’s existing peaks and vall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’s products are currently in the declining stage of the product’s life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 has a strong management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E906-E3B8-4EC9-BE16-8BEED36B3338}" type="slidenum">
              <a:t>41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nglomerate Diversific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828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90920"/>
            <a:ext cx="7391520" cy="285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eclining annual sales &amp;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apital &amp; managerial ability to compete in new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nancial synergy between acquired and acquir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rrent markets for present products - 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F7F6-E201-405A-83F8-C6D7B8C21E38}" type="slidenum">
              <a:t>42</a:t>
            </a:fld>
          </a:p>
        </p:txBody>
      </p:sp>
    </p:spTree>
  </p:cSld>
  <p:transition>
    <p:cover dir="l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nrelated Diversifica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vors capitalizing on a portfolio of businesses that are capable of delivering excellent financial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ails hunting to acquire compan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se assets are underval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are financially dist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high growth potential but are short on investment ca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DAAC-26AF-473F-975A-54CD0C0341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nrelated Diversification May be Effective Whe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enues derived from an organization’s current products or services would increase by adding new unrelated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 competes in a highly competitive or a no growth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’s current distribution channels can be used to market new products to existing cust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DE2F-DA26-4CCA-ADF3-FF6D51A2929D}" type="slidenum">
              <a:t>44</a:t>
            </a:fld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nrelated Diversification May be Effective Whe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roducts have countercyclical sales patter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’s basic industry is experiencing declining annual sales and prof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 has the capital and managerial talent to compete successfully in a new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B1F2-890E-42D5-ACA4-68D2DBE3578A}" type="slidenum">
              <a:t>45</a:t>
            </a:fld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nrelated Diversification May be Effective When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zation has the opportunity to purchase an unrelated business as an attractive investment opport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exists financial synergy between the acquired and acquir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isting markets for the present products are satu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itrust action could be charged against a comp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2E5D-5E0A-4160-9EB9-CB3C3638E672}" type="slidenum">
              <a:t>4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ypes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5146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fens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1523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97180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4419720"/>
            <a:ext cx="2362320" cy="8380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d4b4"/>
                </a:solidFill>
                <a:latin typeface="Arial"/>
                <a:ea typeface="Arial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14600" y="19047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4290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6069-DF63-4EA8-B0A0-E2DD0739B27F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trench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ouping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2767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st &amp; asset reduction to reverse declining sales &amp;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1E78-E630-4268-B8C8-36743F183470}" type="slidenum">
              <a:t>48</a:t>
            </a:fld>
          </a:p>
        </p:txBody>
      </p:sp>
    </p:spTree>
  </p:cSld>
  <p:transition>
    <p:cover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ankruptcy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7 – Liqui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9 – Municip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11 – Reorganization for Corpo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12 – Family Far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aper 13 – Reorganization for Small Businesses and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81960" y="533520"/>
            <a:ext cx="176184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ED69-3CF6-489B-B3C0-13AD0B6CCC8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ic Management in Nonprofit &amp;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overnment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ic Management in Smal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C4BB-67FF-4129-B260-91AC9A91B430}" type="slidenum">
              <a:t>5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trench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219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057400"/>
            <a:ext cx="739152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ailed to meet objectives &amp; goals consistency; has distinctive compe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rm is one of weaker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efficiency, low profitability, poor employee morale, pressure for stock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ategic managers have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apid growth in size; major internal reorganizatio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28B9-9AE9-4F5B-9456-3F1922F10A62}" type="slidenum">
              <a:t>50</a:t>
            </a:fld>
          </a:p>
        </p:txBody>
      </p:sp>
    </p:spTree>
  </p:cSld>
  <p:transition>
    <p:cover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ivestitur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362320"/>
            <a:ext cx="678168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elling a division or part of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2651400" cy="19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91AE-D301-4911-A1FA-83590FDF5E5C}" type="slidenum">
              <a:t>51</a:t>
            </a:fld>
          </a:p>
        </p:txBody>
      </p:sp>
    </p:spTree>
  </p:cSld>
  <p:transition>
    <p:cover dir="l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ivestitur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1219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057400"/>
            <a:ext cx="7391520" cy="341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trenchment failed to attain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ision needs more resources than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ision responsible for firm’s overall po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ision is a mis-fit with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Large amount of cash is needed and cannot be raised through othe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969F-5E7E-447F-9360-E6AB8472BF66}" type="slidenum">
              <a:t>52</a:t>
            </a:fld>
          </a:p>
        </p:txBody>
      </p:sp>
    </p:spTree>
  </p:cSld>
  <p:transition>
    <p:cover dir="l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iquid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362320"/>
            <a:ext cx="678168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ompany’s assets, in parts, for their tangible w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371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A6CB-4EB6-45CC-BADF-351862316E60}" type="slidenum">
              <a:t>53</a:t>
            </a:fld>
          </a:p>
        </p:txBody>
      </p:sp>
    </p:spTree>
  </p:cSld>
  <p:transition>
    <p:cover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iquid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600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743200"/>
            <a:ext cx="739116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trenchment &amp; divestiture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nly alternative is bankrupt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inimize stockholder loss by selling firm’s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5C05-8E8D-46CE-8488-A3E1564307E7}" type="slidenum">
              <a:t>54</a:t>
            </a:fld>
          </a:p>
        </p:txBody>
      </p:sp>
    </p:spTree>
  </p:cSld>
  <p:transition>
    <p:cover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380880"/>
            <a:ext cx="6931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Michael Porter’s Generic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37760" y="75693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1523880"/>
            <a:ext cx="4647960" cy="1143000"/>
          </a:xfrm>
          <a:prstGeom prst="rect">
            <a:avLst/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 Leadership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2971800"/>
            <a:ext cx="4647960" cy="1143000"/>
          </a:xfrm>
          <a:prstGeom prst="rect">
            <a:avLst/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fferenti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4419720"/>
            <a:ext cx="4647960" cy="1143000"/>
          </a:xfrm>
          <a:prstGeom prst="rect">
            <a:avLst/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cus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8494-27E3-4853-AB9B-B26229FFB17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816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E06C-659D-43BB-9B78-5A82D4A6958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eneric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2133720"/>
            <a:ext cx="6781680" cy="329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In conjunction with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conomies or diseconomies of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apacity utilization achie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inkages w/ suppliers &amp; dis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14300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st Leadership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ype 1 and Typ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2CB4-60F7-431D-B9DE-A5B901C1631F}" type="slidenum">
              <a:t>57</a:t>
            </a:fld>
          </a:p>
        </p:txBody>
      </p:sp>
    </p:spTree>
  </p:cSld>
  <p:transition>
    <p:cover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Cost Leadership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ys of ensuring total costs across value chain are lower than competitors’ total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value chain activities more efficiently than rivals and control factors that driv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amp the firm’s overall value chain to eliminate or bypass some cost-producing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5D4B-2216-4EB3-81DD-DB856AE3E4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Cost Leadership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especially effective w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competition among rivals is vigor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’s products are identical and supplies are readily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few ways to achieve 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buyers use the product in the sam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yers have low switching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yers are large and have significant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y newcomers use low prices to attract bu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0087-CA7A-4177-B497-85F136F086F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619760" cy="175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Strategies for taking the hill won’t necessarily hold it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r B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es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62012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early bird may get the worm, but the second mouse gets the cheese.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EB65-7306-4D97-AEBB-DEF4AA96DE99}" type="slidenum">
              <a:t>6</a:t>
            </a:fld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eneric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362320"/>
            <a:ext cx="7391160" cy="329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Many price-sensitive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ew ways of achiev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uyers not sensitive to brand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arge # of buyers w/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w Cost Producer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12D0-9099-4584-9867-98B9289D0C69}" type="slidenum">
              <a:t>60</a:t>
            </a:fld>
          </a:p>
        </p:txBody>
      </p:sp>
    </p:spTree>
  </p:cSld>
  <p:transition>
    <p:cover dir="l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eneric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057400"/>
            <a:ext cx="7391520" cy="376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reater product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reater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rove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reater 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or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143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iation (Type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7A2B-DFF5-4172-AD49-37E0CC5D4080}" type="slidenum">
              <a:t>61</a:t>
            </a:fld>
          </a:p>
        </p:txBody>
      </p:sp>
    </p:spTree>
  </p:cSld>
  <p:transition>
    <p:cover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ifferentia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especially effective w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ways to differentiate and many buyers perceive the value of the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yer needs and uses are d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 rival firms are following a similar differentiation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 change is fast paced and competition revolves around evolving product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3B26-8474-48A1-9E59-388067035A0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Generic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2514600"/>
            <a:ext cx="739152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dustry segment of sufficien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ood growth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t crucial to success of major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Strategies (Type 4 &amp;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F0D7-47D8-49F6-924C-2092C532818F}" type="slidenum">
              <a:t>63</a:t>
            </a:fld>
          </a:p>
        </p:txBody>
      </p:sp>
    </p:spTree>
  </p:cSld>
  <p:transition>
    <p:cover dir="l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Focused Strategy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especially effective w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arget market niche is large, profitable, and gro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y leaders do not consider the niche cru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y leaders consider the niche too costly or difficult to m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dustry has many different niches and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, if any, other rivals are attempting to specialize in the same target se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AB45-BA7B-4E74-942D-0595E25F08F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066680" y="345960"/>
            <a:ext cx="651528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C902-9299-481C-A860-308B349B909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eans for Achiev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2819520"/>
            <a:ext cx="799812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wo or more companies form a temporary partnership or consortium for purpose of capitalizing on som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1523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int Venture/Partnering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B092-7744-4E0B-A9F5-43258A72184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asons why Mergers and Acquisitions Fai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ion difficu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adequate evaluation of tar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or extraordinary deb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ability to achieve sy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F62A-BCBF-48F2-9363-A3DB6A91A3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eans for Achiev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819520"/>
            <a:ext cx="8077320" cy="28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&amp;D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ross-distribu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ross-licensing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ross-manufacturing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Joint-bidding consor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operative Arrangement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EA9E-D2E8-4D18-A309-8AECF144CE1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eans for Achiev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2819520"/>
            <a:ext cx="8077320" cy="30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ers who must collaborate daily; not involved in developing the 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enefits the company not th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t supported equally by both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y begin to compete with one of the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Joint Ventures Fail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89D5-76C0-4D49-ABBE-F119E4277DB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es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971440"/>
            <a:ext cx="8229600" cy="20574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Quest for higher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Quest for higher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nies Embrace Strategic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0800" y="3505320"/>
            <a:ext cx="2217600" cy="22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661B-131E-44F3-A67E-1373B157E3C6}" type="slidenum">
              <a:t>7</a:t>
            </a:fld>
          </a:p>
        </p:txBody>
      </p:sp>
    </p:spTree>
  </p:cSld>
  <p:transition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Joint Ven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219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905120"/>
            <a:ext cx="7391520" cy="3972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ynergies between private and publicly h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omestic with foreign firm, local management can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omplementary distinctive compe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sources &amp; risks where project is highly profitable (e.g. Alaska Pipe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wo or more smaller firms competing w/larger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Need to introduce new technology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CFCB-31E9-460D-B7EC-10BC58A4A418}" type="slidenum">
              <a:t>70</a:t>
            </a:fld>
          </a:p>
        </p:txBody>
      </p:sp>
    </p:spTree>
  </p:cSld>
  <p:transition>
    <p:cover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asons why Mergers and Acquisitions Fai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much divers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 overly focused on 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large an acqui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integrate different organizational cul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employee moral due to layoffs and relo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115C-3085-4232-AFA1-1B5121D4033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eans for Achiev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362320"/>
            <a:ext cx="8077320" cy="350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vide improved capacity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etter use of existing sales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duce manageri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ain 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mooth out seasonal trends in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Gain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ccess to new suppliers, distributors, customers, products, 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rgers &amp; Acqui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A89E-9A20-48E3-84C8-6217694BE6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cent Merger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295280"/>
          <a:ext cx="8229600" cy="4386240"/>
        </p:xfrm>
        <a:graphic>
          <a:graphicData uri="http://schemas.openxmlformats.org/drawingml/2006/table">
            <a:tbl>
              <a:tblPr/>
              <a:tblGrid>
                <a:gridCol w="3733920"/>
                <a:gridCol w="4495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cquiring Fi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cquired Fi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cential Softwar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 Mor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 Hanjaya Mandala Sam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S. Ste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ional Steel Cor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ac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IM International Lt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okst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obe Sys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medi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Airway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W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Parcel Serv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night Corp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E25E-4990-432A-B639-7A684CFBFDE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First Mover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514600"/>
            <a:ext cx="807732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enefits a firm may achieve by entering a new market or developing a new product or service prior to riva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9A08-E351-4634-AEE3-B19CD88D387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First Mover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2514600"/>
            <a:ext cx="807732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ecuring access to ra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aining new knowledge of key factors &amp;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arving out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asy to defend position &amp; costly for rival firms to over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523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tial 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0393-F205-4FEE-8DF3-67AD8E4E41D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Outsour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971800"/>
            <a:ext cx="8077320" cy="1371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anies taking over the functional operations of other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1295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-process outsourcing (B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1F18-E7F3-4FAD-9D3B-1DDF08ECC56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Outsour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2971800"/>
            <a:ext cx="830592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ess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llows firm to focus on cor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ables firm to provide bett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752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DD9D-1F45-4F2B-9231-ADAC268FAF8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centric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ackward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glomerat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operativ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rran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bination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st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4A8F-A78F-4A67-AC03-300DDB952200}" type="slidenum">
              <a:t>78</a:t>
            </a:fld>
          </a:p>
        </p:txBody>
      </p:sp>
    </p:spTree>
  </p:cSld>
  <p:transition>
    <p:cover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ersific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orward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ranch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irst Mover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eneric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8D04-5E0A-4C07-9D0C-FE84B5453549}" type="slidenum">
              <a:t>79</a:t>
            </a:fld>
          </a:p>
        </p:txBody>
      </p:sp>
    </p:spTree>
  </p:cSld>
  <p:transition>
    <p:cover dir="l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30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285640"/>
            <a:ext cx="784872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Results expected from pursuing certain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trategies represent actions to accomplish long-term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ong-Term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8BB3-CBBD-466A-927A-FF8890CAE681}" type="slidenum">
              <a:t>8</a:t>
            </a:fld>
          </a:p>
        </p:txBody>
      </p:sp>
    </p:spTree>
  </p:cSld>
  <p:transition>
    <p:cover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orizontal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nsive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orizontal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ostile Take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everaged Bu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gr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F39E-2AF6-4ACE-9B13-0CB464755419}" type="slidenum">
              <a:t>80</a:t>
            </a:fld>
          </a:p>
        </p:txBody>
      </p:sp>
    </p:spTree>
  </p:cSld>
  <p:transition>
    <p:cover dir="l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ong-Term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rke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rket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E610-E6E0-4ABC-B60E-A5B9E1E0162F}" type="slidenum">
              <a:t>81</a:t>
            </a:fld>
          </a:p>
        </p:txBody>
      </p:sp>
    </p:spTree>
  </p:cSld>
  <p:transition>
    <p:cover dir="l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40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Long-Term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00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666880"/>
            <a:ext cx="678204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Quant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hal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2282-989B-4663-B093-EAE8DE7F9C54}" type="slidenum">
              <a:t>9</a:t>
            </a:fld>
          </a:p>
        </p:txBody>
      </p:sp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19:04Z</dcterms:modified>
  <cp:revision>268</cp:revision>
  <dc:subject/>
  <dc:title>Chapter 1  The Nature of Strategic Management </dc:title>
</cp:coreProperties>
</file>