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A727-51F0-481A-B084-FF513DF3E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FD86-233C-42AA-AFF5-06BAA8A61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681B-15CA-49FF-8C9B-51BC9CCD6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19BE-0D42-4CA9-ACF0-0887F6254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5F5A-BB9B-4BFA-A2D1-989273B8F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270E-3D81-4886-A541-1F1741163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7297-E827-4A59-809A-1C2A12D05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C4A5-8C8D-4C33-92D1-B7B70214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4DA7-BD7C-42A1-8AFE-48765CA0E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152E-4629-44B8-8193-A425D4D6E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92D7-18AF-4B1F-8411-F93A50E28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02B-0D47-412D-9717-9A713A9A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4CC5-A2B9-4163-A3A8-436348F35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70D6-990E-4769-92B5-BF2E4B23B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D7B-60BB-4623-97A9-2FD66BEC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A36E-1B8D-4E74-9506-5AB03AB76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F3A0-6F1C-4B56-A36E-DD05937A0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E12B-4210-48C1-AEB7-E318CDB43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5B4B-C3F1-495E-948F-B219282FA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143A-3C2B-430D-8512-BF50A6CB7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9585-CACB-41C8-8F1E-17A58D3E4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A80C-D5BB-4269-A11A-31A3B841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EB8F-DDD0-4D38-BDC8-6F323E5FE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B819-2489-4412-ADB5-5F8DC77E1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7319-D7D2-4EAC-980F-3E7FF03FF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1250-F8C0-4621-9513-7FD5E0EBC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5A35-B81E-4323-85FE-419D46C72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6F1D-2DED-4DBE-9BA3-E45BBE3ED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911C-567B-46E2-B9E4-6958AB742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0F10-2D56-447D-9113-E6CEECFF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840B-77B4-48AC-85AD-7B001FFEA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CF00-C9FA-4B16-8001-6DDBA07A9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DB25-A9FC-4CDB-AC60-9A9449FB4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54DF-C342-441E-9989-E054F0A10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7CF6-9CFC-484B-92CF-E35FC0446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2072-E312-46B9-B865-2D8B7ECAE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EAAA-20EC-4DAB-AF09-25854D643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1FC3-941E-4EAE-8BF6-60BE61864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8C0D-270C-4DC4-B873-D93E7E394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C9A-4C86-4803-B4CB-E52926742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7FCD-A0E8-4F5D-94EC-2D8DA9075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4208-E8FC-4EB3-B8BF-C1AFD67D4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87AE-6752-407D-B799-3D767D4B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069-0230-4CB9-8C14-8DC9CF5C9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A70-D63B-49E4-87B4-7669116CB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5B3B-8B5E-4BB1-BF3B-EBC64A72F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23EB-5610-4A14-ADC7-1C396A4CD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C567-8468-4F08-B164-240AD938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3FAD-B3BF-47D8-88F2-89C68F73D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EE77-D240-4EB8-A1A9-CD49874D3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1A74-E5EE-489A-A930-1A4148B42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7D49-AD2F-4DB3-8693-0BC85FFFD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CEE6-254A-45C2-BB30-131DD6C09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B27-F9C4-4282-BC2C-D77BA081A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9775-4E07-4185-B8C3-2FBF9921D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301E-FEDE-4948-A757-2DF7F9C0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7C1E-A168-4E91-99A4-FBC8EEF3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FE77-F221-4E13-8F09-F7945AE1A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AB9E-8221-4241-955F-364126E83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9E0E-7690-45B0-A764-16DE87F33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79E5E-02F2-45F8-834E-87EBABB3F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EA05-65AF-40FB-B3F8-EAC2E5479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19CC7-A549-4DE9-8548-2A605658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86B8C-6777-4F77-A5A1-AE3B6D59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AA109-B5E1-43FC-B3D9-B62469E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BE8E8-491E-4D53-88AF-C1113F4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6CBEB-445D-448D-9B7B-3D10E03F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6A45E-E396-4BAC-B24C-8CD73601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D4F12-5B3C-4B82-852F-83650EF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1E66-5754-4A3C-930F-AE7572838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6F598-FFFF-46D5-B16F-9BF5319B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2C0DC-EF3D-4D72-B331-D834E32C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65F98-C1C2-4E08-AEAE-0A1C8901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4DE59-E58A-4A72-96A5-4586C079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13B83-E09B-495D-9E31-1260374B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A6F5-F103-49AD-B5A0-67D788C3F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FEA5-F3E0-46DE-89FD-E15F96850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9C6B-EAD3-44C1-8C52-CB5CC41AF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14B2-31AC-40AD-AD7C-154ECD3E4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44E7-91D1-44E7-A6BE-6E56629FD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0EFE-4798-426B-98FF-5F72DE606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6E51-A5B5-4290-A8E4-606D42600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1602f"/>
                </a:solidFill>
                <a:latin typeface="Arial"/>
              </a:rPr>
              <a:t>Copyright 2007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1 -</a:t>
            </a:r>
            <a:fld id="{48317C4A-B211-4AFE-8728-6E258930D074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7291-3234-4C98-B0B8-DE746A5DDA0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Chapter 1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Nature of Strategic Management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3848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rategic Management: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cepts &amp;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1</a:t>
            </a:r>
            <a:r>
              <a:rPr b="1" lang="en-US" sz="2400" spc="-1" strike="noStrike" baseline="30000">
                <a:solidFill>
                  <a:srgbClr val="8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red David</a:t>
            </a:r>
            <a:br>
              <a:rPr sz="2400"/>
            </a:br>
            <a:br>
              <a:rPr sz="2100"/>
            </a:br>
            <a:br>
              <a:rPr sz="2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2851200"/>
            <a:ext cx="28954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DE37-1968-4F35-B9A5-55D413A962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09480"/>
            <a:ext cx="3962520" cy="106704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rateg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2209680"/>
            <a:ext cx="3886200" cy="60984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Internal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1676520"/>
            <a:ext cx="0" cy="312408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80060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27672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51460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2971800"/>
            <a:ext cx="3886200" cy="6094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xternal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3733920"/>
            <a:ext cx="3886200" cy="6094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erformance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3886200" cy="60984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403848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0E66-497F-4407-BDB9-90EC45BC8782}" type="slidenum">
              <a:t>10</a:t>
            </a:fld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4572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Strateg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ocuments"/>
          <p:cNvSpPr/>
          <p:nvPr/>
        </p:nvSpPr>
        <p:spPr>
          <a:xfrm>
            <a:off x="2666880" y="609480"/>
            <a:ext cx="5486400" cy="5334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Final Stage of Strategic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future 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ay’s success no guarantee of future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&amp; different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lacency leads to de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BFA9-2B5A-41B0-9F0E-34053435353D}" type="slidenum">
              <a:t>11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80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663300"/>
                </a:solidFill>
                <a:latin typeface="Arial"/>
              </a:rPr>
              <a:t>Peter Drucker</a:t>
            </a:r>
            <a:r>
              <a:rPr b="0" i="1" lang="en-US" sz="3400" spc="-1" strike="noStrike">
                <a:solidFill>
                  <a:srgbClr val="663300"/>
                </a:solidFill>
                <a:latin typeface="Arial"/>
              </a:rPr>
              <a:t>: --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nk through the overall mission of a business.  Ask the key question</a:t>
            </a:r>
            <a:r>
              <a:rPr b="0" lang="en-US" sz="3400" spc="-1" strike="noStrike">
                <a:solidFill>
                  <a:srgbClr val="663300"/>
                </a:solidFill>
                <a:latin typeface="Arial"/>
              </a:rPr>
              <a:t>:  “</a:t>
            </a: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What is our Business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Prime Task of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c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715000" y="3581280"/>
            <a:ext cx="3169800" cy="2482920"/>
            <a:chOff x="5715000" y="3581280"/>
            <a:chExt cx="3169800" cy="2482920"/>
          </a:xfrm>
        </p:grpSpPr>
        <p:sp>
          <p:nvSpPr>
            <p:cNvPr id="161" name="Puzzle3"/>
            <p:cNvSpPr/>
            <p:nvPr/>
          </p:nvSpPr>
          <p:spPr>
            <a:xfrm>
              <a:off x="7258680" y="3581280"/>
              <a:ext cx="1245960" cy="13194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Puzzle2"/>
            <p:cNvSpPr/>
            <p:nvPr/>
          </p:nvSpPr>
          <p:spPr>
            <a:xfrm>
              <a:off x="6896160" y="4542480"/>
              <a:ext cx="1988640" cy="12016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Puzzle4"/>
            <p:cNvSpPr/>
            <p:nvPr/>
          </p:nvSpPr>
          <p:spPr>
            <a:xfrm>
              <a:off x="6126480" y="4527720"/>
              <a:ext cx="1198800" cy="15364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Puzzle1"/>
            <p:cNvSpPr/>
            <p:nvPr/>
          </p:nvSpPr>
          <p:spPr>
            <a:xfrm>
              <a:off x="5715000" y="3980160"/>
              <a:ext cx="2013480" cy="9158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7C80-9F3A-4F6B-BFE3-CE46BC7AEC8C}" type="slidenum">
              <a:t>12</a:t>
            </a:fld>
          </a:p>
        </p:txBody>
      </p:sp>
    </p:spTree>
  </p:cSld>
  <p:transition>
    <p:cover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120" y="2362320"/>
            <a:ext cx="7696440" cy="266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The strategic management process attempts to organize quantitative and qualitative information under conditions of uncertai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grating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Intuition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5A2C-1110-4214-90FA-F299D6760590}" type="slidenum">
              <a:t>13</a:t>
            </a:fld>
          </a:p>
        </p:txBody>
      </p:sp>
    </p:spTree>
  </p:cSld>
  <p:transition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769644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ntuition is ba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ast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Jud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Integrating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Intuition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886200"/>
            <a:ext cx="769644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Intuition is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useful for decision making 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onditions of great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onditions with little pr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29068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6D8E-C5A2-4F56-91D4-0D087A4016D2}" type="slidenum">
              <a:t>14</a:t>
            </a:fld>
          </a:p>
        </p:txBody>
      </p:sp>
    </p:spTree>
  </p:cSld>
  <p:transition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200400"/>
            <a:ext cx="38862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Involve Management at all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75248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uition &amp; Jud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4191120"/>
            <a:ext cx="38862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Influence all Analy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2666880"/>
            <a:ext cx="914400" cy="1752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4000 h 1752840"/>
              <a:gd name="textAreaBottom" fmla="*/ 118404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88" stAng="-5400000" swAng="-5400000"/>
                <a:lnTo>
                  <a:pt x="0" y="10598"/>
                </a:lnTo>
                <a:arcTo wR="21600" hR="7988" stAng="10800000" swAng="-2545919"/>
                <a:lnTo>
                  <a:pt x="13500" y="21017"/>
                </a:lnTo>
                <a:lnTo>
                  <a:pt x="21600" y="17280"/>
                </a:lnTo>
                <a:lnTo>
                  <a:pt x="13500" y="12377"/>
                </a:lnTo>
                <a:lnTo>
                  <a:pt x="13500" y="15392"/>
                </a:lnTo>
                <a:arcTo wR="21600" hR="7988" stAng="8254081" swAng="2335655"/>
                <a:lnTo>
                  <a:pt x="290" y="9293"/>
                </a:lnTo>
                <a:arcTo wR="21600" hR="7988" stAng="-10589737" swAng="5189737"/>
                <a:close/>
              </a:path>
              <a:path fill="darkenLess" w="21600" h="21600">
                <a:moveTo>
                  <a:pt x="21600" y="0"/>
                </a:moveTo>
                <a:arcTo wR="21600" hR="7988" stAng="-5400000" swAng="-5400000"/>
                <a:lnTo>
                  <a:pt x="0" y="7988"/>
                </a:lnTo>
                <a:arcTo wR="21600" hR="7988" stAng="10800000" swAng="-210263"/>
                <a:lnTo>
                  <a:pt x="290" y="9293"/>
                </a:lnTo>
                <a:arcTo wR="21600" hR="7988" stAng="-10589737" swAng="5189737"/>
                <a:close/>
              </a:path>
            </a:pathLst>
          </a:cu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572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Integrating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Intuition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 &amp;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B448-EB89-4043-ABE9-2667E749A34D}" type="slidenum">
              <a:t>15</a:t>
            </a:fld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182880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tical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572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Integrating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Intuition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 &amp;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411480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uitive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2819520"/>
            <a:ext cx="457200" cy="121896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2EF4-B318-4E04-9CC7-9B61E9EB8DD9}" type="slidenum">
              <a:t>16</a:t>
            </a:fld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Organizations must monitor ev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On-going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nternal and external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imel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Adapting t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3FDF-1B0D-4E3A-A307-DE08B8F6ABEA}" type="slidenum">
              <a:t>17</a:t>
            </a:fld>
          </a:p>
        </p:txBody>
      </p:sp>
    </p:spTree>
  </p:cSld>
  <p:transition>
    <p:cover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620120" cy="2362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ything that a firm does especially well compared to rival firms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c Management is Gaining and Maintaining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Competitive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E72F-B8A0-49E0-8037-D3878CE51EDC}" type="slidenum">
              <a:t>18</a:t>
            </a:fld>
          </a:p>
        </p:txBody>
      </p:sp>
    </p:spTree>
  </p:cSld>
  <p:transition>
    <p:cover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620120" cy="129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dapting to change in external trends, internal capabilities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Achieving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Sustained Competitive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505320"/>
            <a:ext cx="7620120" cy="144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ffectively formulating, implementing &amp; evaluating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447560" cy="125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6222-3EBF-4A94-A244-3EA10D7F8A5C}" type="slidenum">
              <a:t>19</a:t>
            </a:fld>
          </a:p>
        </p:txBody>
      </p:sp>
    </p:spTree>
  </p:cSld>
  <p:transition>
    <p:cover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Themes in the Tex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447920"/>
            <a:ext cx="7543800" cy="45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Global Considerations</a:t>
            </a: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virtually all strategic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E-commerce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l strategic management t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Natural environment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rategic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3716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343400"/>
            <a:ext cx="7924680" cy="12193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0D1D-5D9B-4276-8311-95EB135535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927000"/>
            <a:ext cx="853416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2904-5DB1-400B-8CF7-5799CB100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129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ate &amp; magnitude of change increasing dra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Adapting t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1523880" cy="1468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666880" y="3124080"/>
            <a:ext cx="38862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4038480"/>
            <a:ext cx="38862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Demo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029200"/>
            <a:ext cx="388620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828800" y="36576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912960" cy="76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0964-DC9A-42A9-9962-B9D0B04C96FC}" type="slidenum">
              <a:t>21</a:t>
            </a:fld>
          </a:p>
        </p:txBody>
      </p:sp>
    </p:spTree>
  </p:cSld>
  <p:transition>
    <p:cover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620120" cy="129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700" spc="-1" strike="noStrike">
                <a:solidFill>
                  <a:srgbClr val="800000"/>
                </a:solidFill>
                <a:latin typeface="Arial"/>
              </a:rPr>
              <a:t>Effective Adaptation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Adapting t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248520" y="3352680"/>
            <a:ext cx="1698480" cy="1517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371600" y="3276720"/>
            <a:ext cx="4876920" cy="17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s long-term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4A85-5E4A-4A4A-805D-EB604B08EE79}" type="slidenum">
              <a:t>22</a:t>
            </a:fld>
          </a:p>
        </p:txBody>
      </p:sp>
    </p:spTree>
  </p:cSld>
  <p:transition>
    <p:cover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586728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hat kind of business should we be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re we in the right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re there new competi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hat strategies should we purs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How are our customers changing?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5720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Adapting to Change – Key Strategic Managemen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190332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1398-00B5-4881-B840-A10F487D7F12}" type="slidenum">
              <a:t>23</a:t>
            </a:fld>
          </a:p>
        </p:txBody>
      </p:sp>
    </p:spTree>
  </p:cSld>
  <p:transition>
    <p:cover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Key Ter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2362320"/>
            <a:ext cx="6933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ous Job Title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hief Executive Officer (C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hief Strategy Officer (C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Board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219320"/>
            <a:ext cx="8153280" cy="143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trategists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– Firm’s success/fail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D3D9-DA27-483C-92B3-455312079E8B}" type="slidenum">
              <a:t>24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5438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on Statement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What do we want to be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 Statement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What is our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2209680" cy="26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F911-0FC7-4B49-A4AB-A9EC60A70D8B}" type="slidenum">
              <a:t>25</a:t>
            </a:fld>
          </a:p>
        </p:txBody>
      </p:sp>
    </p:spTree>
  </p:cSld>
  <p:transition>
    <p:cover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7720" y="350532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ly beyond the control of a singl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600200"/>
            <a:ext cx="815364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pportunities and Threats (Externa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98A9-10E0-4AB8-B9D0-9BF27F59FDD0}" type="slidenum">
              <a:t>26</a:t>
            </a:fld>
          </a:p>
        </p:txBody>
      </p:sp>
    </p:spTree>
  </p:cSld>
  <p:transition>
    <p:cover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543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Opportunities &amp; Threats (Ex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057400"/>
            <a:ext cx="7010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of Tren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Demographic/Environ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Political, Legal, Govern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Techn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10672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FADD-2864-49A0-8C51-A0125C12A560}" type="slidenum">
              <a:t>27</a:t>
            </a:fld>
          </a:p>
        </p:txBody>
      </p:sp>
    </p:spTree>
  </p:cSld>
  <p:transition>
    <p:cover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3160" y="3352680"/>
            <a:ext cx="8001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conducting research and gathering and assimilating exter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Opportunities &amp; 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905120"/>
            <a:ext cx="815364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nvironmental Scanning (Industry Analysi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DAE2-C3C2-441B-9F09-8FB88473F85C}" type="slidenum">
              <a:t>28</a:t>
            </a:fld>
          </a:p>
        </p:txBody>
      </p:sp>
    </p:spTree>
  </p:cSld>
  <p:transition>
    <p:cover dir="l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enet of Strategic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Opportunities &amp; 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895480"/>
            <a:ext cx="2819160" cy="2286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Strategy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ilecab3"/>
          <p:cNvSpPr/>
          <p:nvPr/>
        </p:nvSpPr>
        <p:spPr>
          <a:xfrm>
            <a:off x="4952880" y="2666880"/>
            <a:ext cx="3810240" cy="1295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e advantag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Extern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ilecab3"/>
          <p:cNvSpPr/>
          <p:nvPr/>
        </p:nvSpPr>
        <p:spPr>
          <a:xfrm>
            <a:off x="4952880" y="4572000"/>
            <a:ext cx="3810240" cy="12193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oid/minimize impac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External Thr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2670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40384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FD79-10F2-4CDE-AFA0-A368524B62CA}" type="slidenum">
              <a:t>29</a:t>
            </a:fld>
          </a:p>
        </p:txBody>
      </p:sp>
    </p:spTree>
  </p:cSld>
  <p:transition>
    <p:cover dir="l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80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i="1" lang="en-US" sz="3400" spc="-1" strike="noStrike">
                <a:solidFill>
                  <a:srgbClr val="663300"/>
                </a:solidFill>
                <a:latin typeface="Arial"/>
              </a:rPr>
              <a:t>Art &amp; science of </a:t>
            </a: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formulating</a:t>
            </a:r>
            <a:r>
              <a:rPr b="0" i="1" lang="en-US" sz="3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implementing</a:t>
            </a:r>
            <a:r>
              <a:rPr b="0" i="1" lang="en-US" sz="3400" spc="-1" strike="noStrike">
                <a:solidFill>
                  <a:srgbClr val="663300"/>
                </a:solidFill>
                <a:latin typeface="Arial"/>
              </a:rPr>
              <a:t>, and </a:t>
            </a: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evaluating</a:t>
            </a:r>
            <a:r>
              <a:rPr b="0" i="1" lang="en-US" sz="3400" spc="-1" strike="noStrike">
                <a:solidFill>
                  <a:srgbClr val="663300"/>
                </a:solidFill>
                <a:latin typeface="Arial"/>
              </a:rPr>
              <a:t>, cross-functional decisions that enable an organization to achieve its objective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c Management –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3269-79A1-4D70-8597-8C1984B70341}" type="slidenum">
              <a:t>3</a:t>
            </a:fld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61760" y="335268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able activities performed especially well or po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371600"/>
            <a:ext cx="746748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Strengths &amp; Weaknesses (Interna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41E9-BE20-4588-9362-F8E57630EA83}" type="slidenum">
              <a:t>30</a:t>
            </a:fld>
          </a:p>
        </p:txBody>
      </p:sp>
    </p:spTree>
  </p:cSld>
  <p:transition>
    <p:cover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543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trengths &amp; Weaknesses (In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362320"/>
            <a:ext cx="7010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located in functional areas of the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Finance/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Production/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omputer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546640" cy="19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F528-CA65-42D8-A2FE-DC932BC2195C}" type="slidenum">
              <a:t>31</a:t>
            </a:fld>
          </a:p>
        </p:txBody>
      </p:sp>
    </p:spTree>
  </p:cSld>
  <p:transition>
    <p:cover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ing the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engths &amp; 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2971800"/>
            <a:ext cx="2819160" cy="2286000"/>
          </a:xfrm>
          <a:prstGeom prst="ellipse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Internal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3429000"/>
            <a:ext cx="29718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590920"/>
            <a:ext cx="29718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4267080"/>
            <a:ext cx="297180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stry 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5105520"/>
            <a:ext cx="29718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rve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809880" y="289512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09880" y="37339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41148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079F-6954-4C2B-B700-57728EF92A67}" type="slidenum">
              <a:t>32</a:t>
            </a:fld>
          </a:p>
        </p:txBody>
      </p:sp>
    </p:spTree>
  </p:cSld>
  <p:transition>
    <p:cover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7720" y="350532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-driven pursuit of specified results more than one yea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600200"/>
            <a:ext cx="815364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Long-term Objectiv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AA5F-13F0-4F43-B5BC-88C1620D588B}" type="slidenum">
              <a:t>33</a:t>
            </a:fld>
          </a:p>
        </p:txBody>
      </p:sp>
    </p:spTree>
  </p:cSld>
  <p:transition>
    <p:cover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543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Long-term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362320"/>
            <a:ext cx="70102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ential for ensuring the firm’s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Provide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Aid in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reate sy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Focus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Basis for planning, motivating, and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172200" y="2514600"/>
            <a:ext cx="1536840" cy="253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664D-95EA-4D23-B0CB-BE230E57FE0E}" type="slidenum">
              <a:t>34</a:t>
            </a:fld>
          </a:p>
        </p:txBody>
      </p:sp>
    </p:spTree>
  </p:cSld>
  <p:transition>
    <p:cover dir="l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350532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by which long-term objectives are ach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600200"/>
            <a:ext cx="8153640" cy="149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Strategies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E075-D484-4175-8220-79C22D0CFD37}" type="slidenum">
              <a:t>35</a:t>
            </a:fld>
          </a:p>
        </p:txBody>
      </p:sp>
    </p:spTree>
  </p:cSld>
  <p:transition>
    <p:cover dir="l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543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2209680"/>
            <a:ext cx="7010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Geographic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Market pene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Retren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Joint ven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95840" y="1901880"/>
            <a:ext cx="3941640" cy="39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BA58-4CEB-427A-8A80-88A17AA1E6B4}" type="slidenum">
              <a:t>36</a:t>
            </a:fld>
          </a:p>
        </p:txBody>
      </p:sp>
    </p:spTree>
  </p:cSld>
  <p:transition>
    <p:cover dir="l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7720" y="350532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term milestones that firms must achieve to attain long-term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600200"/>
            <a:ext cx="8153640" cy="1617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Annual Objectiv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0234-63F9-4E21-8325-BBD41BBC369B}" type="slidenum">
              <a:t>37</a:t>
            </a:fld>
          </a:p>
        </p:txBody>
      </p:sp>
    </p:spTree>
  </p:cSld>
  <p:transition>
    <p:cover dir="l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7720" y="350532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by which annual objectives will be ach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Key Te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600200"/>
            <a:ext cx="8153640" cy="1617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Polic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4DC0-E0C1-438D-86A8-E110DF95DED2}" type="slidenum">
              <a:t>38</a:t>
            </a:fld>
          </a:p>
        </p:txBody>
      </p:sp>
    </p:spTree>
  </p:cSld>
  <p:transition>
    <p:cover dir="l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xample Strategies in Action in 2005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76240" y="990720"/>
            <a:ext cx="739152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CC4D-38BC-4452-9D6F-230315F1A1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c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198144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ssence, the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strategic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company’s </a:t>
            </a:r>
            <a:r>
              <a:rPr b="1" i="1" lang="en-US" sz="3000" spc="-1" strike="noStrike">
                <a:solidFill>
                  <a:srgbClr val="800000"/>
                </a:solidFill>
                <a:latin typeface="Arial"/>
              </a:rPr>
              <a:t>game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FDC1-E7AB-49A2-80ED-C8817E697A64}" type="slidenum">
              <a:t>4</a:t>
            </a:fld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xample Strategies in Action in 2005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19040" y="957240"/>
            <a:ext cx="8305920" cy="52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DCF55-41AF-4E70-B773-18931D0592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47920" y="1098720"/>
            <a:ext cx="992160" cy="1198440"/>
          </a:xfrm>
          <a:custGeom>
            <a:avLst/>
            <a:gdLst/>
            <a:ahLst/>
            <a:rect l="l" t="t" r="r" b="b"/>
            <a:pathLst>
              <a:path w="625" h="755">
                <a:moveTo>
                  <a:pt x="0" y="0"/>
                </a:moveTo>
                <a:lnTo>
                  <a:pt x="0" y="754"/>
                </a:lnTo>
                <a:lnTo>
                  <a:pt x="624" y="754"/>
                </a:lnTo>
                <a:lnTo>
                  <a:pt x="624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44760" y="1143000"/>
            <a:ext cx="7966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425840"/>
            <a:ext cx="992160" cy="1198800"/>
          </a:xfrm>
          <a:custGeom>
            <a:avLst/>
            <a:gdLst/>
            <a:ahLst/>
            <a:rect l="l" t="t" r="r" b="b"/>
            <a:pathLst>
              <a:path w="625" h="755">
                <a:moveTo>
                  <a:pt x="0" y="0"/>
                </a:moveTo>
                <a:lnTo>
                  <a:pt x="0" y="754"/>
                </a:lnTo>
                <a:lnTo>
                  <a:pt x="624" y="754"/>
                </a:lnTo>
                <a:lnTo>
                  <a:pt x="624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44760" y="4470480"/>
            <a:ext cx="7966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2762280"/>
            <a:ext cx="992160" cy="1198440"/>
          </a:xfrm>
          <a:custGeom>
            <a:avLst/>
            <a:gdLst/>
            <a:ahLst/>
            <a:rect l="l" t="t" r="r" b="b"/>
            <a:pathLst>
              <a:path w="625" h="755">
                <a:moveTo>
                  <a:pt x="0" y="0"/>
                </a:moveTo>
                <a:lnTo>
                  <a:pt x="0" y="754"/>
                </a:lnTo>
                <a:lnTo>
                  <a:pt x="624" y="754"/>
                </a:lnTo>
                <a:lnTo>
                  <a:pt x="624" y="0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54240" y="2806560"/>
            <a:ext cx="797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ng-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2762280"/>
            <a:ext cx="992160" cy="1198440"/>
          </a:xfrm>
          <a:custGeom>
            <a:avLst/>
            <a:gdLst/>
            <a:ahLst/>
            <a:rect l="l" t="t" r="r" b="b"/>
            <a:pathLst>
              <a:path w="625" h="755">
                <a:moveTo>
                  <a:pt x="0" y="0"/>
                </a:moveTo>
                <a:lnTo>
                  <a:pt x="0" y="754"/>
                </a:lnTo>
                <a:lnTo>
                  <a:pt x="624" y="754"/>
                </a:lnTo>
                <a:lnTo>
                  <a:pt x="624" y="0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02160" y="2806560"/>
            <a:ext cx="7966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ener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valu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2762280"/>
            <a:ext cx="992160" cy="1198440"/>
          </a:xfrm>
          <a:custGeom>
            <a:avLst/>
            <a:gdLst/>
            <a:ahLst/>
            <a:rect l="l" t="t" r="r" b="b"/>
            <a:pathLst>
              <a:path w="625" h="755">
                <a:moveTo>
                  <a:pt x="0" y="0"/>
                </a:moveTo>
                <a:lnTo>
                  <a:pt x="0" y="754"/>
                </a:lnTo>
                <a:lnTo>
                  <a:pt x="624" y="754"/>
                </a:lnTo>
                <a:lnTo>
                  <a:pt x="624" y="0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73760" y="2806560"/>
            <a:ext cx="7966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rateg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gmt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762280"/>
            <a:ext cx="992160" cy="1198440"/>
          </a:xfrm>
          <a:custGeom>
            <a:avLst/>
            <a:gdLst/>
            <a:ahLst/>
            <a:rect l="l" t="t" r="r" b="b"/>
            <a:pathLst>
              <a:path w="625" h="755">
                <a:moveTo>
                  <a:pt x="0" y="0"/>
                </a:moveTo>
                <a:lnTo>
                  <a:pt x="0" y="754"/>
                </a:lnTo>
                <a:lnTo>
                  <a:pt x="624" y="754"/>
                </a:lnTo>
                <a:lnTo>
                  <a:pt x="624" y="0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21320" y="2806560"/>
            <a:ext cx="797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rateg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rket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/Acc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&amp;D, C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762280"/>
            <a:ext cx="992160" cy="1198440"/>
          </a:xfrm>
          <a:custGeom>
            <a:avLst/>
            <a:gdLst/>
            <a:ahLst/>
            <a:rect l="l" t="t" r="r" b="b"/>
            <a:pathLst>
              <a:path w="625" h="755">
                <a:moveTo>
                  <a:pt x="0" y="0"/>
                </a:moveTo>
                <a:lnTo>
                  <a:pt x="0" y="754"/>
                </a:lnTo>
                <a:lnTo>
                  <a:pt x="624" y="754"/>
                </a:lnTo>
                <a:lnTo>
                  <a:pt x="624" y="0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69240" y="2806560"/>
            <a:ext cx="797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asure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01760" y="3360600"/>
            <a:ext cx="755640" cy="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54240" y="3360600"/>
            <a:ext cx="451080" cy="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02160" y="3360600"/>
            <a:ext cx="374760" cy="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73760" y="3360600"/>
            <a:ext cx="450720" cy="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21680" y="3360600"/>
            <a:ext cx="450720" cy="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25640" y="2349360"/>
            <a:ext cx="0" cy="20574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838080"/>
            <a:ext cx="0" cy="1924200"/>
          </a:xfrm>
          <a:prstGeom prst="line">
            <a:avLst/>
          </a:prstGeom>
          <a:ln w="507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8240" y="831960"/>
            <a:ext cx="7461360" cy="0"/>
          </a:xfrm>
          <a:prstGeom prst="line">
            <a:avLst/>
          </a:prstGeom>
          <a:ln w="572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8229600" y="825120"/>
            <a:ext cx="0" cy="1924200"/>
          </a:xfrm>
          <a:prstGeom prst="line">
            <a:avLst/>
          </a:prstGeom>
          <a:ln w="507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62120" y="4184640"/>
            <a:ext cx="0" cy="1765440"/>
          </a:xfrm>
          <a:prstGeom prst="line">
            <a:avLst/>
          </a:prstGeom>
          <a:ln w="507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8240" y="5956200"/>
            <a:ext cx="7461360" cy="0"/>
          </a:xfrm>
          <a:prstGeom prst="line">
            <a:avLst/>
          </a:prstGeom>
          <a:ln w="572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037040"/>
            <a:ext cx="0" cy="1919160"/>
          </a:xfrm>
          <a:prstGeom prst="line">
            <a:avLst/>
          </a:prstGeom>
          <a:ln w="507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736720"/>
            <a:ext cx="914400" cy="137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Comprehensive strategic management model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19E1-7D56-4447-9C68-B3B0E3FB2ACE}" type="slidenum">
              <a:t>41</a:t>
            </a:fld>
          </a:p>
        </p:txBody>
      </p:sp>
    </p:spTree>
  </p:cSld>
  <p:transition>
    <p:cover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7720" y="350532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&amp;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ormal in larger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c Managemen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1600200"/>
            <a:ext cx="8153640" cy="1617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Strategic Management Proces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BC72-61BA-4BC0-BCB7-58128E1146F3}" type="slidenum">
              <a:t>42</a:t>
            </a:fld>
          </a:p>
        </p:txBody>
      </p:sp>
    </p:spTree>
  </p:cSld>
  <p:transition>
    <p:cover dir="l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543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1.  Identify Existing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c Managemen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2438280"/>
            <a:ext cx="7010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C7DD-B257-4CEC-8E5F-88ECAF289373}" type="slidenum">
              <a:t>43</a:t>
            </a:fld>
          </a:p>
        </p:txBody>
      </p:sp>
    </p:spTree>
  </p:cSld>
  <p:transition>
    <p:cover dir="l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761760" y="1752120"/>
            <a:ext cx="7543800" cy="342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udit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udit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stablish long-term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Generate, evaluate &amp; selec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mplement selec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asure &amp; evaluat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c Managemen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D899-204A-441C-884A-0E6950B2C6F4}" type="slidenum">
              <a:t>44</a:t>
            </a:fld>
          </a:p>
        </p:txBody>
      </p:sp>
    </p:spTree>
  </p:cSld>
  <p:transition>
    <p:cover dir="l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enefits of Strategic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133720"/>
            <a:ext cx="8153280" cy="271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active in shaping firm’s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e and influence firm’s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ulate better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ystematic, logical, r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8186-0DA1-400E-8AD0-1A738525B883}" type="slidenum">
              <a:t>45</a:t>
            </a:fld>
          </a:p>
        </p:txBody>
      </p:sp>
    </p:spTree>
  </p:cSld>
  <p:transition>
    <p:cover dir="l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enefits of Strategic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133720"/>
            <a:ext cx="81532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inancial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3200400"/>
            <a:ext cx="6781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ment in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ment in prof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018040" y="2154240"/>
            <a:ext cx="3297240" cy="34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1C5A-CCF6-4D22-9D6C-BA7C414656A4}" type="slidenum">
              <a:t>46</a:t>
            </a:fld>
          </a:p>
        </p:txBody>
      </p:sp>
    </p:spTree>
  </p:cSld>
  <p:transition>
    <p:cover dir="l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enefits of Strategic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2133720"/>
            <a:ext cx="81532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on-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inancial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3124080"/>
            <a:ext cx="78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d understanding of competitors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hanced awareness of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ced resistance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hanced problem-preventio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9BA2-CECF-4C37-A43F-38B631C0728D}" type="slidenum">
              <a:t>47</a:t>
            </a:fld>
          </a:p>
        </p:txBody>
      </p:sp>
    </p:spTree>
  </p:cSld>
  <p:transition>
    <p:cover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enefits of Strategic Management (Greenl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2133720"/>
            <a:ext cx="8153280" cy="311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dentification of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bjective view of manageme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mproved coordination &amp;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Minimizes adverse conditions &amp;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cisions that better support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574B-E616-431F-B8BE-66C3D32A0B4A}" type="slidenum">
              <a:t>48</a:t>
            </a:fld>
          </a:p>
        </p:txBody>
      </p:sp>
    </p:spTree>
  </p:cSld>
  <p:transition>
    <p:cover dir="l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enefits of Strategic Management (Greenley –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2133720"/>
            <a:ext cx="8153280" cy="311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ffective allocation of time &amp;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rnal communication among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gration of individual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Clarify individual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ncourage forward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B79F-0C58-48EA-92C1-AE9726E93698}" type="slidenum">
              <a:t>49</a:t>
            </a:fld>
          </a:p>
        </p:txBody>
      </p:sp>
    </p:spTree>
  </p:cSld>
  <p:transition>
    <p:cover dir="l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45720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rategic Management achieves a firm’s success through integration 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  <a:ea typeface="Arial"/>
              </a:rPr>
              <a:t>–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3048120"/>
            <a:ext cx="312444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4191120"/>
            <a:ext cx="3124080" cy="6094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3581280"/>
            <a:ext cx="3124080" cy="6098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Production/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3581280"/>
            <a:ext cx="3124440" cy="609840"/>
          </a:xfrm>
          <a:prstGeom prst="rect">
            <a:avLst/>
          </a:prstGeom>
          <a:solidFill>
            <a:srgbClr val="e0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Finance/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048120"/>
            <a:ext cx="3124080" cy="53316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ddcb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191120"/>
            <a:ext cx="3124440" cy="609480"/>
          </a:xfrm>
          <a:prstGeom prst="rect">
            <a:avLst/>
          </a:prstGeom>
          <a:solidFill>
            <a:srgbClr val="e3d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  <a:ea typeface="Arial"/>
              </a:rPr>
              <a:t>Research &amp;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09680"/>
            <a:ext cx="8610480" cy="3505320"/>
          </a:xfrm>
          <a:prstGeom prst="ellipse">
            <a:avLst/>
          </a:prstGeom>
          <a:noFill/>
          <a:ln w="7632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6FF8-AB07-4BF7-BCB2-BA12A0F4CBB8}" type="slidenum">
              <a:t>5</a:t>
            </a:fld>
          </a:p>
        </p:txBody>
      </p:sp>
    </p:spTree>
  </p:cSld>
  <p:transition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enefits of Strategic Management (Greenley 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cont’d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666880"/>
            <a:ext cx="8153280" cy="202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80000"/>
              <a:buFont typeface="Arial"/>
              <a:buAutoNum type="arabi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ncourages favorable attitude toward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SzPct val="80000"/>
              <a:buFont typeface="Arial"/>
              <a:buAutoNum type="arabi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rovides discipline and formality to the management of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0BC4F-68C5-4C88-ADA4-E7717B4F8BFF}" type="slidenum">
              <a:t>50</a:t>
            </a:fld>
          </a:p>
        </p:txBody>
      </p:sp>
    </p:spTree>
  </p:cSld>
  <p:transition>
    <p:cover dir="l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Why Some Firms Do </a:t>
            </a:r>
            <a:r>
              <a:rPr b="1" lang="en-US" sz="3200" spc="-1" strike="noStrike" u="sng">
                <a:solidFill>
                  <a:srgbClr val="006633"/>
                </a:solidFill>
                <a:uFillTx/>
                <a:latin typeface="Arial"/>
              </a:rPr>
              <a:t>No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 Strategic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1905120"/>
            <a:ext cx="8153280" cy="3764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or reward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e-f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te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z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 with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5181-7D07-4DB9-8E58-3F95DA57350D}" type="slidenum">
              <a:t>51</a:t>
            </a:fld>
          </a:p>
        </p:txBody>
      </p:sp>
    </p:spTree>
  </p:cSld>
  <p:transition>
    <p:cover dir="l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Why Some Firms Do </a:t>
            </a:r>
            <a:r>
              <a:rPr b="1" lang="en-US" sz="3200" spc="-1" strike="noStrike" u="sng">
                <a:solidFill>
                  <a:srgbClr val="006633"/>
                </a:solidFill>
                <a:uFillTx/>
                <a:latin typeface="Arial"/>
              </a:rPr>
              <a:t>No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 Strategic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1905120"/>
            <a:ext cx="8153280" cy="3764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r of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or bad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f-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r of th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sp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24A4-392B-45AC-A335-1A6FCD709140}" type="slidenum">
              <a:t>52</a:t>
            </a:fld>
          </a:p>
        </p:txBody>
      </p:sp>
    </p:spTree>
  </p:cSld>
  <p:transition>
    <p:cover dir="l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5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37720" y="380988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s of conduct within organizations that guide decision making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usiness Ethics &amp; Strategic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1905120"/>
            <a:ext cx="8153640" cy="134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Business Ethics defined –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7E33-8FF9-440F-A88A-5E3BD8D65FD4}" type="slidenum">
              <a:t>53</a:t>
            </a:fld>
          </a:p>
        </p:txBody>
      </p:sp>
    </p:spTree>
  </p:cSld>
  <p:transition>
    <p:cover dir="l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7720" y="380988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requisite for good strateg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usiness Ethics &amp; Strategic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905120"/>
            <a:ext cx="8153640" cy="1617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Good business ethics –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E921-C640-48A0-B6FC-744BD6499D5C}" type="slidenum">
              <a:t>54</a:t>
            </a:fld>
          </a:p>
        </p:txBody>
      </p:sp>
    </p:spTree>
  </p:cSld>
  <p:transition>
    <p:cover dir="l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7720" y="380988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basis on which policies can be devised to guide daily behavior and decisions in the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usiness Ethics &amp; Strategic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905120"/>
            <a:ext cx="8153640" cy="1617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Code of business ethics –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9085-F6B0-4C63-94A9-E50449F456B7}" type="slidenum">
              <a:t>55</a:t>
            </a:fld>
          </a:p>
        </p:txBody>
      </p:sp>
    </p:spTree>
  </p:cSld>
  <p:transition>
    <p:cover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914040" y="3276720"/>
            <a:ext cx="754380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leading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leading lab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 to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r tr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mping flawed products on foreign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product or servic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dding expens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Business Ethics &amp; Strategic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1676520"/>
            <a:ext cx="815364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Business practices always considered unethical –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E83C-D907-437D-9598-300D0EE88FAD}" type="slidenum">
              <a:t>56</a:t>
            </a:fld>
          </a:p>
        </p:txBody>
      </p:sp>
    </p:spTree>
  </p:cSld>
  <p:transition>
    <p:cover dir="l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914040" y="3276360"/>
            <a:ext cx="7543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9000 focuses on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1.5 million companies incorporate 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al Environment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752480"/>
            <a:ext cx="81536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SO used to gain strategic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5E0F-F01D-4428-A66C-3EFC94D80976}" type="slidenum">
              <a:t>57</a:t>
            </a:fld>
          </a:p>
        </p:txBody>
      </p:sp>
    </p:spTree>
  </p:cSld>
  <p:transition>
    <p:cover dir="l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400" y="3276720"/>
            <a:ext cx="77724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14001 standard for Environmental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ms minimize harmful effects 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atural Environment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752480"/>
            <a:ext cx="81536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SO 14000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1982880" cy="19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2873-9ED1-4C22-B510-1FFBE5C0F284}" type="slidenum">
              <a:t>58</a:t>
            </a:fld>
          </a:p>
        </p:txBody>
      </p:sp>
    </p:spTree>
  </p:cSld>
  <p:transition>
    <p:cover dir="l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914400" y="3276720"/>
            <a:ext cx="77724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Nature of Global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1752480"/>
            <a:ext cx="81536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International/multinational 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876920" y="3319560"/>
            <a:ext cx="2682720" cy="164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3F40-BB3B-4419-9F05-C20D9E009AEA}" type="slidenum">
              <a:t>59</a:t>
            </a:fld>
          </a:p>
        </p:txBody>
      </p:sp>
    </p:spTree>
  </p:cSld>
  <p:transition>
    <p:cover dir="l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828800"/>
            <a:ext cx="3886200" cy="380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sion &amp;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609480"/>
            <a:ext cx="3733920" cy="106704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Strategy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438280"/>
            <a:ext cx="3886200" cy="381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ternal Opportunities &amp; Thr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3048120"/>
            <a:ext cx="3886200" cy="380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 Strengths &amp; 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3657600"/>
            <a:ext cx="3886200" cy="380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ong-Term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267080"/>
            <a:ext cx="3886200" cy="381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ternative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4876920"/>
            <a:ext cx="3886200" cy="380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rategy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1676520"/>
            <a:ext cx="0" cy="342900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510552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05740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327672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41972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266688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6A30-61AE-4D93-B776-D70240E222B1}" type="slidenum">
              <a:t>6</a:t>
            </a:fld>
          </a:p>
        </p:txBody>
      </p:sp>
    </p:spTree>
  </p:cSld>
  <p:transition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914400" y="3276720"/>
            <a:ext cx="77724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r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ork eth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The Nature of Global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1752480"/>
            <a:ext cx="81536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Strategy implementation may be diffic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425D-9229-4D40-B9FD-65BB7A774D99}" type="slidenum">
              <a:t>60</a:t>
            </a:fld>
          </a:p>
        </p:txBody>
      </p:sp>
    </p:spTree>
  </p:cSld>
  <p:transition>
    <p:cover dir="l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Advantages of International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2286000"/>
            <a:ext cx="815364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sorb excess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uce unit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read risk over wider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-cost production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1963440" cy="20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6CC3-8FC2-4909-B723-E2502808061C}" type="slidenum">
              <a:t>61</a:t>
            </a:fld>
          </a:p>
        </p:txBody>
      </p:sp>
    </p:spTree>
  </p:cSld>
  <p:transition>
    <p:cover dir="l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Advantages of International Operations (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cont’d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2666880"/>
            <a:ext cx="8153640" cy="181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ss intense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er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1963800" cy="20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A5E3-AF32-48B8-B3D2-C9D9386FDC56}" type="slidenum">
              <a:t>62</a:t>
            </a:fld>
          </a:p>
        </p:txBody>
      </p:sp>
    </p:spTree>
  </p:cSld>
  <p:transition>
    <p:cover dir="l"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335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Disadvantages of International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2666880"/>
            <a:ext cx="8153640" cy="289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icult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erestimate foreign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ltural barriers to effectiv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ications arising from currency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124080" cy="235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3284-F73D-4DE4-9E86-57F5E6078E7D}" type="slidenum">
              <a:t>63</a:t>
            </a:fld>
          </a:p>
        </p:txBody>
      </p:sp>
    </p:spTree>
  </p:cSld>
  <p:transition>
    <p:cover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572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Issues in Strategy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Documents"/>
          <p:cNvSpPr/>
          <p:nvPr/>
        </p:nvSpPr>
        <p:spPr>
          <a:xfrm>
            <a:off x="2895480" y="685800"/>
            <a:ext cx="5105520" cy="5334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business    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es to ab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cation of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ansion or 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tional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rgers or joint ven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oidance of hostile take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3949-48E7-48C0-9739-BBBDC770C6EC}" type="slidenum">
              <a:t>7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09480"/>
            <a:ext cx="3962520" cy="10670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4b4"/>
                </a:solidFill>
                <a:latin typeface="Arial"/>
                <a:ea typeface="Arial"/>
              </a:rPr>
              <a:t>Strategy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209680"/>
            <a:ext cx="3886200" cy="6098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nnual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1676520"/>
            <a:ext cx="0" cy="312408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80060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27672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971800"/>
            <a:ext cx="3886200" cy="6094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733920"/>
            <a:ext cx="3886200" cy="60948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mployee 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495680"/>
            <a:ext cx="3886200" cy="6098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ourc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038480"/>
            <a:ext cx="16002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A539-182B-4368-85F8-E7A9C7680BFE}" type="slidenum">
              <a:t>8</a:t>
            </a:fld>
          </a:p>
        </p:txBody>
      </p:sp>
    </p:spTree>
  </p:cSld>
  <p:transition>
    <p:cover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572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Strategy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Documents"/>
          <p:cNvSpPr/>
          <p:nvPr/>
        </p:nvSpPr>
        <p:spPr>
          <a:xfrm>
            <a:off x="3124080" y="838080"/>
            <a:ext cx="5105520" cy="5334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Action Stage of Strategic Management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difficult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ization of employees &amp; 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personal skills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nsus on goal pur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2005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EB95-CF02-41E9-9487-8C4F6E2656A2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 </cp:lastModifiedBy>
  <dcterms:modified xsi:type="dcterms:W3CDTF">2006-04-18T16:57:04Z</dcterms:modified>
  <cp:revision>77</cp:revision>
  <dc:subject/>
  <dc:title>Chapter 1  The Nature of Strategic Management </dc:title>
</cp:coreProperties>
</file>