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2FF2-0E9D-4EA1-8A5B-5CF53078F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C8A2-15D6-4FD4-AB38-CA50FC6C2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CA78-49E0-4A94-9CAD-C48CC2B82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9C00-5B67-46F9-A400-59474510D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56B3-FBFD-4904-B5BE-FA4E21E76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F9B2-6A92-4884-A8CE-96E74E365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098C-523C-4C15-B80D-CB6C47E47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FA70-AB5C-4268-A3D4-CBC180067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5076-9990-44AA-800E-95DE67643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78C5-0AB8-4521-9D5E-C0837295F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B7CA-0D30-40A2-B812-7D5FB3E0F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5532-CB05-4A9D-8755-BCEABCD18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308E-94FF-47E7-B226-BAFA72A3E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F49C-5814-4C0C-8AD3-76AFEA570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3E43-5893-4FDF-B8AE-362DCA494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4367-4C5F-4D8F-B8CC-E85AC8491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2DC5-751F-4934-97C3-768BC0C00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73EB-41CE-4094-93C0-46DC8553E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178C-ED85-47EE-8640-736BC9573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4C45-00A1-49C6-B875-746C0C280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DF31-53A8-43A7-A2F4-B0CB15587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DC5D-7F26-49E5-BD8C-231A6DA3D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1A81-13E5-444C-995F-359561028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623F-759C-489B-8844-E3038A378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61AB-C791-4CB7-8726-6DED7EA71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52A2-A52B-4EBE-8758-D7D46BE7B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F8C3-89DE-4766-869A-AEEF0754E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054E-E80D-424F-9670-9EE39A29F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F74F-9366-4F93-9247-99FA3AB2C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2ACF-23B6-4C4A-A139-06039D571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F80C-F25C-407A-8983-0F83FD45D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96F0-F03C-48FD-A225-C53108A87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A8A1-0945-4CEC-8733-5CE73EDEF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3D8F-84B8-440E-AE96-DA13F8177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B57A-1036-423F-869D-CE6F9D7B9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F3D6-27AE-4C36-A7CF-C2A5924E2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69CE-7202-41BE-B717-EC35DCC11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BA41-C74E-4A9B-9A0A-08C08001F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9ED2-6B5B-418B-B3EF-749986E77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9661-3B31-4D9F-9D84-5997DC8DD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F7BE-6B99-440B-B285-EA3E22285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333E-972B-4B03-9A16-00637A86F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3E29-3C3D-47B2-9EB7-60DB84664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0564-F922-44BF-AE79-8A0A4973E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4C02-FF92-4259-9693-B71B20101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B613-1D25-4889-816E-3F133BD48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3294-F8F9-4BF2-A58D-CA16B4B40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8904-CD5C-4C52-9305-64859E5AD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015C-2858-4C19-B321-5678BEC9C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B688-3297-4874-AB67-DB2AD0E1C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15EF-138E-47C5-A6DA-B5D79A437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319E-4509-4C8C-BD15-FB6F18EEF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91A1-8168-45F8-80C8-D6F5890EB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46AE3-52E7-44C2-8F53-35F27F625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AB6B-48C0-4671-BB1A-23BD1D8A8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67777-574D-4387-B4E3-1AD77329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DB4F1-C6BC-4F9C-9219-DD623041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C1B88-F5EF-4A3E-B292-D676B8C2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22096-231B-4F4F-93D5-51D92369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C5F72-13E2-44A1-8604-19BD4450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29C47-4FA5-4476-AC21-32EF60AF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65433-97A5-47C4-B965-491564E8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1F7C8-B5AF-4A84-BAFD-52C4948EB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1EE6B-F319-4507-8E6E-30F184C0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A9F8A-CB23-4624-9BCB-E17C5786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FCC57-2CE8-42F7-B2B3-A4A09620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217DB-44A0-42FA-BC3E-722BFA64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3D330-7949-4F2A-BFAE-52FAD037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AB7EF-08E3-4F81-AD2A-4E929A0C8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87C58-4979-45D8-A750-12D88D003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11E0B-214D-4716-8B8A-C0B1D9FED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A1A5D-FF29-4FF2-8F83-3D36F2BED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2EB47-7D1D-47EF-83C6-4A60A600A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84C8-7494-47D5-8202-36C1E0428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51636-620A-425C-B82F-D56497284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800" spc="-1" strike="noStrike">
                <a:solidFill>
                  <a:srgbClr val="71602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1602f"/>
                </a:solidFill>
                <a:latin typeface="Arial"/>
              </a:rPr>
              <a:t>Copyright 2007 Prentice H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6 -</a:t>
            </a:r>
            <a:fld id="{42769C4F-5326-4196-A4C9-F5672E3223A3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157F-250E-4580-8DD3-9112D2379CC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Chapter 6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Analysis &amp; Choic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4038480" cy="38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trategic Management: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ncepts &amp;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1</a:t>
            </a:r>
            <a:r>
              <a:rPr b="1" lang="en-US" sz="2400" spc="-1" strike="noStrike" baseline="30000">
                <a:solidFill>
                  <a:srgbClr val="8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Fred David</a:t>
            </a:r>
            <a:br>
              <a:rPr sz="2400"/>
            </a:br>
            <a:br>
              <a:rPr sz="2100"/>
            </a:br>
            <a:br>
              <a:rPr sz="21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86400" y="2851200"/>
            <a:ext cx="289548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7C48A-C291-44BF-9A83-73754793C5D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4572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Strategy-Formulation Analytical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1143000"/>
            <a:ext cx="3200400" cy="106668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Internal Factor Evaluation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Matrix (IF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2743200"/>
            <a:ext cx="3200400" cy="106668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xternal Factor Evaluation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Matrix (EF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4419720"/>
            <a:ext cx="3200400" cy="106668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Competitive Profile Matrix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(CP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2590920"/>
            <a:ext cx="3352680" cy="1295280"/>
          </a:xfrm>
          <a:prstGeom prst="ellipse">
            <a:avLst/>
          </a:prstGeom>
          <a:solidFill>
            <a:srgbClr val="e0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ge 1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Input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495680" y="1599840"/>
            <a:ext cx="8384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3200400"/>
            <a:ext cx="838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AD927-B643-4601-AE77-A460A9C2EB7A}" type="slidenum">
              <a:t>10</a:t>
            </a:fld>
          </a:p>
        </p:txBody>
      </p:sp>
    </p:spTree>
  </p:cSld>
  <p:transition>
    <p:cover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age 1: The Input S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676520"/>
            <a:ext cx="6781680" cy="341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Basic input information for the matching &amp; decision stage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Requires strategists to quantify subjectivity early in th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Good intuitive judgment alway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80F38-C82A-4CFB-A5D5-AF34B42839F2}" type="slidenum">
              <a:t>11</a:t>
            </a:fld>
          </a:p>
        </p:txBody>
      </p:sp>
    </p:spTree>
  </p:cSld>
  <p:transition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4572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Strategy-Formulation Analytical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914400"/>
            <a:ext cx="320040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SWOT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495680" y="1218960"/>
            <a:ext cx="838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3200400"/>
            <a:ext cx="838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200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SPACE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2819520"/>
            <a:ext cx="3200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BCG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3809880"/>
            <a:ext cx="3200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IE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4800600"/>
            <a:ext cx="3200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Grand Strategy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495680" y="22860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32004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2590920"/>
            <a:ext cx="3352680" cy="1295280"/>
          </a:xfrm>
          <a:prstGeom prst="ellipse">
            <a:avLst/>
          </a:prstGeom>
          <a:solidFill>
            <a:srgbClr val="716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d4b4"/>
                </a:solidFill>
                <a:latin typeface="Arial"/>
                <a:ea typeface="Arial"/>
              </a:rPr>
              <a:t>Stage 2:</a:t>
            </a:r>
            <a:br>
              <a:rPr sz="1800"/>
            </a:br>
            <a:r>
              <a:rPr b="1" lang="en-US" sz="1800" spc="-1" strike="noStrike">
                <a:solidFill>
                  <a:srgbClr val="e0d4b4"/>
                </a:solidFill>
                <a:latin typeface="Arial"/>
                <a:ea typeface="Arial"/>
              </a:rPr>
              <a:t>The Matching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7069-8BF8-4826-AD5E-8B854DEBA554}" type="slidenum">
              <a:t>12</a:t>
            </a:fld>
          </a:p>
        </p:txBody>
      </p:sp>
    </p:spTree>
  </p:cSld>
  <p:transition>
    <p:cover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age 2: The Matching S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057400"/>
            <a:ext cx="6781680" cy="230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Match between organization’s internal resources &amp; skills and the opportunities &amp; risks created by its external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A7C8F-1C0A-4E95-8E7C-A2F45D031620}" type="slidenum">
              <a:t>13</a:t>
            </a:fld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age 2: The Matching S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743200"/>
            <a:ext cx="6781680" cy="246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treng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Weakn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r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16765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WOT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1012-97D0-47E9-BA89-68D739F9C1FC}" type="slidenum">
              <a:t>14</a:t>
            </a:fld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WOT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743200"/>
            <a:ext cx="6781680" cy="246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trengths-Opportunit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Weaknesses-Opportunit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W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trengths-Threa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Weaknesses-Threa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W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76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ur Types of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8B95E-54C3-400A-B795-CE9E57787CE6}" type="slidenum">
              <a:t>15</a:t>
            </a:fld>
          </a:p>
        </p:txBody>
      </p:sp>
    </p:spTree>
  </p:cSld>
  <p:transition>
    <p:cover dir="l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Arial"/>
              </a:rPr>
              <a:t>SO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 Strateg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1676520"/>
            <a:ext cx="2362320" cy="3352680"/>
          </a:xfrm>
          <a:prstGeom prst="rect">
            <a:avLst/>
          </a:prstGeom>
          <a:solidFill>
            <a:srgbClr val="71602f"/>
          </a:solidFill>
          <a:ln w="9360">
            <a:solidFill>
              <a:srgbClr val="e0d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Use a firm’s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internal strengths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to take advantage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of external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2209680"/>
            <a:ext cx="2666880" cy="2210040"/>
          </a:xfrm>
          <a:prstGeom prst="triangle">
            <a:avLst>
              <a:gd name="adj" fmla="val 50000"/>
            </a:avLst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447920"/>
            <a:ext cx="3886200" cy="761760"/>
          </a:xfrm>
          <a:custGeom>
            <a:avLst/>
            <a:gdLst>
              <a:gd name="textAreaLeft" fmla="*/ 745920 w 3886200"/>
              <a:gd name="textAreaRight" fmla="*/ 2751480 w 388620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94" hR="21600" stAng="10800000" swAng="5400000"/>
                <a:lnTo>
                  <a:pt x="11146" y="0"/>
                </a:lnTo>
                <a:arcTo wR="8294" hR="21600" stAng="-5400000" swAng="2841749"/>
                <a:lnTo>
                  <a:pt x="21126" y="14400"/>
                </a:lnTo>
                <a:lnTo>
                  <a:pt x="18014" y="21600"/>
                </a:lnTo>
                <a:lnTo>
                  <a:pt x="13954" y="14400"/>
                </a:lnTo>
                <a:lnTo>
                  <a:pt x="16114" y="14400"/>
                </a:lnTo>
                <a:arcTo wR="8294" hR="21600" stAng="-2558251" swAng="-2611707"/>
                <a:lnTo>
                  <a:pt x="9720" y="322"/>
                </a:lnTo>
                <a:arcTo wR="8294" hR="21600" stAng="-5630042" swAng="-5169958"/>
                <a:close/>
              </a:path>
              <a:path fill="darkenLess" w="21600" h="21600">
                <a:moveTo>
                  <a:pt x="0" y="21600"/>
                </a:moveTo>
                <a:arcTo wR="8294" hR="21600" stAng="10800000" swAng="5400000"/>
                <a:lnTo>
                  <a:pt x="8294" y="0"/>
                </a:lnTo>
                <a:arcTo wR="8294" hR="21600" stAng="-5400000" swAng="230042"/>
                <a:lnTo>
                  <a:pt x="9720" y="322"/>
                </a:lnTo>
                <a:arcTo wR="8294" hR="21600" stAng="-5630042" swAng="-5169958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676520"/>
            <a:ext cx="2361960" cy="3352680"/>
          </a:xfrm>
          <a:prstGeom prst="rect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trengths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Weaknesses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reat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W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4419720"/>
            <a:ext cx="3048120" cy="1143000"/>
          </a:xfrm>
          <a:custGeom>
            <a:avLst/>
            <a:gdLst>
              <a:gd name="textAreaLeft" fmla="*/ 533160 w 3048120"/>
              <a:gd name="textAreaRight" fmla="*/ 2210040 w 3048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72EA4-194C-4346-AFCF-8E75462D68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Arial"/>
              </a:rPr>
              <a:t>WO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 Strateg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6324480" y="1676520"/>
            <a:ext cx="2362320" cy="3352680"/>
          </a:xfrm>
          <a:prstGeom prst="rect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roving intern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aknesses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king advanta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extern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2209680"/>
            <a:ext cx="2666880" cy="2210040"/>
          </a:xfrm>
          <a:prstGeom prst="triangle">
            <a:avLst>
              <a:gd name="adj" fmla="val 50000"/>
            </a:avLst>
          </a:prstGeom>
          <a:solidFill>
            <a:srgbClr val="716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WO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447920"/>
            <a:ext cx="3886200" cy="761760"/>
          </a:xfrm>
          <a:custGeom>
            <a:avLst/>
            <a:gdLst>
              <a:gd name="textAreaLeft" fmla="*/ 745920 w 3886200"/>
              <a:gd name="textAreaRight" fmla="*/ 2751480 w 388620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94" hR="21600" stAng="10800000" swAng="5400000"/>
                <a:lnTo>
                  <a:pt x="11146" y="0"/>
                </a:lnTo>
                <a:arcTo wR="8294" hR="21600" stAng="-5400000" swAng="2841749"/>
                <a:lnTo>
                  <a:pt x="21126" y="14400"/>
                </a:lnTo>
                <a:lnTo>
                  <a:pt x="18014" y="21600"/>
                </a:lnTo>
                <a:lnTo>
                  <a:pt x="13954" y="14400"/>
                </a:lnTo>
                <a:lnTo>
                  <a:pt x="16114" y="14400"/>
                </a:lnTo>
                <a:arcTo wR="8294" hR="21600" stAng="-2558251" swAng="-2611707"/>
                <a:lnTo>
                  <a:pt x="9720" y="322"/>
                </a:lnTo>
                <a:arcTo wR="8294" hR="21600" stAng="-5630042" swAng="-5169958"/>
                <a:close/>
              </a:path>
              <a:path fill="darkenLess" w="21600" h="21600">
                <a:moveTo>
                  <a:pt x="0" y="21600"/>
                </a:moveTo>
                <a:arcTo wR="8294" hR="21600" stAng="10800000" swAng="5400000"/>
                <a:lnTo>
                  <a:pt x="8294" y="0"/>
                </a:lnTo>
                <a:arcTo wR="8294" hR="21600" stAng="-5400000" swAng="230042"/>
                <a:lnTo>
                  <a:pt x="9720" y="322"/>
                </a:lnTo>
                <a:arcTo wR="8294" hR="21600" stAng="-5630042" swAng="-5169958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676520"/>
            <a:ext cx="2361960" cy="335268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trengths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Weaknesses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reat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W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4419720"/>
            <a:ext cx="3048120" cy="1143000"/>
          </a:xfrm>
          <a:custGeom>
            <a:avLst/>
            <a:gdLst>
              <a:gd name="textAreaLeft" fmla="*/ 533160 w 3048120"/>
              <a:gd name="textAreaRight" fmla="*/ 2210040 w 3048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C6395-3D2A-4C56-963E-F203D3C560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Arial"/>
              </a:rPr>
              <a:t>ST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 Strateg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1676520"/>
            <a:ext cx="2362320" cy="3352680"/>
          </a:xfrm>
          <a:prstGeom prst="rect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a firm’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trength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avoid 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ce the impa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extern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e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2209680"/>
            <a:ext cx="2666880" cy="2210040"/>
          </a:xfrm>
          <a:prstGeom prst="triangle">
            <a:avLst>
              <a:gd name="adj" fmla="val 50000"/>
            </a:avLst>
          </a:prstGeom>
          <a:solidFill>
            <a:srgbClr val="7160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1447920"/>
            <a:ext cx="3886200" cy="761760"/>
          </a:xfrm>
          <a:custGeom>
            <a:avLst/>
            <a:gdLst>
              <a:gd name="textAreaLeft" fmla="*/ 745920 w 3886200"/>
              <a:gd name="textAreaRight" fmla="*/ 2751480 w 388620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94" hR="21600" stAng="10800000" swAng="5400000"/>
                <a:lnTo>
                  <a:pt x="11146" y="0"/>
                </a:lnTo>
                <a:arcTo wR="8294" hR="21600" stAng="-5400000" swAng="2841749"/>
                <a:lnTo>
                  <a:pt x="21126" y="14400"/>
                </a:lnTo>
                <a:lnTo>
                  <a:pt x="18014" y="21600"/>
                </a:lnTo>
                <a:lnTo>
                  <a:pt x="13954" y="14400"/>
                </a:lnTo>
                <a:lnTo>
                  <a:pt x="16114" y="14400"/>
                </a:lnTo>
                <a:arcTo wR="8294" hR="21600" stAng="-2558251" swAng="-2611707"/>
                <a:lnTo>
                  <a:pt x="9720" y="322"/>
                </a:lnTo>
                <a:arcTo wR="8294" hR="21600" stAng="-5630042" swAng="-5169958"/>
                <a:close/>
              </a:path>
              <a:path fill="darkenLess" w="21600" h="21600">
                <a:moveTo>
                  <a:pt x="0" y="21600"/>
                </a:moveTo>
                <a:arcTo wR="8294" hR="21600" stAng="10800000" swAng="5400000"/>
                <a:lnTo>
                  <a:pt x="8294" y="0"/>
                </a:lnTo>
                <a:arcTo wR="8294" hR="21600" stAng="-5400000" swAng="230042"/>
                <a:lnTo>
                  <a:pt x="9720" y="322"/>
                </a:lnTo>
                <a:arcTo wR="8294" hR="21600" stAng="-5630042" swAng="-5169958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676520"/>
            <a:ext cx="2361960" cy="3352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trengths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Weaknesses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reat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W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4419720"/>
            <a:ext cx="3048120" cy="1143000"/>
          </a:xfrm>
          <a:custGeom>
            <a:avLst/>
            <a:gdLst>
              <a:gd name="textAreaLeft" fmla="*/ 533160 w 3048120"/>
              <a:gd name="textAreaRight" fmla="*/ 2210040 w 3048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3ABC6-EDDD-41BB-A235-D420538FB9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Arial"/>
              </a:rPr>
              <a:t>WT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 Strateg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"/>
          <p:cNvSpPr/>
          <p:nvPr/>
        </p:nvSpPr>
        <p:spPr>
          <a:xfrm>
            <a:off x="6324480" y="1676520"/>
            <a:ext cx="2362320" cy="3352680"/>
          </a:xfrm>
          <a:prstGeom prst="rect">
            <a:avLst/>
          </a:prstGeom>
          <a:solidFill>
            <a:srgbClr val="71602f"/>
          </a:solidFill>
          <a:ln w="9360">
            <a:solidFill>
              <a:srgbClr val="e0d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Defensive tactics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aimed at reducing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internal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weaknesses &amp;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 avoiding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environmental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threa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2209680"/>
            <a:ext cx="2666880" cy="2210040"/>
          </a:xfrm>
          <a:prstGeom prst="triangle">
            <a:avLst>
              <a:gd name="adj" fmla="val 50000"/>
            </a:avLst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1447920"/>
            <a:ext cx="3886200" cy="761760"/>
          </a:xfrm>
          <a:custGeom>
            <a:avLst/>
            <a:gdLst>
              <a:gd name="textAreaLeft" fmla="*/ 745920 w 3886200"/>
              <a:gd name="textAreaRight" fmla="*/ 2751480 w 388620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94" hR="21600" stAng="10800000" swAng="5400000"/>
                <a:lnTo>
                  <a:pt x="11146" y="0"/>
                </a:lnTo>
                <a:arcTo wR="8294" hR="21600" stAng="-5400000" swAng="2841749"/>
                <a:lnTo>
                  <a:pt x="21126" y="14400"/>
                </a:lnTo>
                <a:lnTo>
                  <a:pt x="18014" y="21600"/>
                </a:lnTo>
                <a:lnTo>
                  <a:pt x="13954" y="14400"/>
                </a:lnTo>
                <a:lnTo>
                  <a:pt x="16114" y="14400"/>
                </a:lnTo>
                <a:arcTo wR="8294" hR="21600" stAng="-2558251" swAng="-2611707"/>
                <a:lnTo>
                  <a:pt x="9720" y="322"/>
                </a:lnTo>
                <a:arcTo wR="8294" hR="21600" stAng="-5630042" swAng="-5169958"/>
                <a:close/>
              </a:path>
              <a:path fill="darkenLess" w="21600" h="21600">
                <a:moveTo>
                  <a:pt x="0" y="21600"/>
                </a:moveTo>
                <a:arcTo wR="8294" hR="21600" stAng="10800000" swAng="5400000"/>
                <a:lnTo>
                  <a:pt x="8294" y="0"/>
                </a:lnTo>
                <a:arcTo wR="8294" hR="21600" stAng="-5400000" swAng="230042"/>
                <a:lnTo>
                  <a:pt x="9720" y="322"/>
                </a:lnTo>
                <a:arcTo wR="8294" hR="21600" stAng="-5630042" swAng="-5169958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676520"/>
            <a:ext cx="2361960" cy="3352680"/>
          </a:xfrm>
          <a:prstGeom prst="rect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trengths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Weaknesses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reat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W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4419720"/>
            <a:ext cx="3048120" cy="1143000"/>
          </a:xfrm>
          <a:custGeom>
            <a:avLst/>
            <a:gdLst>
              <a:gd name="textAreaLeft" fmla="*/ 533160 w 3048120"/>
              <a:gd name="textAreaRight" fmla="*/ 2210040 w 3048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6F78F-0E88-4827-A8FB-F2969057B0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3716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Nature of Strategy &amp;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A Comprehensive 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trategy-Formulation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43434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Input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1FCD-BCD3-4A4A-8CB8-57CC6CF4975E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WOT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12952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ing the SW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2590920"/>
            <a:ext cx="7696440" cy="246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List firm’s key internal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eng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List firm’s key internal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akn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List firm’s key external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List firm’s key external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r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763EF-B77C-4D14-B816-B0638483CE3F}" type="slidenum">
              <a:t>20</a:t>
            </a:fld>
          </a:p>
        </p:txBody>
      </p:sp>
    </p:spTree>
  </p:cSld>
  <p:transition>
    <p:cover dir="l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SWOT Matri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371600"/>
          <a:ext cx="8229600" cy="4573440"/>
        </p:xfrm>
        <a:graphic>
          <a:graphicData uri="http://schemas.openxmlformats.org/drawingml/2006/table">
            <a:tbl>
              <a:tblPr/>
              <a:tblGrid>
                <a:gridCol w="2895480"/>
                <a:gridCol w="2590920"/>
                <a:gridCol w="2743200"/>
              </a:tblGrid>
              <a:tr h="150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ave Bl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Strengths – </a:t>
                      </a:r>
                      <a:r>
                        <a:rPr b="1" i="1" lang="en-US" sz="24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S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t Streng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Weaknesses – </a:t>
                      </a:r>
                      <a:r>
                        <a:rPr b="1" i="1" lang="en-US" sz="24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W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t Weakn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</a:tr>
              <a:tr h="15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Opportunities – </a:t>
                      </a:r>
                      <a:r>
                        <a:rPr b="1" i="1" lang="en-US" sz="24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t Opportun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S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trategies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strengths to take advantage of opportun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W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trategies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coming weaknesses by taking advantage of opportun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Threats – </a:t>
                      </a:r>
                      <a:r>
                        <a:rPr b="1" i="1" lang="en-US" sz="24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T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t Thre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ies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strengths to avoid thre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WT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ies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mize weaknesses and avoid thre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ddcb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437B9-DEB4-4FAA-8E38-E394BFA084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1066680"/>
            <a:ext cx="8382240" cy="495324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80880" y="1143000"/>
            <a:ext cx="8382240" cy="4903560"/>
            <a:chOff x="380880" y="1143000"/>
            <a:chExt cx="8382240" cy="4903560"/>
          </a:xfrm>
        </p:grpSpPr>
        <p:sp>
          <p:nvSpPr>
            <p:cNvPr id="190" name=""/>
            <p:cNvSpPr/>
            <p:nvPr/>
          </p:nvSpPr>
          <p:spPr>
            <a:xfrm>
              <a:off x="5944680" y="4971240"/>
              <a:ext cx="2440080" cy="1061280"/>
            </a:xfrm>
            <a:prstGeom prst="rect">
              <a:avLst/>
            </a:prstGeom>
            <a:solidFill>
              <a:srgbClr val="e3d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velop a new employee benefits pack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51640" y="4971240"/>
              <a:ext cx="293040" cy="106128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09760" y="5059800"/>
              <a:ext cx="2040480" cy="986760"/>
            </a:xfrm>
            <a:prstGeom prst="rect">
              <a:avLst/>
            </a:prstGeom>
            <a:solidFill>
              <a:srgbClr val="e3d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ong union activity (threa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55960" y="4971240"/>
              <a:ext cx="315720" cy="106128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880" y="4971240"/>
              <a:ext cx="2575080" cy="1061280"/>
            </a:xfrm>
            <a:prstGeom prst="rect">
              <a:avLst/>
            </a:prstGeom>
            <a:solidFill>
              <a:srgbClr val="e3d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or employee morale (weaknes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4680" y="3909600"/>
              <a:ext cx="2818080" cy="106128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velop new products for older adul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51640" y="3909600"/>
              <a:ext cx="293040" cy="106128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72040" y="3909600"/>
              <a:ext cx="2379600" cy="106128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creasing numbers of young adults (threa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55960" y="3909600"/>
              <a:ext cx="315720" cy="106128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0880" y="3909600"/>
              <a:ext cx="2575080" cy="106128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ong R&amp;D (strength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44680" y="2527200"/>
              <a:ext cx="2818080" cy="138240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ursue horizontal integration by buying competitor's fac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51640" y="2527200"/>
              <a:ext cx="293040" cy="138240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72040" y="2527200"/>
              <a:ext cx="2379600" cy="138240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it of two major foreign competitors from the industry (opportuni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55960" y="2527200"/>
              <a:ext cx="315720" cy="138240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2527200"/>
              <a:ext cx="2575080" cy="138240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ufficient capacity (weaknes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4680" y="1143000"/>
              <a:ext cx="2818080" cy="138420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quire Cellfone, In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651640" y="1143000"/>
              <a:ext cx="293040" cy="138420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72040" y="1143000"/>
              <a:ext cx="2379600" cy="138420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% annual growth in the cell phone industry (opportuni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55960" y="1143000"/>
              <a:ext cx="315720" cy="138420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0880" y="1143000"/>
              <a:ext cx="2575080" cy="138420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cess working capacity (strength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2320" y="3909600"/>
              <a:ext cx="2573640" cy="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2320" y="4971240"/>
              <a:ext cx="2573640" cy="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2320" y="6032520"/>
              <a:ext cx="2573640" cy="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2320" y="2527200"/>
              <a:ext cx="2573640" cy="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763120" y="1144080"/>
              <a:ext cx="0" cy="48880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880" y="1144080"/>
              <a:ext cx="0" cy="48880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2320" y="1143000"/>
              <a:ext cx="2573640" cy="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3480" y="1143000"/>
              <a:ext cx="2377800" cy="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73480" y="2527200"/>
              <a:ext cx="2377800" cy="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73480" y="3909600"/>
              <a:ext cx="2377800" cy="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73480" y="4971240"/>
              <a:ext cx="237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73480" y="6032520"/>
              <a:ext cx="2377800" cy="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55960" y="1144080"/>
              <a:ext cx="0" cy="48880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72040" y="1144080"/>
              <a:ext cx="0" cy="48880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46120" y="1143000"/>
              <a:ext cx="2816640" cy="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6120" y="6032520"/>
              <a:ext cx="2816640" cy="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6120" y="2527200"/>
              <a:ext cx="2816640" cy="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46120" y="3909600"/>
              <a:ext cx="2816640" cy="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46120" y="4971240"/>
              <a:ext cx="2816640" cy="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44680" y="1144080"/>
              <a:ext cx="0" cy="48880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51640" y="1144080"/>
              <a:ext cx="0" cy="48880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33520" y="6858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y Internal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52680" y="6858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y External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6858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ant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2286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  <a:ea typeface="Arial"/>
              </a:rPr>
              <a:t>Matching Key Factors to Formulate Alternative 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54230-C3B4-4829-99E0-EEFAB7C0F9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Limitations with SWOT Matrix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not show how to achieve a competitive advan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 static assessment in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y lead the firm to overemphasize a single internal or external factor in formulating strate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921D8-B01A-4876-8032-2A4DA49A31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33520" y="4572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Strategy-Formulation Analytical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4120" y="914400"/>
            <a:ext cx="3200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WOT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495680" y="1218960"/>
            <a:ext cx="838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3200400"/>
            <a:ext cx="838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4120" y="1905120"/>
            <a:ext cx="320040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SPACE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2819520"/>
            <a:ext cx="3200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BCG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809880"/>
            <a:ext cx="3200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IE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4120" y="4800600"/>
            <a:ext cx="3200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Grand Strategy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495680" y="22860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95680" y="32004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2590920"/>
            <a:ext cx="3352680" cy="1295280"/>
          </a:xfrm>
          <a:prstGeom prst="ellipse">
            <a:avLst/>
          </a:prstGeom>
          <a:solidFill>
            <a:srgbClr val="716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d4b4"/>
                </a:solidFill>
                <a:latin typeface="Arial"/>
                <a:ea typeface="Arial"/>
              </a:rPr>
              <a:t>Stage 2:</a:t>
            </a:r>
            <a:br>
              <a:rPr sz="1800"/>
            </a:br>
            <a:r>
              <a:rPr b="1" lang="en-US" sz="1800" spc="-1" strike="noStrike">
                <a:solidFill>
                  <a:srgbClr val="e0d4b4"/>
                </a:solidFill>
                <a:latin typeface="Arial"/>
                <a:ea typeface="Arial"/>
              </a:rPr>
              <a:t>The Matching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011FA-E618-4ABB-B887-4CE8EACDD225}" type="slidenum">
              <a:t>24</a:t>
            </a:fld>
          </a:p>
        </p:txBody>
      </p:sp>
    </p:spTree>
  </p:cSld>
  <p:transition>
    <p:cover dir="l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PAC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1295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ic Position &amp; Action Evaluation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2590920"/>
            <a:ext cx="6782040" cy="246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Aggres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nser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ef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mpet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AE1B2-1119-415E-8708-9DC3F8FABA28}" type="slidenum">
              <a:t>25</a:t>
            </a:fld>
          </a:p>
        </p:txBody>
      </p:sp>
    </p:spTree>
  </p:cSld>
  <p:transition>
    <p:cover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PAC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4479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Internal Dim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2819520"/>
            <a:ext cx="6782040" cy="116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Financial Streng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mpetitive Advanta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68F25-1075-4EC6-8370-BE7FC32442BE}" type="slidenum">
              <a:t>26</a:t>
            </a:fld>
          </a:p>
        </p:txBody>
      </p:sp>
    </p:spTree>
  </p:cSld>
  <p:transition>
    <p:cover dir="l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PAC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External Dim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2819520"/>
            <a:ext cx="6782040" cy="116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nvironmental Stabil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ndustry Streng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50458-4236-41C6-8545-3958B31F68C8}" type="slidenum">
              <a:t>27</a:t>
            </a:fld>
          </a:p>
        </p:txBody>
      </p:sp>
    </p:spTree>
  </p:cSld>
  <p:transition>
    <p:cover dir="l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SPACE Factor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04920" y="1143000"/>
            <a:ext cx="8610480" cy="4772160"/>
            <a:chOff x="304920" y="1143000"/>
            <a:chExt cx="8610480" cy="4772160"/>
          </a:xfrm>
        </p:grpSpPr>
        <p:sp>
          <p:nvSpPr>
            <p:cNvPr id="261" name=""/>
            <p:cNvSpPr/>
            <p:nvPr/>
          </p:nvSpPr>
          <p:spPr>
            <a:xfrm>
              <a:off x="4394880" y="1817640"/>
              <a:ext cx="4520160" cy="409752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Environmental Stability (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ological chan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te of inf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mand vari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ce range of competing produ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rriers to en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etitive 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ce elasticity of demand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se of exit from market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sk involved in busin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4920" y="1817640"/>
              <a:ext cx="4089960" cy="409752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Financial Strength (F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turn on inves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ver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quid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orking cap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94880" y="1143000"/>
              <a:ext cx="4520160" cy="67464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ternal Strategic Pos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4920" y="1143000"/>
              <a:ext cx="4089960" cy="67464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nal Strategic Pos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6000" y="1143000"/>
              <a:ext cx="860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6000" y="1817640"/>
              <a:ext cx="860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6000" y="5915160"/>
              <a:ext cx="860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4920" y="1144440"/>
              <a:ext cx="0" cy="477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94880" y="1144440"/>
              <a:ext cx="0" cy="477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915400" y="1144440"/>
              <a:ext cx="0" cy="477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0E3EB-8282-4AB0-982E-F0B3263D50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69520" cy="7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SPACE Factor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04920" y="1143000"/>
            <a:ext cx="8534160" cy="4648320"/>
            <a:chOff x="304920" y="1143000"/>
            <a:chExt cx="8534160" cy="4648320"/>
          </a:xfrm>
        </p:grpSpPr>
        <p:sp>
          <p:nvSpPr>
            <p:cNvPr id="273" name=""/>
            <p:cNvSpPr/>
            <p:nvPr/>
          </p:nvSpPr>
          <p:spPr>
            <a:xfrm>
              <a:off x="4785120" y="1753200"/>
              <a:ext cx="4053600" cy="403776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Industry Strength (I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owth potent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fit potent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nancial st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ological know-h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source util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ase of entry into mar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ductivity, capacity util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4920" y="1753200"/>
              <a:ext cx="4480200" cy="403776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Competitive Advantage 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ket sh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duct 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duct life cy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ustomer loyal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etition’s capacity util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ological know-h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trol over suppliers &amp; distribu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85120" y="1143000"/>
              <a:ext cx="4053600" cy="61020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ternal Strategic Pos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4920" y="1143000"/>
              <a:ext cx="4480200" cy="610200"/>
            </a:xfrm>
            <a:prstGeom prst="rect">
              <a:avLst/>
            </a:prstGeom>
            <a:solidFill>
              <a:srgbClr val="e3dd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nal Strategic Pos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06000" y="1143000"/>
              <a:ext cx="853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06000" y="1753200"/>
              <a:ext cx="853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6000" y="5791320"/>
              <a:ext cx="853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4920" y="1144080"/>
              <a:ext cx="0" cy="464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85120" y="1144080"/>
              <a:ext cx="0" cy="464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839080" y="1144080"/>
              <a:ext cx="0" cy="464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327A0-7DB5-4A98-9374-34724AE22F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 (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cont’d</a:t>
            </a: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3716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Matching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Decision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43434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ultural Aspects of Strategy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A06CF-D553-4395-8D29-3592F87F89EB}" type="slidenum">
              <a:t>3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Steps to Developing a SPACE Matrix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a set of variables to define FS, CA, ES, &amp;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 a numerical valu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+1 to +6 to each FS &amp; IS dimen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-1 to -6 to each ES &amp; CA dimen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e an average score for each FS, CA, ES, &amp;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7B5F8-B1C8-4573-BEFD-25493ABFBB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Steps to Developing a SPACE Matrix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ot the average score on the appropriate ax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the two scores on the x-axis and plot the point. Add the two scores on the y-axis and plot the point. Plot the intersection of the new xy po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w a directional vector from the origin through the new intersection poi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1A0E1-EBDE-4F14-B322-FEE58237EF5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PACE Matrix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"/>
          <p:cNvSpPr/>
          <p:nvPr/>
        </p:nvSpPr>
        <p:spPr>
          <a:xfrm>
            <a:off x="4419720" y="1219320"/>
            <a:ext cx="0" cy="487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5840" y="3581280"/>
            <a:ext cx="723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3400" y="1371600"/>
            <a:ext cx="2286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21160" y="1752480"/>
            <a:ext cx="150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1160" y="2057400"/>
            <a:ext cx="150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21160" y="2362320"/>
            <a:ext cx="150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21160" y="2743200"/>
            <a:ext cx="150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21160" y="3124080"/>
            <a:ext cx="150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21160" y="3962520"/>
            <a:ext cx="150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21160" y="4343400"/>
            <a:ext cx="150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21160" y="4724280"/>
            <a:ext cx="150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21160" y="5181480"/>
            <a:ext cx="150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21160" y="5562720"/>
            <a:ext cx="150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21160" y="5943600"/>
            <a:ext cx="150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91120" y="838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29528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+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297180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160020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190512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220968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62520" y="259092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586728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548640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510552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62520" y="464832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426708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388620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380988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7920" y="380988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05120" y="380988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62320" y="380988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380988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380988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00600" y="380988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4120" y="380988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380988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324480" y="380988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80988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67480" y="380988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+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91120" y="60958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34290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29600" y="34290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990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erv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9907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g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2120" y="5486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62720" y="5486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97EC7-672B-4DFD-9885-D1B934C150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33520" y="4572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Strategy-Formulation Analytical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914400"/>
            <a:ext cx="3200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WOT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495680" y="1218960"/>
            <a:ext cx="838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56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3200400"/>
            <a:ext cx="838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4120" y="1905120"/>
            <a:ext cx="3200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CE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4120" y="2819520"/>
            <a:ext cx="320040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BCG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4120" y="3809880"/>
            <a:ext cx="3200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IE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4120" y="4800600"/>
            <a:ext cx="3200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Grand Strategy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95680" y="22860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95680" y="32004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2590920"/>
            <a:ext cx="3352680" cy="1295280"/>
          </a:xfrm>
          <a:prstGeom prst="ellipse">
            <a:avLst/>
          </a:prstGeom>
          <a:solidFill>
            <a:srgbClr val="716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d4b4"/>
                </a:solidFill>
                <a:latin typeface="Arial"/>
                <a:ea typeface="Arial"/>
              </a:rPr>
              <a:t>Stage 2:</a:t>
            </a:r>
            <a:br>
              <a:rPr sz="1800"/>
            </a:br>
            <a:r>
              <a:rPr b="1" lang="en-US" sz="1800" spc="-1" strike="noStrike">
                <a:solidFill>
                  <a:srgbClr val="e0d4b4"/>
                </a:solidFill>
                <a:latin typeface="Arial"/>
                <a:ea typeface="Arial"/>
              </a:rPr>
              <a:t>The Matching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A4C17-076B-47F3-802E-FD3AFA87DB65}" type="slidenum">
              <a:t>33</a:t>
            </a:fld>
          </a:p>
        </p:txBody>
      </p:sp>
    </p:spTree>
  </p:cSld>
  <p:transition>
    <p:cover dir="l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CG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14479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ston Consulting Group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286000"/>
            <a:ext cx="6781680" cy="285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Enhances multi-divisional firm in formulating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Autonomous divisions = business portf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Divisions may compete in different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Focus on market-share position &amp; industry growth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37C83-C28C-47C3-8911-356966B4A002}" type="slidenum">
              <a:t>34</a:t>
            </a:fld>
          </a:p>
        </p:txBody>
      </p:sp>
    </p:spTree>
  </p:cSld>
  <p:transition>
    <p:cover dir="l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CG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9480" y="14479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ve Market Share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2895480"/>
            <a:ext cx="6781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Ratio of a division’s own market share in an industry to the market share held by the largest rival firm in that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1765080" cy="177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13A11-9D06-4580-9221-D88B10709FFA}" type="slidenum">
              <a:t>35</a:t>
            </a:fld>
          </a:p>
        </p:txBody>
      </p:sp>
    </p:spTree>
  </p:cSld>
  <p:transition>
    <p:cover dir="l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BCG Matrix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295280" y="1676520"/>
            <a:ext cx="7543800" cy="4267080"/>
            <a:chOff x="1295280" y="1676520"/>
            <a:chExt cx="7543800" cy="4267080"/>
          </a:xfrm>
        </p:grpSpPr>
        <p:sp>
          <p:nvSpPr>
            <p:cNvPr id="355" name=""/>
            <p:cNvSpPr/>
            <p:nvPr/>
          </p:nvSpPr>
          <p:spPr>
            <a:xfrm>
              <a:off x="5067360" y="3882240"/>
              <a:ext cx="3771720" cy="2061000"/>
            </a:xfrm>
            <a:prstGeom prst="rect">
              <a:avLst/>
            </a:prstGeom>
            <a:solidFill>
              <a:srgbClr val="e3ddcb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Arial"/>
                </a:rPr>
                <a:t>Dog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95280" y="3882240"/>
              <a:ext cx="3772080" cy="2061000"/>
            </a:xfrm>
            <a:prstGeom prst="rect">
              <a:avLst/>
            </a:prstGeom>
            <a:solidFill>
              <a:srgbClr val="e3ddcb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Arial"/>
                </a:rPr>
                <a:t>Cash Cow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67360" y="1676520"/>
              <a:ext cx="3771720" cy="2205720"/>
            </a:xfrm>
            <a:prstGeom prst="rect">
              <a:avLst/>
            </a:prstGeom>
            <a:solidFill>
              <a:srgbClr val="e3ddcb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Arial"/>
                </a:rPr>
                <a:t>Question Mark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95280" y="1676520"/>
              <a:ext cx="3772080" cy="2205720"/>
            </a:xfrm>
            <a:prstGeom prst="rect">
              <a:avLst/>
            </a:prstGeom>
            <a:solidFill>
              <a:srgbClr val="e3ddcb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Arial"/>
                </a:rPr>
                <a:t>Sta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7080" y="1676520"/>
              <a:ext cx="7542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97080" y="3882240"/>
              <a:ext cx="7542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97080" y="5943600"/>
              <a:ext cx="7542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95280" y="1677960"/>
              <a:ext cx="0" cy="4265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067360" y="1677960"/>
              <a:ext cx="0" cy="4265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839080" y="1677960"/>
              <a:ext cx="0" cy="4265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209680" y="7621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ve Market Share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1143000"/>
            <a:ext cx="60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1143000"/>
            <a:ext cx="60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534520" y="114300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0800000">
            <a:off x="228600" y="1752480"/>
            <a:ext cx="380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stry Sales Growth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828800"/>
            <a:ext cx="60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563868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3657600"/>
            <a:ext cx="60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EF64D-5619-4C6D-A8BB-B87DB349329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CG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14479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2286000"/>
            <a:ext cx="6781680" cy="3138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Low relative market share – compete in high-growth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Cash needs ar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Case generation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Decision to strengthen (intensive strategies) or div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E524-F2D0-4AFB-A0C4-F6C7DB1205DE}" type="slidenum">
              <a:t>37</a:t>
            </a:fld>
          </a:p>
        </p:txBody>
      </p:sp>
    </p:spTree>
  </p:cSld>
  <p:transition>
    <p:cover dir="l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CG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4479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2120" y="2286000"/>
            <a:ext cx="6781680" cy="307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High relative market share and high growth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Best long-run opportunities for growth &amp; profi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ubstantial investment to maintain or strengthen dominant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Integration strategies, intensive strategies, joint ven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2927-4916-449F-B8A6-05A13EA32258}" type="slidenum">
              <a:t>38</a:t>
            </a:fld>
          </a:p>
        </p:txBody>
      </p:sp>
    </p:spTree>
  </p:cSld>
  <p:transition>
    <p:cover dir="l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CG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14479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C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2120" y="2286000"/>
            <a:ext cx="6781680" cy="3236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High relative market share, competes in low-growth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Generate cash in excess of their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Milked for other purp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Maintain strong position as long 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Product development, concentric diver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If weakens—retrenchment or divest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5DBCF-C81E-4580-B4E0-D4BC3089F148}" type="slidenum">
              <a:t>39</a:t>
            </a:fld>
          </a:p>
        </p:txBody>
      </p:sp>
    </p:spTree>
  </p:cSld>
  <p:transition>
    <p:cover dir="l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 (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cont’d</a:t>
            </a: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8288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Politics of Strategy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6576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Governance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AE2F7-B558-42B7-B1C1-BDF4B196E3F5}" type="slidenum">
              <a:t>4</a:t>
            </a:fld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CG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14479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2666880"/>
            <a:ext cx="6781680" cy="2309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Low relative market share &amp; compete in slow or no market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Weak internal &amp; external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Liquidation, divestiture, retren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C6E29-286E-4E04-AABF-FA843FD40A1E}" type="slidenum">
              <a:t>40</a:t>
            </a:fld>
          </a:p>
        </p:txBody>
      </p:sp>
    </p:spTree>
  </p:cSld>
  <p:transition>
    <p:cover dir="l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533520" y="4572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Strategy-Formulation Analytical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34120" y="914400"/>
            <a:ext cx="3200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WOT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495680" y="1218960"/>
            <a:ext cx="838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95680" y="3200400"/>
            <a:ext cx="838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4120" y="1905120"/>
            <a:ext cx="3200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CE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4120" y="2819520"/>
            <a:ext cx="3200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CG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4120" y="3809880"/>
            <a:ext cx="320040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E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4120" y="4800600"/>
            <a:ext cx="3200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Grand Strategy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495680" y="22860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95680" y="32004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43000" y="2590920"/>
            <a:ext cx="3352680" cy="1295280"/>
          </a:xfrm>
          <a:prstGeom prst="ellipse">
            <a:avLst/>
          </a:prstGeom>
          <a:solidFill>
            <a:srgbClr val="716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d4b4"/>
                </a:solidFill>
                <a:latin typeface="Arial"/>
                <a:ea typeface="Arial"/>
              </a:rPr>
              <a:t>Stage 2:</a:t>
            </a:r>
            <a:br>
              <a:rPr sz="1800"/>
            </a:br>
            <a:r>
              <a:rPr b="1" lang="en-US" sz="1800" spc="-1" strike="noStrike">
                <a:solidFill>
                  <a:srgbClr val="e0d4b4"/>
                </a:solidFill>
                <a:latin typeface="Arial"/>
                <a:ea typeface="Arial"/>
              </a:rPr>
              <a:t>The Matching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DF4F1-4F04-4ECF-B357-0097D12DBB99}" type="slidenum">
              <a:t>41</a:t>
            </a:fld>
          </a:p>
        </p:txBody>
      </p:sp>
    </p:spTree>
  </p:cSld>
  <p:transition>
    <p:cover dir="l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The Internal-External Matrix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s an organization’s various divisions in a nine-cell displ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ilar to BCG Matrix except the IE Matrix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more information about the divi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tegic implications of each matrix are diffe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31388-6E1C-4236-A0D2-B8166A65566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1042920"/>
            <a:ext cx="9144000" cy="477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8E252-92DC-4B0A-8F10-81F0C30ACBE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IE Matrix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two key 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FE total weighted scores on the x-ax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FE total weighted scores on the y-ax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ided into three major reg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w and build – Cells I, II, or 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ld and maintain – Cells III, V, or V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vest or divest – Cells VI, VIII, or 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1328B-D5A8-4A50-9FC1-F50807FF171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696960"/>
            <a:ext cx="8534520" cy="53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6E2AC-F7BE-434F-8C9F-5AA203B30F7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33520" y="4572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Strategy-Formulation Analytical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495680" y="1218960"/>
            <a:ext cx="838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3200400"/>
            <a:ext cx="838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34120" y="1905120"/>
            <a:ext cx="3200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SPACE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34120" y="2819520"/>
            <a:ext cx="3200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BCG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34120" y="3809880"/>
            <a:ext cx="3200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IE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495680" y="22860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95680" y="32004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2590920"/>
            <a:ext cx="3352680" cy="1295280"/>
          </a:xfrm>
          <a:prstGeom prst="ellipse">
            <a:avLst/>
          </a:prstGeom>
          <a:solidFill>
            <a:srgbClr val="716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d4b4"/>
                </a:solidFill>
                <a:latin typeface="Arial"/>
                <a:ea typeface="Arial"/>
              </a:rPr>
              <a:t>Stage 2:</a:t>
            </a:r>
            <a:br>
              <a:rPr sz="1800"/>
            </a:br>
            <a:r>
              <a:rPr b="1" lang="en-US" sz="1800" spc="-1" strike="noStrike">
                <a:solidFill>
                  <a:srgbClr val="e0d4b4"/>
                </a:solidFill>
                <a:latin typeface="Arial"/>
                <a:ea typeface="Arial"/>
              </a:rPr>
              <a:t>The Matching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914400"/>
            <a:ext cx="3200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SWOT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4120" y="4800600"/>
            <a:ext cx="320040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Grand Strategy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2B11A-3C35-4BBA-9347-78AB914BDCE5}" type="slidenum">
              <a:t>46</a:t>
            </a:fld>
          </a:p>
        </p:txBody>
      </p:sp>
    </p:spTree>
  </p:cSld>
  <p:transition>
    <p:cover dir="l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Grand Strategy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2120" y="2438280"/>
            <a:ext cx="6781680" cy="212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ool for formulating alternative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Based on two dim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ompetitive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Market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D7FA-6DEF-4707-9BED-29107951CD29}" type="slidenum">
              <a:t>47</a:t>
            </a:fld>
          </a:p>
        </p:txBody>
      </p:sp>
    </p:spTree>
  </p:cSld>
  <p:transition>
    <p:cover dir="l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4457880" y="3743280"/>
            <a:ext cx="346680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uadrant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ic diver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diver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glomerate diver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ven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90720" y="3743280"/>
            <a:ext cx="346716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uadrant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ench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ic diver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diver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glomerate diver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95680" y="914400"/>
            <a:ext cx="346716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uadrant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pene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ic diver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90720" y="914400"/>
            <a:ext cx="346716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uadrant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pene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sti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92160" y="1066680"/>
            <a:ext cx="3465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752480" y="3733920"/>
            <a:ext cx="5791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92160" y="6364440"/>
            <a:ext cx="3465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19720" y="838080"/>
            <a:ext cx="0" cy="50292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924680" y="1068480"/>
            <a:ext cx="0" cy="267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59320" y="1066680"/>
            <a:ext cx="3465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90720" y="3745080"/>
            <a:ext cx="0" cy="261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924680" y="3745080"/>
            <a:ext cx="0" cy="261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59320" y="6364440"/>
            <a:ext cx="3465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66880" y="3049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MARKET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743200" y="5791320"/>
            <a:ext cx="3733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 MARKET 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-228600" y="3124080"/>
            <a:ext cx="2057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ET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91520" y="3200400"/>
            <a:ext cx="2057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ET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18940-D0E6-44D4-A8E8-768FC26ECE4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Grand Strategy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2120" y="2819520"/>
            <a:ext cx="6781680" cy="157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Excellent strategic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oncentration on current markets/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ake risks aggressively when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2120" y="144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drant 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09DF6-5E18-4A57-A4DC-9AA82E918ADF}" type="slidenum">
              <a:t>49</a:t>
            </a:fld>
          </a:p>
        </p:txBody>
      </p:sp>
    </p:spTree>
  </p:cSld>
  <p:transition>
    <p:cover dir="l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7619760" cy="175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To acquire or not to acquire, that is the question –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J. Te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Analysis &amp;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733920"/>
            <a:ext cx="762012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Life is full of lousy options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P.X. Kel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DED99-74DB-4154-857C-5ED0AE5B48B4}" type="slidenum">
              <a:t>5</a:t>
            </a:fld>
          </a:p>
        </p:txBody>
      </p:sp>
    </p:spTree>
  </p:cSld>
  <p:transition>
    <p:cover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Grand Strategy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2819520"/>
            <a:ext cx="6781680" cy="193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Evaluate present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How to improve competi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Rapid market growth requires intensive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2120" y="144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dran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AE397-CF95-4A4A-B0CF-A740F826CC9C}" type="slidenum">
              <a:t>50</a:t>
            </a:fld>
          </a:p>
        </p:txBody>
      </p:sp>
    </p:spTree>
  </p:cSld>
  <p:transition>
    <p:cover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Grand Strategy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6781680" cy="212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ompete in slow-growth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Weak competitive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Drastic changes quick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ost &amp; asset reduction (retrench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62120" y="144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drant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5FA8-042C-4617-922A-100979B4D4ED}" type="slidenum">
              <a:t>51</a:t>
            </a:fld>
          </a:p>
        </p:txBody>
      </p:sp>
    </p:spTree>
  </p:cSld>
  <p:transition>
    <p:cover dir="l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Grand Strategy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2819520"/>
            <a:ext cx="6781680" cy="157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trong competitive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low-growth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Diversification to more promising growth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144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drant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6FECC-4AF2-4215-A2F2-1E4414BCB14D}" type="slidenum">
              <a:t>52</a:t>
            </a:fld>
          </a:p>
        </p:txBody>
      </p:sp>
    </p:spTree>
  </p:cSld>
  <p:transition>
    <p:cover dir="l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33520" y="4572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Strategy-Formulation Analytical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1480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62120" y="2590920"/>
            <a:ext cx="3352680" cy="12952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Stage 3: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The Decision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4120" y="2514600"/>
            <a:ext cx="3047760" cy="144792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Quantitative Strategic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Planning Matrix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(QSP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3F81A-D324-47D9-883C-1CCEF916BB15}" type="slidenum">
              <a:t>53</a:t>
            </a:fld>
          </a:p>
        </p:txBody>
      </p:sp>
    </p:spTree>
  </p:cSld>
  <p:transition>
    <p:cover dir="l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QS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2971800"/>
            <a:ext cx="67816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echnique designed to determine the relative attractiveness of feasible alternative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62120" y="14479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itative Strategic Planning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31B93-8711-4FE5-893F-34CB03F818C2}" type="slidenum">
              <a:t>54</a:t>
            </a:fld>
          </a:p>
        </p:txBody>
      </p:sp>
    </p:spTree>
  </p:cSld>
  <p:transition>
    <p:cover dir="l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Arial"/>
              </a:rPr>
              <a:t>QSPM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28600" y="914400"/>
            <a:ext cx="8763120" cy="5334120"/>
            <a:chOff x="228600" y="914400"/>
            <a:chExt cx="8763120" cy="5334120"/>
          </a:xfrm>
        </p:grpSpPr>
        <p:sp>
          <p:nvSpPr>
            <p:cNvPr id="455" name=""/>
            <p:cNvSpPr/>
            <p:nvPr/>
          </p:nvSpPr>
          <p:spPr>
            <a:xfrm>
              <a:off x="7543800" y="3238560"/>
              <a:ext cx="1447920" cy="30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72200" y="3238560"/>
              <a:ext cx="1371600" cy="30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76920" y="3238560"/>
              <a:ext cx="1295280" cy="30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429000" y="3238560"/>
              <a:ext cx="1447920" cy="30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8600" y="3238560"/>
              <a:ext cx="3200400" cy="30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Key Internal Fac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ance/Accoun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ction/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arch and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uter Information Syst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43800" y="914400"/>
              <a:ext cx="1447920" cy="23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rategy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72200" y="914400"/>
              <a:ext cx="1371600" cy="23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rategy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76920" y="914400"/>
              <a:ext cx="1295280" cy="23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rategy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29000" y="914400"/>
              <a:ext cx="1447920" cy="23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We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8600" y="914400"/>
              <a:ext cx="3200400" cy="23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Key External Fac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conom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itical/Legal/Governmen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cial/Cultural/Demographic/Environmen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eti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0040" y="914400"/>
              <a:ext cx="8761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0040" y="6248520"/>
              <a:ext cx="8761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8600" y="915840"/>
              <a:ext cx="0" cy="5332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91720" y="915840"/>
              <a:ext cx="0" cy="5332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962520" y="228600"/>
            <a:ext cx="518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c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08DFC-5940-480B-A2FE-63A3AA131EA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Steps to Develop a QSPM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a list of the firm’s key external opportunities/threats and internal strengths/weaknesses in the left colum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 weights to each key external and internal fa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ine the Stage 2 (matching) matrices, and identify alternative strategies that the organization should consider implemen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A2951-36AD-4745-A633-D8EFD4D2949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Steps to Develop a QSPM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 the Attractiveness Sc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e the Total Attractiveness Sc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e the Sum Total Attractiveness Sc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E771B-B9D6-464B-B05F-464B6AD041D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QS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971800"/>
            <a:ext cx="6781680" cy="138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Requires intuitive judgments &amp; educated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Only as good as the prerequisite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14479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6753240" y="3838680"/>
            <a:ext cx="1628640" cy="150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46CFA-72C1-42E9-8DFF-6A43C575EE1B}" type="slidenum">
              <a:t>58</a:t>
            </a:fld>
          </a:p>
        </p:txBody>
      </p:sp>
    </p:spTree>
  </p:cSld>
  <p:transition>
    <p:cover dir="l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QS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2120" y="2971800"/>
            <a:ext cx="6781680" cy="174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ets of strategies considered simultaneously or sequenti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Integration of pertinent external &amp; internal factors in the decision mak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2120" y="14479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B887B-D7E1-4E65-9410-B13AC95F1498}" type="slidenum">
              <a:t>59</a:t>
            </a:fld>
          </a:p>
        </p:txBody>
      </p:sp>
    </p:spTree>
  </p:cSld>
  <p:transition>
    <p:cover dir="l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2514600"/>
            <a:ext cx="8229600" cy="266688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-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Establishing long-term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- Generating alternativ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- Selecting strategies to pur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- Best alternative - achieve mission &amp;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6002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ture of Strategy Analysis &amp;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335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Analysis &amp;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0D9D-CC34-4F68-93F5-2E3EA21977C7}" type="slidenum">
              <a:t>6</a:t>
            </a:fld>
          </a:p>
        </p:txBody>
      </p:sp>
    </p:spTree>
  </p:cSld>
  <p:transition>
    <p:cover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Cultural Aspects of Strategy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2971800"/>
            <a:ext cx="67816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uccessful strategies depend on the degree of consistency with the firm’s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" y="19051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ganization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C669A-F0AB-4624-84C2-18ECC4B8597D}" type="slidenum">
              <a:t>60</a:t>
            </a:fld>
          </a:p>
        </p:txBody>
      </p:sp>
    </p:spTree>
  </p:cSld>
  <p:transition>
    <p:cover dir="l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olitics of Strategy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2120" y="2971800"/>
            <a:ext cx="6781680" cy="157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Management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areer aspi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Allocation of scarce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" y="19051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tics in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AF574-B8A1-4594-B99B-304F21A9350C}" type="slidenum">
              <a:t>61</a:t>
            </a:fld>
          </a:p>
        </p:txBody>
      </p:sp>
    </p:spTree>
  </p:cSld>
  <p:transition>
    <p:cover dir="l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olitics of Strategy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2590920"/>
            <a:ext cx="6781680" cy="2684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Equifi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atis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Gene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Higher-order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Political access on important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523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tical Tactics for Strateg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9D0A1-5730-40F8-8EFF-AFC31CF0B5C4}" type="slidenum">
              <a:t>62</a:t>
            </a:fld>
          </a:p>
        </p:txBody>
      </p:sp>
    </p:spTree>
  </p:cSld>
  <p:transition>
    <p:cover dir="l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Governanc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62120" y="2590920"/>
            <a:ext cx="6781680" cy="212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ontrol &amp; oversight over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Adherence to legal pr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onsideration of stakeholder inte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Advancement of stockholder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" y="1523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ard of Directors Roles &amp;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17333-1603-4D6B-9BFF-8EFD0150C9FA}" type="slidenum">
              <a:t>63</a:t>
            </a:fld>
          </a:p>
        </p:txBody>
      </p:sp>
    </p:spTree>
  </p:cSld>
  <p:transition>
    <p:cover dir="l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Corporate Governance Issue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" y="1676520"/>
            <a:ext cx="8305920" cy="4038480"/>
          </a:xfrm>
          <a:prstGeom prst="rect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more than 2 directors are current or former compa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ecu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directors do business with the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dit, compensation, and nominating committees made u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outside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director owns a large equity stake in the compa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least one outside director with extensive experi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lly employed directors sit on no more than 4 boards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tirees on no more than 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director attends at lest 75% of all meet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38080" y="114300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siness Week’s “Principles of Good Governanc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42B05-1EA2-445C-8E94-2986B597E88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Corporate Governance Issue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" y="1676520"/>
            <a:ext cx="8305920" cy="4038480"/>
          </a:xfrm>
          <a:prstGeom prst="rect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ard meets regularly without management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dit committee meets at least four times a y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ard is frugal on executive pay, diligent in CEO succession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prompt to act when trouble ari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O is not also the Chairperson of th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areholders have considerable power and information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oose &amp; replace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ock options are considered a corporate exp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interlocking directo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38080" y="114300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siness Week’s “principles of good governanc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F4ECB-957F-4BA6-AE98-D308864BBDD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Aggressive Quad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Business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2120" y="33526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Attractiveness Scores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(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ash C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2120" y="42670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Boards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ompetitive Advantage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(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2120" y="51814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Boston Consulting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Group (BCG)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800600" y="5181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ompetitive Quad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A6049-6F8C-4675-98F9-DF9D8A29B1B7}" type="slidenum">
              <a:t>66</a:t>
            </a:fld>
          </a:p>
        </p:txBody>
      </p:sp>
    </p:spTree>
  </p:cSld>
  <p:transition>
    <p:cover dir="l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00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5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4000"/>
                            </p:stCondLst>
                            <p:childTnLst>
                              <p:par>
                                <p:cTn id="7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onservative Quad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D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2120" y="33526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Environmental Stabilit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(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2120" y="42670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Defensive Quad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006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Financial Strength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(F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120" y="51814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Directional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800600" y="5181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Gover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CE192-EC3C-4663-B93E-BC47914F0943}" type="slidenum">
              <a:t>67</a:t>
            </a:fld>
          </a:p>
        </p:txBody>
      </p:sp>
    </p:spTree>
  </p:cSld>
  <p:transition>
    <p:cover dir="l"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5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30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Grand Strategy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Internal-External (IE)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33526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Halo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62120" y="42670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Industry Strength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(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Matching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51814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Input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5181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Quantitative Strategic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Planning Matrix (QSP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AF2DB-656C-4254-9CD4-F41C4C00FCB2}" type="slidenum">
              <a:t>68</a:t>
            </a:fld>
          </a:p>
        </p:txBody>
      </p:sp>
    </p:spTree>
  </p:cSld>
  <p:transition>
    <p:cover dir="l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5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5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3000"/>
                            </p:stCondLst>
                            <p:childTnLst>
                              <p:par>
                                <p:cTn id="8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35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4000"/>
                            </p:stCondLst>
                            <p:childTnLst>
                              <p:par>
                                <p:cTn id="8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Question Ma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t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2120" y="33526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Relative Market Share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trategic Position &amp; Action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Evaluation (SP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2120" y="42670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O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8006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um Total Attractiveness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core (ST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51814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T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00600" y="5181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ustain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DCE48-5D96-461F-BF4A-D8A981C3A821}" type="slidenum">
              <a:t>69</a:t>
            </a:fld>
          </a:p>
        </p:txBody>
      </p:sp>
    </p:spTree>
  </p:cSld>
  <p:transition>
    <p:cover dir="l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0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000"/>
                            </p:stCondLst>
                            <p:childTnLst>
                              <p:par>
                                <p:cTn id="8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3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480" y="2361960"/>
            <a:ext cx="7925040" cy="289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External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Internal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ast successful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Analysis &amp;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2952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ternative Strategies Derive From 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746000" cy="192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BC929-F732-4FE7-93D6-5B4B18E51BA7}" type="slidenum">
              <a:t>7</a:t>
            </a:fld>
          </a:p>
        </p:txBody>
      </p:sp>
    </p:spTree>
  </p:cSld>
  <p:transition>
    <p:cover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2120" y="3505320"/>
            <a:ext cx="3657600" cy="761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Total Attractiveness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cores (T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76920" y="2362320"/>
            <a:ext cx="3504960" cy="761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WO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3505320"/>
            <a:ext cx="3581280" cy="761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WT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62120" y="2362320"/>
            <a:ext cx="3657600" cy="761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trengths, Weaknesses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Opportunities, Threats SW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30869-97BE-4D79-A990-48DB0B09A555}" type="slidenum">
              <a:t>70</a:t>
            </a:fld>
          </a:p>
        </p:txBody>
      </p:sp>
    </p:spTree>
  </p:cSld>
  <p:transition>
    <p:cover dir="l"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5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y Analysis &amp;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6002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ing Alternatives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971800"/>
            <a:ext cx="731520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Participation in generating alternative strategies should be as broad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E72E5-6F1E-49EE-9B4E-347854C08260}" type="slidenum">
              <a:t>8</a:t>
            </a:fld>
          </a:p>
        </p:txBody>
      </p:sp>
    </p:spTree>
  </p:cSld>
  <p:transition>
    <p:cover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45720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Comprehensive Strategy-Formulation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1981080"/>
            <a:ext cx="3352680" cy="1295640"/>
          </a:xfrm>
          <a:prstGeom prst="ellipse">
            <a:avLst/>
          </a:prstGeom>
          <a:solidFill>
            <a:srgbClr val="e0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Stage 1: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The Input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3657600"/>
            <a:ext cx="3353040" cy="1295280"/>
          </a:xfrm>
          <a:prstGeom prst="ellipse">
            <a:avLst/>
          </a:prstGeom>
          <a:solidFill>
            <a:srgbClr val="716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d4b4"/>
                </a:solidFill>
                <a:latin typeface="Arial"/>
                <a:ea typeface="Arial"/>
              </a:rPr>
              <a:t>Stage 2:</a:t>
            </a:r>
            <a:br>
              <a:rPr sz="1800"/>
            </a:br>
            <a:r>
              <a:rPr b="1" lang="en-US" sz="1800" spc="-1" strike="noStrike">
                <a:solidFill>
                  <a:srgbClr val="e0d4b4"/>
                </a:solidFill>
                <a:latin typeface="Arial"/>
                <a:ea typeface="Arial"/>
              </a:rPr>
              <a:t>The Matching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6920" y="3657600"/>
            <a:ext cx="3352680" cy="12952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Stage 3: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The Decision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450CC-350E-4DCB-8914-E471C33E4DE7}" type="slidenum">
              <a:t>9</a:t>
            </a:fld>
          </a:p>
        </p:txBody>
      </p:sp>
    </p:spTree>
  </p:cSld>
  <p:transition>
    <p:cover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8:56:05Z</dcterms:created>
  <dc:creator>Preferred Customer</dc:creator>
  <dc:description/>
  <dc:language>en-US</dc:language>
  <cp:lastModifiedBy> </cp:lastModifiedBy>
  <dcterms:modified xsi:type="dcterms:W3CDTF">2006-04-18T17:23:10Z</dcterms:modified>
  <cp:revision>301</cp:revision>
  <dc:subject/>
  <dc:title>Chapter 1  The Nature of Strategic Management </dc:title>
</cp:coreProperties>
</file>