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0F96-92D3-4DF2-B601-C84407822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DE62-B7BB-420D-BAC2-9BA82948A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88E9-37B6-4FFD-8E17-38FE4556C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3CCC-D273-4290-AC80-22FA6036C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DA24-F1BC-4B2B-97AA-D97ED4063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D689-915C-4D87-99DF-D329832A3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B17A-1E5D-4950-8E3D-AB427C22D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8B14-BE08-44BD-A362-E5EB7B6B8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1BAA-1A70-40BD-BAED-83C628C53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C227-2953-48AF-A20F-D034E036D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1C2B-6307-425B-BE12-641FDD897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8819-4541-432A-86A9-5F00887BF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B1CB-9877-4513-BCFD-90A7E15CC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A00E-4C46-4FCA-9DFC-B93266822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759C-0E60-475E-8E3B-D53565DD8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4521-320F-46B1-B245-2500CA871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24C9-D235-4525-9726-B2D0404C8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E980-ACA6-45B6-8971-A2EDAD36E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C150-2269-4A33-ADBD-77208ED3A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5E03-BB5E-49FB-8C40-32D5094C9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300F-1FB5-4877-9292-066C7ABE5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5CA0-658E-493C-9F03-8B73938E0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D4BB-9DC5-4F7F-9A3F-5F717836F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A0B5-538E-4E9B-A259-D274745F8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E6E6-FFA9-4737-B805-22AF5CAAA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C136-C94E-45ED-A186-D7A6D0574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05AA-4AFD-4546-A77C-3802BF2B2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D55C-23E3-4BF5-B62B-E27BBFADE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DCCF-2D75-47D3-8DA8-E2EFF5D00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053B-2B0B-4FA4-9DDB-EE486AC97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CA55-2BEA-48C2-B6CB-FDFBCD16E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BA72-1DF1-47C9-AE11-6F5911691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DE6F-3869-47AB-B5AA-688CA613D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F7B8-D8AA-4951-8DA8-B18CAD4E4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F208-73CB-4809-85E0-673588FAF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E552-AE71-4F36-8126-CCFF7F427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D72C-ED0A-452C-9720-E55075EE4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3521-4C52-4476-88B2-E0E770603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D905-4F33-4F49-912B-9FA07C70D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E570-4557-4986-994A-291A94032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C77C-D133-4827-80F4-6B6D5DAD4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C4B1-E576-4B69-839D-A314D2510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B9C8-B8A6-4BB9-A85C-A80BCE21B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A8D5-C5E9-4CAE-9C7F-760F4979B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9651-465E-49FF-81EE-0D943BE4A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733D-4D32-4D20-98CF-C2CEBC557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F1D7-D054-473B-9B79-5BAF66D1A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B33BC-4F14-419F-B489-D694FDDB8F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50029-93FB-4A3B-AE4B-F70F08DB78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C16D9-9DBA-41B0-A05E-6F4CB62435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92811-D056-48B0-8A42-4BEEF9CE80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30FEF-7348-44E1-9CA7-D9B4D26F5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37335-931D-4581-810B-61E0CAD5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E04276-AE48-4186-B2F9-07CDDAED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1B4F3-1454-4049-A3DB-2BFCBFB5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DBBF8-C0A8-44A7-85D9-A152DDBE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5E07A0-FBD7-4573-B214-F855E11D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7162DE-92FD-4B9C-B82B-34501260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CB512-6EBE-46B5-95E4-A31176996B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92D34-3684-4533-8557-510D0F90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22495E-0C5D-450B-B817-27F38D0B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20CD4-D91F-47AC-836C-1C5A896D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01D56-833B-445F-9039-293E9B7C8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CB188-F4B6-4861-AB34-1A89349F5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C424B-45D8-41ED-993E-A40005DD27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106EC-8ECE-42DE-AC76-5EECACD552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813E7-2C10-47AE-866E-3E0B4EB583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846CD-244A-4200-98B2-FF59A1A691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4F4CB-4770-48D3-8DFB-E1B58559EA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FCAF9-E174-46B4-A188-8544B0D4DC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DAB1E-874C-4EEF-94A7-712F202D9C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800" spc="-1" strike="noStrike">
                <a:solidFill>
                  <a:srgbClr val="71602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1602f"/>
                </a:solidFill>
                <a:latin typeface="Arial"/>
              </a:rPr>
              <a:t>Copyright 2007 Prentice H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Ch 8-</a:t>
            </a:r>
            <a:fld id="{9F393C9B-BD24-46AA-9291-A224337D0023}" type="slidenum"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84C8-690B-4E7C-8259-928D127DACA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Chapter 8</a:t>
            </a:r>
            <a:br>
              <a:rPr sz="3200"/>
            </a:b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Implementing Strategies: Marketing, Finance/Accounting, R&amp;D, &amp; MIS Issue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22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Strategic Management: 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oncepts &amp;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11</a:t>
            </a:r>
            <a:r>
              <a:rPr b="1" lang="en-US" sz="2800" spc="-1" strike="noStrike" baseline="30000">
                <a:solidFill>
                  <a:srgbClr val="8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Fred David</a:t>
            </a:r>
            <a:br>
              <a:rPr sz="2800"/>
            </a:br>
            <a:br>
              <a:rPr sz="2500"/>
            </a:br>
            <a:br>
              <a:rPr sz="2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486400" y="2851200"/>
            <a:ext cx="2895480" cy="115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1F119-7796-4C2D-BAB0-21A115B62AD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33160" y="2666880"/>
            <a:ext cx="8001000" cy="2743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Exclusive dealerships – multiple channels of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Heavy, light, or no TV advert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Price leader or price foll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Advertise online or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Offer complete or limited warra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rketing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75248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eting decisions requiring poli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28D82-7C92-405C-B036-6D2896D68DAC}" type="slidenum">
              <a:t>10</a:t>
            </a:fld>
          </a:p>
        </p:txBody>
      </p:sp>
    </p:spTree>
  </p:cSld>
  <p:transition>
    <p:cover dir="l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09480" y="2895120"/>
            <a:ext cx="7925040" cy="1676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95360" indent="-49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Market 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Product posi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rketing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75248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entrally important to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8AA6E-62DC-402A-8069-931B1FBD21F6}" type="slidenum">
              <a:t>11</a:t>
            </a:fld>
          </a:p>
        </p:txBody>
      </p:sp>
    </p:spTree>
  </p:cSld>
  <p:transition>
    <p:cover dir="l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09480" y="2895120"/>
            <a:ext cx="7925040" cy="1676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95360" indent="-49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Subdividing of a market into distinct subsets of customers according to needs and buying ha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rketing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75248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et Seg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86600" y="3886200"/>
            <a:ext cx="1576440" cy="1258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C20D5-7865-4276-ADDC-85E14C40766E}" type="slidenum">
              <a:t>12</a:t>
            </a:fld>
          </a:p>
        </p:txBody>
      </p:sp>
    </p:spTree>
  </p:cSld>
  <p:transition>
    <p:cover dir="l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09120" y="2895480"/>
            <a:ext cx="8077320" cy="2286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95360" indent="-49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Key to matching supply &amp;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Market development, product-development, market penetration &amp; diversification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Allows operating with limited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Enables small firms to compete successf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rketing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75248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et Seg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6BA6D-D91B-4389-A611-4030A2751319}" type="slidenum">
              <a:t>13</a:t>
            </a:fld>
          </a:p>
        </p:txBody>
      </p:sp>
    </p:spTree>
  </p:cSld>
  <p:transition>
    <p:cover dir="l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09120" y="2895120"/>
            <a:ext cx="8077320" cy="2057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95360" indent="-49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Directly affect marketing mix vari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Pro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rketing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175248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et Seg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4D08B-2E76-449E-912D-C62B33E11A56}" type="slidenum">
              <a:t>14</a:t>
            </a:fld>
          </a:p>
        </p:txBody>
      </p:sp>
    </p:spTree>
  </p:cSld>
  <p:transition>
    <p:cover dir="l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769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Marketing Mix – Component Factors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80880" y="685800"/>
            <a:ext cx="8305920" cy="5410080"/>
            <a:chOff x="380880" y="685800"/>
            <a:chExt cx="8305920" cy="5410080"/>
          </a:xfrm>
        </p:grpSpPr>
        <p:sp>
          <p:nvSpPr>
            <p:cNvPr id="133" name=""/>
            <p:cNvSpPr/>
            <p:nvPr/>
          </p:nvSpPr>
          <p:spPr>
            <a:xfrm>
              <a:off x="6775560" y="5563800"/>
              <a:ext cx="1910880" cy="531720"/>
            </a:xfrm>
            <a:prstGeom prst="rect">
              <a:avLst/>
            </a:prstGeom>
            <a:solidFill>
              <a:srgbClr val="e3ddc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33840" y="5563800"/>
              <a:ext cx="2241720" cy="531720"/>
            </a:xfrm>
            <a:prstGeom prst="rect">
              <a:avLst/>
            </a:prstGeom>
            <a:solidFill>
              <a:srgbClr val="e3ddc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57000" y="5563800"/>
              <a:ext cx="2076480" cy="531720"/>
            </a:xfrm>
            <a:prstGeom prst="rect">
              <a:avLst/>
            </a:prstGeom>
            <a:solidFill>
              <a:srgbClr val="e3ddc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0880" y="5563800"/>
              <a:ext cx="2076120" cy="531720"/>
            </a:xfrm>
            <a:prstGeom prst="rect">
              <a:avLst/>
            </a:prstGeom>
            <a:solidFill>
              <a:srgbClr val="e3ddc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0000"/>
                  </a:solidFill>
                  <a:latin typeface="Arial"/>
                </a:rPr>
                <a:t>Service le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775560" y="5033520"/>
              <a:ext cx="1910880" cy="530280"/>
            </a:xfrm>
            <a:prstGeom prst="rect">
              <a:avLst/>
            </a:prstGeom>
            <a:solidFill>
              <a:srgbClr val="e3ddc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33840" y="5033520"/>
              <a:ext cx="2241720" cy="530280"/>
            </a:xfrm>
            <a:prstGeom prst="rect">
              <a:avLst/>
            </a:prstGeom>
            <a:solidFill>
              <a:srgbClr val="e3ddc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57000" y="5033520"/>
              <a:ext cx="2076480" cy="530280"/>
            </a:xfrm>
            <a:prstGeom prst="rect">
              <a:avLst/>
            </a:prstGeom>
            <a:solidFill>
              <a:srgbClr val="e3ddc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0880" y="5033520"/>
              <a:ext cx="2076120" cy="530280"/>
            </a:xfrm>
            <a:prstGeom prst="rect">
              <a:avLst/>
            </a:prstGeom>
            <a:solidFill>
              <a:srgbClr val="e3ddc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0000"/>
                  </a:solidFill>
                  <a:latin typeface="Arial"/>
                </a:rPr>
                <a:t>Warran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75560" y="4345200"/>
              <a:ext cx="1910880" cy="687960"/>
            </a:xfrm>
            <a:prstGeom prst="rect">
              <a:avLst/>
            </a:prstGeom>
            <a:solidFill>
              <a:srgbClr val="e3ddc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33840" y="4345200"/>
              <a:ext cx="2241720" cy="687960"/>
            </a:xfrm>
            <a:prstGeom prst="rect">
              <a:avLst/>
            </a:prstGeom>
            <a:solidFill>
              <a:srgbClr val="e3ddc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57000" y="4345200"/>
              <a:ext cx="2076480" cy="687960"/>
            </a:xfrm>
            <a:prstGeom prst="rect">
              <a:avLst/>
            </a:prstGeom>
            <a:solidFill>
              <a:srgbClr val="e3ddc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0000"/>
                  </a:solidFill>
                  <a:latin typeface="Arial"/>
                </a:rPr>
                <a:t>Transportation carri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0880" y="4345200"/>
              <a:ext cx="2076120" cy="687960"/>
            </a:xfrm>
            <a:prstGeom prst="rect">
              <a:avLst/>
            </a:prstGeom>
            <a:solidFill>
              <a:srgbClr val="e3ddc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0000"/>
                  </a:solidFill>
                  <a:latin typeface="Arial"/>
                </a:rPr>
                <a:t>Product l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75560" y="3657600"/>
              <a:ext cx="1910880" cy="687600"/>
            </a:xfrm>
            <a:prstGeom prst="rect">
              <a:avLst/>
            </a:prstGeom>
            <a:solidFill>
              <a:srgbClr val="e3ddc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33840" y="3657600"/>
              <a:ext cx="2241720" cy="687600"/>
            </a:xfrm>
            <a:prstGeom prst="rect">
              <a:avLst/>
            </a:prstGeom>
            <a:solidFill>
              <a:srgbClr val="e3ddc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57000" y="3657600"/>
              <a:ext cx="2076480" cy="687600"/>
            </a:xfrm>
            <a:prstGeom prst="rect">
              <a:avLst/>
            </a:prstGeom>
            <a:solidFill>
              <a:srgbClr val="e3ddc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0000"/>
                  </a:solidFill>
                  <a:latin typeface="Arial"/>
                </a:rPr>
                <a:t>Inventory levels/lo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0880" y="3657600"/>
              <a:ext cx="2076120" cy="687600"/>
            </a:xfrm>
            <a:prstGeom prst="rect">
              <a:avLst/>
            </a:prstGeom>
            <a:solidFill>
              <a:srgbClr val="e3ddc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0000"/>
                  </a:solidFill>
                  <a:latin typeface="Arial"/>
                </a:rPr>
                <a:t>Packag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75560" y="3125520"/>
              <a:ext cx="1910880" cy="531720"/>
            </a:xfrm>
            <a:prstGeom prst="rect">
              <a:avLst/>
            </a:prstGeom>
            <a:solidFill>
              <a:srgbClr val="e3ddc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33840" y="3125520"/>
              <a:ext cx="2241720" cy="531720"/>
            </a:xfrm>
            <a:prstGeom prst="rect">
              <a:avLst/>
            </a:prstGeom>
            <a:solidFill>
              <a:srgbClr val="e3ddc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0000"/>
                  </a:solidFill>
                  <a:latin typeface="Arial"/>
                </a:rPr>
                <a:t>Public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57000" y="3125520"/>
              <a:ext cx="2076480" cy="531720"/>
            </a:xfrm>
            <a:prstGeom prst="rect">
              <a:avLst/>
            </a:prstGeom>
            <a:solidFill>
              <a:srgbClr val="e3ddc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0000"/>
                  </a:solidFill>
                  <a:latin typeface="Arial"/>
                </a:rPr>
                <a:t>Sales territor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0880" y="3125520"/>
              <a:ext cx="2076120" cy="531720"/>
            </a:xfrm>
            <a:prstGeom prst="rect">
              <a:avLst/>
            </a:prstGeom>
            <a:solidFill>
              <a:srgbClr val="e3ddc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0000"/>
                  </a:solidFill>
                  <a:latin typeface="Arial"/>
                </a:rPr>
                <a:t>Brand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75560" y="2593440"/>
              <a:ext cx="1910880" cy="531720"/>
            </a:xfrm>
            <a:prstGeom prst="rect">
              <a:avLst/>
            </a:prstGeom>
            <a:solidFill>
              <a:srgbClr val="e3ddc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0000"/>
                  </a:solidFill>
                  <a:latin typeface="Arial"/>
                </a:rPr>
                <a:t>Payment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33840" y="2593440"/>
              <a:ext cx="2241720" cy="531720"/>
            </a:xfrm>
            <a:prstGeom prst="rect">
              <a:avLst/>
            </a:prstGeom>
            <a:solidFill>
              <a:srgbClr val="e3ddc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0000"/>
                  </a:solidFill>
                  <a:latin typeface="Arial"/>
                </a:rPr>
                <a:t>Sales promo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57000" y="2593440"/>
              <a:ext cx="2076480" cy="531720"/>
            </a:xfrm>
            <a:prstGeom prst="rect">
              <a:avLst/>
            </a:prstGeom>
            <a:solidFill>
              <a:srgbClr val="e3ddc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0000"/>
                  </a:solidFill>
                  <a:latin typeface="Arial"/>
                </a:rPr>
                <a:t>Outlet lo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0880" y="2593440"/>
              <a:ext cx="2076120" cy="531720"/>
            </a:xfrm>
            <a:prstGeom prst="rect">
              <a:avLst/>
            </a:prstGeom>
            <a:solidFill>
              <a:srgbClr val="e3ddc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0000"/>
                  </a:solidFill>
                  <a:latin typeface="Arial"/>
                </a:rPr>
                <a:t>Sty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75560" y="1905480"/>
              <a:ext cx="1910880" cy="687960"/>
            </a:xfrm>
            <a:prstGeom prst="rect">
              <a:avLst/>
            </a:prstGeom>
            <a:solidFill>
              <a:srgbClr val="e3ddc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0000"/>
                  </a:solidFill>
                  <a:latin typeface="Arial"/>
                </a:rPr>
                <a:t>Discounts &amp; allowan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33840" y="1905480"/>
              <a:ext cx="2241720" cy="687960"/>
            </a:xfrm>
            <a:prstGeom prst="rect">
              <a:avLst/>
            </a:prstGeom>
            <a:solidFill>
              <a:srgbClr val="e3ddc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0000"/>
                  </a:solidFill>
                  <a:latin typeface="Arial"/>
                </a:rPr>
                <a:t>Personal sell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457000" y="1905480"/>
              <a:ext cx="2076480" cy="687960"/>
            </a:xfrm>
            <a:prstGeom prst="rect">
              <a:avLst/>
            </a:prstGeom>
            <a:solidFill>
              <a:srgbClr val="e3ddc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0000"/>
                  </a:solidFill>
                  <a:latin typeface="Arial"/>
                </a:rPr>
                <a:t>Distribution cover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0880" y="1905480"/>
              <a:ext cx="2076120" cy="687960"/>
            </a:xfrm>
            <a:prstGeom prst="rect">
              <a:avLst/>
            </a:prstGeom>
            <a:solidFill>
              <a:srgbClr val="e3ddc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0000"/>
                  </a:solidFill>
                  <a:latin typeface="Arial"/>
                </a:rPr>
                <a:t>Featu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75560" y="1217520"/>
              <a:ext cx="1910880" cy="687600"/>
            </a:xfrm>
            <a:prstGeom prst="rect">
              <a:avLst/>
            </a:prstGeom>
            <a:solidFill>
              <a:srgbClr val="e3ddc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0000"/>
                  </a:solidFill>
                  <a:latin typeface="Arial"/>
                </a:rPr>
                <a:t>Le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33840" y="1217520"/>
              <a:ext cx="2241720" cy="687600"/>
            </a:xfrm>
            <a:prstGeom prst="rect">
              <a:avLst/>
            </a:prstGeom>
            <a:solidFill>
              <a:srgbClr val="e3ddc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0000"/>
                  </a:solidFill>
                  <a:latin typeface="Arial"/>
                </a:rPr>
                <a:t>Advertis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57000" y="1217520"/>
              <a:ext cx="2076480" cy="687600"/>
            </a:xfrm>
            <a:prstGeom prst="rect">
              <a:avLst/>
            </a:prstGeom>
            <a:solidFill>
              <a:srgbClr val="e3ddc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0000"/>
                  </a:solidFill>
                  <a:latin typeface="Arial"/>
                </a:rPr>
                <a:t>Distribution channe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0880" y="1217520"/>
              <a:ext cx="2076120" cy="687600"/>
            </a:xfrm>
            <a:prstGeom prst="rect">
              <a:avLst/>
            </a:prstGeom>
            <a:solidFill>
              <a:srgbClr val="e3ddc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0000"/>
                  </a:solidFill>
                  <a:latin typeface="Arial"/>
                </a:rPr>
                <a:t>Qua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75560" y="685800"/>
              <a:ext cx="1910880" cy="531720"/>
            </a:xfrm>
            <a:prstGeom prst="rect">
              <a:avLst/>
            </a:prstGeom>
            <a:solidFill>
              <a:srgbClr val="e3ddc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Pr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3840" y="685800"/>
              <a:ext cx="2241720" cy="531720"/>
            </a:xfrm>
            <a:prstGeom prst="rect">
              <a:avLst/>
            </a:prstGeom>
            <a:solidFill>
              <a:srgbClr val="e3ddc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Promo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57000" y="685800"/>
              <a:ext cx="2076480" cy="531720"/>
            </a:xfrm>
            <a:prstGeom prst="rect">
              <a:avLst/>
            </a:prstGeom>
            <a:solidFill>
              <a:srgbClr val="e3ddc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Pl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880" y="685800"/>
              <a:ext cx="2076120" cy="531720"/>
            </a:xfrm>
            <a:prstGeom prst="rect">
              <a:avLst/>
            </a:prstGeom>
            <a:solidFill>
              <a:srgbClr val="e3ddc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Produ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1960" y="685800"/>
              <a:ext cx="830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960" y="6095880"/>
              <a:ext cx="830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0880" y="686880"/>
              <a:ext cx="0" cy="53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686800" y="686880"/>
              <a:ext cx="0" cy="53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0880" y="1907280"/>
              <a:ext cx="0" cy="68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0880" y="1218960"/>
              <a:ext cx="0" cy="68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686800" y="1907280"/>
              <a:ext cx="0" cy="68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686800" y="1218960"/>
              <a:ext cx="0" cy="68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0880" y="259524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686800" y="259524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0880" y="3126960"/>
              <a:ext cx="0" cy="53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686800" y="3126960"/>
              <a:ext cx="0" cy="53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0880" y="3659040"/>
              <a:ext cx="0" cy="68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686800" y="3659040"/>
              <a:ext cx="0" cy="68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0880" y="4347000"/>
              <a:ext cx="0" cy="68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686800" y="4347000"/>
              <a:ext cx="0" cy="68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0880" y="5034600"/>
              <a:ext cx="0" cy="5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686800" y="5034600"/>
              <a:ext cx="0" cy="5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0880" y="556524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556524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77435-2DFD-4C5A-806A-E0DE9AF7EC38}" type="slidenum">
              <a:t>15</a:t>
            </a:fld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rketing Issue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3200400"/>
            <a:ext cx="3124080" cy="1371600"/>
          </a:xfrm>
          <a:prstGeom prst="rect">
            <a:avLst/>
          </a:prstGeom>
          <a:solidFill>
            <a:srgbClr val="e3dd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 Segmen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19920" y="3733920"/>
            <a:ext cx="2743200" cy="609480"/>
          </a:xfrm>
          <a:prstGeom prst="rect">
            <a:avLst/>
          </a:prstGeom>
          <a:solidFill>
            <a:srgbClr val="e0d4b4"/>
          </a:solidFill>
          <a:ln w="0">
            <a:noFill/>
          </a:ln>
          <a:effectLst>
            <a:outerShdw dist="17819" dir="2700000" blurRad="0" rotWithShape="0">
              <a:srgbClr val="857e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Psychograph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19920" y="4800600"/>
            <a:ext cx="2743200" cy="609480"/>
          </a:xfrm>
          <a:prstGeom prst="rect">
            <a:avLst/>
          </a:prstGeom>
          <a:solidFill>
            <a:srgbClr val="e0d4b4"/>
          </a:solidFill>
          <a:ln w="0">
            <a:noFill/>
          </a:ln>
          <a:effectLst>
            <a:outerShdw dist="17819" dir="2700000" blurRad="0" rotWithShape="0">
              <a:srgbClr val="857e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Behavio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19920" y="1752480"/>
            <a:ext cx="27432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Geograph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19920" y="2743200"/>
            <a:ext cx="2743200" cy="609480"/>
          </a:xfrm>
          <a:prstGeom prst="rect">
            <a:avLst/>
          </a:prstGeom>
          <a:solidFill>
            <a:srgbClr val="e0d4b4"/>
          </a:solidFill>
          <a:ln w="0">
            <a:noFill/>
          </a:ln>
          <a:effectLst>
            <a:outerShdw dist="17819" dir="2700000" blurRad="0" rotWithShape="0">
              <a:srgbClr val="857e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Demograph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657600" y="2133720"/>
            <a:ext cx="236232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3657600" y="30481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38862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57600" y="3886200"/>
            <a:ext cx="23623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4CAB3-A352-4037-B045-77B1AF3F1D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09480" y="2895120"/>
            <a:ext cx="7925040" cy="2210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ounty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ity or SMS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D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l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3808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rketing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175248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ograph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FB1D0-B270-46D5-AF0D-08EDD146EF30}" type="slidenum">
              <a:t>17</a:t>
            </a:fld>
          </a:p>
        </p:txBody>
      </p:sp>
    </p:spTree>
  </p:cSld>
  <p:transition>
    <p:cover dir="l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rketing Issue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3200400"/>
            <a:ext cx="3124080" cy="1371600"/>
          </a:xfrm>
          <a:prstGeom prst="rect">
            <a:avLst/>
          </a:prstGeom>
          <a:solidFill>
            <a:srgbClr val="e3dd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 Segmen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19920" y="3733920"/>
            <a:ext cx="2743200" cy="609480"/>
          </a:xfrm>
          <a:prstGeom prst="rect">
            <a:avLst/>
          </a:prstGeom>
          <a:solidFill>
            <a:srgbClr val="e0d4b4"/>
          </a:solidFill>
          <a:ln w="0">
            <a:noFill/>
          </a:ln>
          <a:effectLst>
            <a:outerShdw dist="17819" dir="2700000" blurRad="0" rotWithShape="0">
              <a:srgbClr val="857e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Psychograph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19920" y="4800600"/>
            <a:ext cx="2743200" cy="609480"/>
          </a:xfrm>
          <a:prstGeom prst="rect">
            <a:avLst/>
          </a:prstGeom>
          <a:solidFill>
            <a:srgbClr val="e0d4b4"/>
          </a:solidFill>
          <a:ln w="0">
            <a:noFill/>
          </a:ln>
          <a:effectLst>
            <a:outerShdw dist="17819" dir="2700000" blurRad="0" rotWithShape="0">
              <a:srgbClr val="857e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Behavio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19920" y="1752480"/>
            <a:ext cx="2743200" cy="609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Geograph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19920" y="2743200"/>
            <a:ext cx="27432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Demograph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3657600" y="2133720"/>
            <a:ext cx="236232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3657600" y="30481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81280" y="38862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3886200"/>
            <a:ext cx="23623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A5D8B-504B-4F2D-AC23-40EA035D254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33520" y="2514600"/>
            <a:ext cx="8153280" cy="3124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Family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Family Life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Income/Occup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Reli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Race/Na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3808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rketing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175248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mograph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36912-9996-44CA-892C-F375EAC727EB}" type="slidenum">
              <a:t>19</a:t>
            </a:fld>
          </a:p>
        </p:txBody>
      </p:sp>
    </p:spTree>
  </p:cSld>
  <p:transition>
    <p:cover dir="l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Arial"/>
              </a:rPr>
              <a:t>Chapter Outlin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137160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The Nature of Strategy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Marketing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434340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Finance/Accounting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847BB-BC13-4BAD-A6DD-64650B95A6EE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rketing Issue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3200400"/>
            <a:ext cx="3124080" cy="1371600"/>
          </a:xfrm>
          <a:prstGeom prst="rect">
            <a:avLst/>
          </a:prstGeom>
          <a:solidFill>
            <a:srgbClr val="e3dd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 Segmen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19920" y="3733920"/>
            <a:ext cx="27432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Psychograph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4800600"/>
            <a:ext cx="2743200" cy="609480"/>
          </a:xfrm>
          <a:prstGeom prst="rect">
            <a:avLst/>
          </a:prstGeom>
          <a:solidFill>
            <a:srgbClr val="e0d4b4"/>
          </a:solidFill>
          <a:ln w="0">
            <a:noFill/>
          </a:ln>
          <a:effectLst>
            <a:outerShdw dist="17819" dir="2700000" blurRad="0" rotWithShape="0">
              <a:srgbClr val="857e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Behavio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19920" y="1752480"/>
            <a:ext cx="2743200" cy="609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Geograph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19920" y="2743200"/>
            <a:ext cx="2743200" cy="609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Demograph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657600" y="2133720"/>
            <a:ext cx="236232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657600" y="30481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81280" y="38862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3886200"/>
            <a:ext cx="23623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C8BAE-1D90-40DC-BF8B-D442A93C9C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533520" y="2742840"/>
            <a:ext cx="8153280" cy="1600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Social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Life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Pers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3520" y="3808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rketing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175248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sychograph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4968A-D2BE-4902-AD57-94DF95AC1BB8}" type="slidenum">
              <a:t>21</a:t>
            </a:fld>
          </a:p>
        </p:txBody>
      </p:sp>
    </p:spTree>
  </p:cSld>
  <p:transition>
    <p:cover dir="l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rketing Issue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3200400"/>
            <a:ext cx="3124080" cy="1371600"/>
          </a:xfrm>
          <a:prstGeom prst="rect">
            <a:avLst/>
          </a:prstGeom>
          <a:solidFill>
            <a:srgbClr val="e3dd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 Segmen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19920" y="3733920"/>
            <a:ext cx="2743200" cy="609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Psychograph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19920" y="4800600"/>
            <a:ext cx="27432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Behavio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19920" y="1752480"/>
            <a:ext cx="2743200" cy="609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Geograph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19920" y="2743200"/>
            <a:ext cx="2743200" cy="609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Demograph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657600" y="2133720"/>
            <a:ext cx="236232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657600" y="30481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581280" y="38862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657600" y="3886200"/>
            <a:ext cx="23623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F59DF-7B2A-4CC9-9313-161F994A217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500"/>
                            </p:stCondLst>
                            <p:childTnLst>
                              <p:par>
                                <p:cTn id="3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153280" cy="3200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Use occa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Benefits sou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Use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Usage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Loyalty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Readiness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Attitude toward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3520" y="3808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rketing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175248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havi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EAB61-75BD-41B4-A643-528D93410932}" type="slidenum">
              <a:t>23</a:t>
            </a:fld>
          </a:p>
        </p:txBody>
      </p:sp>
    </p:spTree>
  </p:cSld>
  <p:transition>
    <p:cover dir="l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5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30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533520" y="3808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rketing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533520" y="2666880"/>
            <a:ext cx="7696080" cy="236232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-- Schematic representations that reflect how products/services compare to competitors’ on dimensions most important to success in the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15238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duct Posi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9C3DC-0C1F-4669-940F-038CC07448D5}" type="slidenum">
              <a:t>24</a:t>
            </a:fld>
          </a:p>
        </p:txBody>
      </p:sp>
    </p:spTree>
  </p:cSld>
  <p:transition>
    <p:cover dir="l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rketing Issue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" name=""/>
          <p:cNvSpPr/>
          <p:nvPr/>
        </p:nvSpPr>
        <p:spPr>
          <a:xfrm>
            <a:off x="533520" y="3200400"/>
            <a:ext cx="3124080" cy="1371600"/>
          </a:xfrm>
          <a:prstGeom prst="rect">
            <a:avLst/>
          </a:prstGeom>
          <a:solidFill>
            <a:srgbClr val="e3dd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1447920"/>
            <a:ext cx="2743200" cy="1295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Customer W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3657600" y="2133720"/>
            <a:ext cx="236232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57600" y="3886200"/>
            <a:ext cx="23623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19920" y="4267080"/>
            <a:ext cx="2743200" cy="1295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Customer Nee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96294-C9D7-4C63-A419-4C68499D4FA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Product Positioning Step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1" name=""/>
          <p:cNvSpPr/>
          <p:nvPr/>
        </p:nvSpPr>
        <p:spPr>
          <a:xfrm>
            <a:off x="533520" y="3200400"/>
            <a:ext cx="3124080" cy="1371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Positio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3809880"/>
            <a:ext cx="1447920" cy="0"/>
          </a:xfrm>
          <a:prstGeom prst="line">
            <a:avLst/>
          </a:prstGeom>
          <a:ln w="120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43600" y="2362320"/>
            <a:ext cx="2743200" cy="761760"/>
          </a:xfrm>
          <a:prstGeom prst="rect">
            <a:avLst/>
          </a:prstGeom>
          <a:solidFill>
            <a:srgbClr val="e0d4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2.  Diagram 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43600" y="1371600"/>
            <a:ext cx="2743200" cy="762120"/>
          </a:xfrm>
          <a:prstGeom prst="rect">
            <a:avLst/>
          </a:prstGeom>
          <a:solidFill>
            <a:srgbClr val="e0d4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1.  Select Key Crit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943600" y="3352680"/>
            <a:ext cx="2743200" cy="762120"/>
          </a:xfrm>
          <a:prstGeom prst="rect">
            <a:avLst/>
          </a:prstGeom>
          <a:solidFill>
            <a:srgbClr val="e0d4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Plot competitors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943600" y="4343400"/>
            <a:ext cx="2743200" cy="762120"/>
          </a:xfrm>
          <a:prstGeom prst="rect">
            <a:avLst/>
          </a:prstGeom>
          <a:solidFill>
            <a:srgbClr val="e0d4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4.  Look for ni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5334120"/>
            <a:ext cx="2743200" cy="761760"/>
          </a:xfrm>
          <a:prstGeom prst="rect">
            <a:avLst/>
          </a:prstGeom>
          <a:solidFill>
            <a:srgbClr val="e0d4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5.  Develop Marketing</a:t>
            </a: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FF09A-10AB-478A-A696-7637261FF3B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Product Positioning Map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9" name=""/>
          <p:cNvSpPr/>
          <p:nvPr/>
        </p:nvSpPr>
        <p:spPr>
          <a:xfrm>
            <a:off x="4343400" y="1828800"/>
            <a:ext cx="0" cy="3809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76520" y="3581280"/>
            <a:ext cx="5790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05320" y="5486400"/>
            <a:ext cx="1676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ven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3200400"/>
            <a:ext cx="1676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yal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467480" y="3200400"/>
            <a:ext cx="1676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yal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914400"/>
            <a:ext cx="1676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Conven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23880" y="2209680"/>
            <a:ext cx="12956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Firm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257800" y="2209680"/>
            <a:ext cx="12952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Firm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90920" y="4572000"/>
            <a:ext cx="12952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Firm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867280" y="1143000"/>
            <a:ext cx="3048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Rental Car Mar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467480" y="3200400"/>
            <a:ext cx="1676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yal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05320" y="914400"/>
            <a:ext cx="1676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ven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23880" y="2209680"/>
            <a:ext cx="1295640" cy="762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Firm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2209680"/>
            <a:ext cx="1295280" cy="762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Firm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90920" y="4572000"/>
            <a:ext cx="1295280" cy="762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Firm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867280" y="1143000"/>
            <a:ext cx="3048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Rental Car Mar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3D4A2-1319-47AC-927B-E6859F29BE7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457200" y="2742840"/>
            <a:ext cx="8153280" cy="2133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Look for vacant n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Avoid sub opti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Do’s serve 2 segments w/ same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Don’ts position in the middle of th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rketing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121932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duct Positioning as Strategy Implementation T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4735B-9D18-40F7-8D6F-69C8ADE3C01E}" type="slidenum">
              <a:t>28</a:t>
            </a:fld>
          </a:p>
        </p:txBody>
      </p:sp>
    </p:spTree>
  </p:cSld>
  <p:transition>
    <p:cover dir="l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Finance/Accounting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533520" y="2666520"/>
            <a:ext cx="7238880" cy="167652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-- Central to strategy implementa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6095880" y="3581280"/>
            <a:ext cx="229896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BB8A9-A151-4C4D-8EF3-20249569E1D9}" type="slidenum">
              <a:t>29</a:t>
            </a:fld>
          </a:p>
        </p:txBody>
      </p:sp>
    </p:spTree>
  </p:cSld>
  <p:transition>
    <p:cover dir="l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Arial"/>
              </a:rPr>
              <a:t>Chapter Outline (</a:t>
            </a: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cont’d</a:t>
            </a: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220968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Research &amp; Development (R&amp;D)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3733920"/>
            <a:ext cx="7924680" cy="121896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Management Information Systems (MIS)</a:t>
            </a:r>
            <a:br>
              <a:rPr sz="2800"/>
            </a:b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03249-6C69-413A-B51E-292704B1BC62}" type="slidenum">
              <a:t>3</a:t>
            </a:fld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457200" y="2742840"/>
            <a:ext cx="8153280" cy="2133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Acquiring needed ca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Developing projected financial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Preparing financial bu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Evaluating worth of a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Finance/Accounting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3520" y="17524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sential for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8AC0E-3B70-4437-B115-384A5FCCF731}" type="slidenum">
              <a:t>30</a:t>
            </a:fld>
          </a:p>
        </p:txBody>
      </p:sp>
    </p:spTree>
  </p:cSld>
  <p:transition>
    <p:cover dir="l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5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57200" y="2742840"/>
            <a:ext cx="8153280" cy="1981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Raise capital – short-term, long-term, preferred, or common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Lease or buy fixed as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Determine appropriate dividend payout ra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Finance/Accounting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3520" y="14479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cisions based on Finance/Accou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5ADE5-210E-4F8B-9F0C-32B729622874}" type="slidenum">
              <a:t>31</a:t>
            </a:fld>
          </a:p>
        </p:txBody>
      </p:sp>
    </p:spTree>
  </p:cSld>
  <p:transition>
    <p:cover dir="l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8153280" cy="2362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LIFO, FIFO, or market-value accounting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Extend time of 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Establish % discount on accounts for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Determine the amount of cash kept on h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Finance/Accounting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33520" y="14479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cisions based on Finance/Accou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4FD5E-9D33-4822-BB6D-35D3482E9EEC}" type="slidenum">
              <a:t>32</a:t>
            </a:fld>
          </a:p>
        </p:txBody>
      </p:sp>
    </p:spTree>
  </p:cSld>
  <p:transition>
    <p:cover dir="l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57200" y="2742840"/>
            <a:ext cx="8153280" cy="1676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Deb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Finance/Accounting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3520" y="14479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pital acquisition to implement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04336-02F0-4ABE-9121-AFD7FD4EA593}" type="slidenum">
              <a:t>33</a:t>
            </a:fld>
          </a:p>
        </p:txBody>
      </p:sp>
    </p:spTree>
  </p:cSld>
  <p:transition>
    <p:cover dir="l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57200" y="2743200"/>
            <a:ext cx="8153280" cy="1371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EPS/EBIT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Earnings per share/Earnings before interest and 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Finance/Accounting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14479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bt vs. Equity Dec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99017-BC24-40D4-A3DE-46E114256959}" type="slidenum">
              <a:t>34</a:t>
            </a:fld>
          </a:p>
        </p:txBody>
      </p:sp>
    </p:spTree>
  </p:cSld>
  <p:transition>
    <p:cover dir="l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0" y="1536840"/>
            <a:ext cx="9144000" cy="3784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044C6-4CC3-4C92-A346-FFAA118803C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3591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B682A-1E7D-49C3-8363-A4BBD24E6BC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57200" y="3047760"/>
            <a:ext cx="8153280" cy="990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Allow an organization to examine the expected results of various actions and 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Finance/Accounting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3520" y="14479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jected Financial 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7010280" y="3809880"/>
            <a:ext cx="1617840" cy="182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40F48-1AF5-4293-B7CD-407395F1F604}" type="slidenum">
              <a:t>37</a:t>
            </a:fld>
          </a:p>
        </p:txBody>
      </p:sp>
    </p:spTree>
  </p:cSld>
  <p:transition>
    <p:cover dir="l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533520" y="2666520"/>
            <a:ext cx="8229600" cy="2971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95360" indent="-49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Prepare income statement before balance sheet (forecast sa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Use percentage of sales method to project CoGS &amp; exp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alculate projected net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Finance/Accounting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14479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eps in Preparing Projected Financial 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2BA71-8915-4BD2-BC41-3B1CC21EBEB2}" type="slidenum">
              <a:t>38</a:t>
            </a:fld>
          </a:p>
        </p:txBody>
      </p:sp>
    </p:spTree>
  </p:cSld>
  <p:transition>
    <p:cover dir="l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533520" y="2514600"/>
            <a:ext cx="8229600" cy="3200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95360" indent="-49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Subtract dividends to be paid from Net Income and add remaining to Retained Ear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Project balance sheet times beginning with retained ear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List comments (remarks) on projected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Finance/Accounting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3520" y="12193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eps in Preparing Projected Financial Statements (cont’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04DB2-2098-46B4-ADE2-E8C6DFA95D03}" type="slidenum">
              <a:t>39</a:t>
            </a:fld>
          </a:p>
        </p:txBody>
      </p:sp>
    </p:spTree>
  </p:cSld>
  <p:transition>
    <p:cover dir="l"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62120" y="2057400"/>
            <a:ext cx="7619760" cy="2819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i="1" lang="en-US" sz="2800" spc="-1" strike="noStrike">
                <a:solidFill>
                  <a:srgbClr val="800000"/>
                </a:solidFill>
                <a:latin typeface="Arial"/>
              </a:rPr>
              <a:t>The greatest strategy is doomed if it’s implemented badly.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nard Reima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Implementing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EB4A3-194B-458A-BD77-26BB50D201D1}" type="slidenum">
              <a:t>4</a:t>
            </a:fld>
          </a:p>
        </p:txBody>
      </p:sp>
    </p:spTree>
  </p:cSld>
  <p:transition>
    <p:cover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Projected Income Statement for Litten Company (in millions)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533520" y="838080"/>
          <a:ext cx="7924680" cy="4951440"/>
        </p:xfrm>
        <a:graphic>
          <a:graphicData uri="http://schemas.openxmlformats.org/drawingml/2006/table">
            <a:tbl>
              <a:tblPr/>
              <a:tblGrid>
                <a:gridCol w="3322440"/>
                <a:gridCol w="1282680"/>
                <a:gridCol w="1544760"/>
                <a:gridCol w="1774800"/>
              </a:tblGrid>
              <a:tr h="654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or Year 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cted Year 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ma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cted Income Stat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% incre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st of Goods So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% of s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oss Mar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lling Expen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 of s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ministrative Expen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% of s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B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B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x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% 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t Inc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de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tained Earnin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E824E-AF64-491E-B254-FAF514A0777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457200" y="3047760"/>
            <a:ext cx="8153280" cy="990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-- Details how funds will be obtained and spent for a specified period of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Finance/Accounting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14479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nancial Bu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5638680" y="3733920"/>
            <a:ext cx="2872080" cy="1884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16438-7AE4-465A-980F-2736D4A6B713}" type="slidenum">
              <a:t>41</a:t>
            </a:fld>
          </a:p>
        </p:txBody>
      </p:sp>
    </p:spTree>
  </p:cSld>
  <p:transition>
    <p:cover dir="l"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380520" y="2438280"/>
            <a:ext cx="8153640" cy="2819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ash bu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Operating bu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Sales bu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Profit bu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Factory Bu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Expense Bu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Finance/Accounting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3520" y="14479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ypes of Bu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52DD7-4581-4165-93F3-7680FA54D5DA}" type="slidenum">
              <a:t>42</a:t>
            </a:fld>
          </a:p>
        </p:txBody>
      </p:sp>
    </p:spTree>
  </p:cSld>
  <p:transition>
    <p:cover dir="l"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2000"/>
                            </p:stCondLst>
                            <p:childTnLst>
                              <p:par>
                                <p:cTn id="5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50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380520" y="2743200"/>
            <a:ext cx="8153640" cy="2209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Divisional bu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Variable bu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Flexible bu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Fixed bu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Finance/Accounting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14479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ypes of Bu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E03FB-7110-4588-8278-8828EC589C29}" type="slidenum">
              <a:t>43</a:t>
            </a:fld>
          </a:p>
        </p:txBody>
      </p:sp>
    </p:spTree>
  </p:cSld>
  <p:transition>
    <p:cover dir="l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500"/>
                            </p:stCondLst>
                            <p:childTnLst>
                              <p:par>
                                <p:cTn id="6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380520" y="2971800"/>
            <a:ext cx="8153640" cy="1371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entral to strategy implementation – integrative, intensive, &amp; diversification strategies often implemented through acquisitions of other fi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Finance/Accounting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3520" y="14479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valuating Worth of a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01D0D-431D-404D-9631-78E02CE75026}" type="slidenum">
              <a:t>44</a:t>
            </a:fld>
          </a:p>
        </p:txBody>
      </p:sp>
    </p:spTree>
  </p:cSld>
  <p:transition>
    <p:cover dir="l"/>
  </p:transition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380520" y="3276720"/>
            <a:ext cx="8153640" cy="1371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95360" indent="-49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What a firm ow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What a firm ea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What a firm will bring in the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Finance/Accounting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33520" y="1447920"/>
            <a:ext cx="7696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valuating Worth of a Busin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 Basic Approa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A2F1D-0022-43C6-BF13-24D35DF27B84}" type="slidenum">
              <a:t>45</a:t>
            </a:fld>
          </a:p>
        </p:txBody>
      </p:sp>
    </p:spTree>
  </p:cSld>
  <p:transition>
    <p:cover dir="l"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0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000"/>
                            </p:stCondLst>
                            <p:childTnLst>
                              <p:par>
                                <p:cTn id="6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Worth of a Business Analysi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uthwest Air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ockholders’ Equity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$ 5,52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t Incom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3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ock Pri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15.7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P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.4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ares Outstand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78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mpany Worth Analy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ockholders Equ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$ 5,52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t Income x 5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1,56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are Price/EPS x N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10,92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# Shares x Share Pri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12,309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246D2-DE1A-4072-A6A2-FCADB6F3F74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Research &amp; Development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533520" y="2666520"/>
            <a:ext cx="7238880" cy="167652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-- New products and improvement of existing products that allow for effective strategy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F0646-8DB4-42FD-BC2F-6D7D3D395C7F}" type="slidenum">
              <a:t>47</a:t>
            </a:fld>
          </a:p>
        </p:txBody>
      </p:sp>
    </p:spTree>
  </p:cSld>
  <p:transition>
    <p:cover dir="l"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380520" y="3276720"/>
            <a:ext cx="8153640" cy="1752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95360" indent="-49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Level of support constrained by resource avai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Technological improvements shorten product life 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  <a:ea typeface="Arial"/>
              </a:rPr>
              <a:t>Research &amp; Development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33520" y="19051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CB834-B5FB-4995-B970-AE7BAB7179D9}" type="slidenum">
              <a:t>48</a:t>
            </a:fld>
          </a:p>
        </p:txBody>
      </p:sp>
    </p:spTree>
  </p:cSld>
  <p:transition>
    <p:cover dir="l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500"/>
                            </p:stCondLst>
                            <p:childTnLst>
                              <p:par>
                                <p:cTn id="6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380520" y="3276720"/>
            <a:ext cx="8153640" cy="1752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95360" indent="-49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8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firm to market new technological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Innovative imitator of successful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Low-cost producer of similar but less expensive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  <a:ea typeface="Arial"/>
              </a:rPr>
              <a:t>Research &amp; Development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3520" y="19051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 Major R&amp;D approaches to implementing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7D1BE-7AEA-4EFD-BC54-0F1D958D1C62}" type="slidenum">
              <a:t>49</a:t>
            </a:fld>
          </a:p>
        </p:txBody>
      </p:sp>
    </p:spTree>
  </p:cSld>
  <p:transition>
    <p:cover dir="l"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3520" y="2514240"/>
            <a:ext cx="8229600" cy="152388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-- Strategy implementation means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53352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The Nature of Strategy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94577-7FE0-4348-BAE5-5A9C8F318B63}" type="slidenum">
              <a:t>5</a:t>
            </a:fld>
          </a:p>
        </p:txBody>
      </p:sp>
    </p:spTree>
  </p:cSld>
  <p:transition>
    <p:cover dir="l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 Information Systems (MIS)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533520" y="2666520"/>
            <a:ext cx="7238880" cy="213372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-- Information is the basis for understanding the firm.  One of the most important factors differentiating successful from unsuccessful fi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BD194-2354-400B-AE38-826D34337A62}" type="slidenum">
              <a:t>50</a:t>
            </a:fld>
          </a:p>
        </p:txBody>
      </p:sp>
    </p:spTree>
  </p:cSld>
  <p:transition>
    <p:cover dir="l"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380520" y="3276720"/>
            <a:ext cx="8153640" cy="1752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95360" indent="-49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Information collection, retrieval, &amp; 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Keeping managers in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oordination of activities among div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Allow firm to reduce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  <a:ea typeface="Arial"/>
              </a:rPr>
              <a:t>MIS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33520" y="19051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unctions of M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547C7-D89F-429D-9BDA-69A9D573EA1D}" type="slidenum">
              <a:t>51</a:t>
            </a:fld>
          </a:p>
        </p:txBody>
      </p:sp>
    </p:spTree>
  </p:cSld>
  <p:transition>
    <p:cover dir="l"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609120" y="1219320"/>
            <a:ext cx="762012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Key Terms &amp;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For Review (Chapter 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62120" y="24382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Cash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800600" y="24382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Marketing Mix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2120" y="33526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EPS/EB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800600" y="33526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Outstanding Shares 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62120" y="42670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Management Information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Systems (M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800600" y="42670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Price-Earnings Ratio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2120" y="51814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Market Seg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800600" y="51814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Product Positio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223D0-D632-4D9B-8FC7-8609DF4FEBEB}" type="slidenum">
              <a:t>52</a:t>
            </a:fld>
          </a:p>
        </p:txBody>
      </p:sp>
    </p:spTree>
  </p:cSld>
  <p:transition>
    <p:cover dir="l"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0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1000"/>
                            </p:stCondLst>
                            <p:childTnLst>
                              <p:par>
                                <p:cTn id="7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500"/>
                            </p:stCondLst>
                            <p:childTnLst>
                              <p:par>
                                <p:cTn id="7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2000"/>
                            </p:stCondLst>
                            <p:childTnLst>
                              <p:par>
                                <p:cTn id="7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500"/>
                            </p:stCondLst>
                            <p:childTnLst>
                              <p:par>
                                <p:cTn id="7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000"/>
                            </p:stCondLst>
                            <p:childTnLst>
                              <p:par>
                                <p:cTn id="7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3500"/>
                            </p:stCondLst>
                            <p:childTnLst>
                              <p:par>
                                <p:cTn id="7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4000"/>
                            </p:stCondLst>
                            <p:childTnLst>
                              <p:par>
                                <p:cTn id="7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609120" y="1219320"/>
            <a:ext cx="762012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Key Terms &amp;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For Review (Chapter 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743200" y="24382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Projected Financial 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Statemen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743200" y="33526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Research &amp; Development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(R&amp;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43200" y="42670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Vacant N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F5C0D-5DF5-4BEB-AA3C-46BA859FDBC2}" type="slidenum">
              <a:t>53</a:t>
            </a:fld>
          </a:p>
        </p:txBody>
      </p:sp>
    </p:spTree>
  </p:cSld>
  <p:transition>
    <p:cover dir="l"/>
  </p:transition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0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000"/>
                            </p:stCondLst>
                            <p:childTnLst>
                              <p:par>
                                <p:cTn id="7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500"/>
                            </p:stCondLst>
                            <p:childTnLst>
                              <p:par>
                                <p:cTn id="7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3520" y="2514240"/>
            <a:ext cx="8229600" cy="152388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-- Less than 10% of strategies formulated are successfully implement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53352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The Nature of Strategy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98245-82DA-4C7C-818F-1BA08F75530E}" type="slidenum">
              <a:t>6</a:t>
            </a:fld>
          </a:p>
        </p:txBody>
      </p:sp>
    </p:spTree>
  </p:cSld>
  <p:transition>
    <p:cover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09480" y="2819520"/>
            <a:ext cx="7925040" cy="2209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Failing to segment markets appropri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Paying too much for a new acqui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Falling behind competition in R&amp;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Not recognizing benefit of computers in managing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533520"/>
            <a:ext cx="60958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  <a:ea typeface="Arial"/>
              </a:rPr>
              <a:t>The Nature of Strategy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7524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w Success Rate – Strategy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187CF-4D85-479A-BBD3-348BE1C21874}" type="slidenum">
              <a:t>7</a:t>
            </a:fld>
          </a:p>
        </p:txBody>
      </p:sp>
    </p:spTree>
  </p:cSld>
  <p:transition>
    <p:cover dir="l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480" y="2819520"/>
            <a:ext cx="7925040" cy="2209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Market goods &amp; service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Raise needed working ca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Produce technologically sound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Sound informa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53352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The Nature of Strategy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17524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ccessful Strategy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7F75B-A70E-4DB6-B0DF-A9FE1D854FB1}" type="slidenum">
              <a:t>8</a:t>
            </a:fld>
          </a:p>
        </p:txBody>
      </p:sp>
    </p:spTree>
  </p:cSld>
  <p:transition>
    <p:cover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rketing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520" y="2666520"/>
            <a:ext cx="7238880" cy="167652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-- Marketing variables affect success/failure of strategy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1D772-7A93-4FC1-A077-D94083C1C46D}" type="slidenum">
              <a:t>9</a:t>
            </a:fld>
          </a:p>
        </p:txBody>
      </p:sp>
    </p:spTree>
  </p:cSld>
  <p:transition>
    <p:cover dir="l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7T18:56:05Z</dcterms:created>
  <dc:creator>Preferred Customer</dc:creator>
  <dc:description/>
  <dc:language>en-US</dc:language>
  <cp:lastModifiedBy> </cp:lastModifiedBy>
  <dcterms:modified xsi:type="dcterms:W3CDTF">2006-04-18T17:27:16Z</dcterms:modified>
  <cp:revision>370</cp:revision>
  <dc:subject/>
  <dc:title>Chapter 1  The Nature of Strategic Management </dc:title>
</cp:coreProperties>
</file>