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397-1FEA-42E1-8D9A-E5CD66672BDF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38A2-128A-4A91-8CDB-56C88F6410E1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5B6-03BF-4574-A14C-CF64655F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40A-E5CE-4566-AAEE-1CCAF96D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A96-652A-4851-A76D-0318D304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25E-576F-42B7-B705-B9F1C5E3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9E0-C1FE-445E-A304-FFD58C00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56D-DFC0-4662-BC10-E7D76707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C1C-BBBF-4131-B70F-BC97ED90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78F-3E84-436D-B0AA-6266A9B0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E98-20BE-4020-8C48-39AF3283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727-7A67-4267-B67C-44F378F5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32A-F85E-447A-AD88-A6E5B412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643-AD62-43EB-AB25-EC0C986C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6AA9-9AF8-4046-BDD3-AB0883344EEC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E559-3280-4F4C-A19A-BD877CF9C2D7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indapple.com/wp-content/uploads/2010/04/swot-analysis.png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ages.apple.com/home/images/ipad_hero_20100403.png"/>
          <p:cNvPicPr/>
          <p:nvPr/>
        </p:nvPicPr>
        <p:blipFill>
          <a:blip r:embed="rId1"/>
          <a:stretch/>
        </p:blipFill>
        <p:spPr>
          <a:xfrm>
            <a:off x="0" y="1857240"/>
            <a:ext cx="9101160" cy="485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Pad is here."/>
          <p:cNvPicPr/>
          <p:nvPr/>
        </p:nvPicPr>
        <p:blipFill>
          <a:blip r:embed="rId2"/>
          <a:stretch/>
        </p:blipFill>
        <p:spPr>
          <a:xfrm>
            <a:off x="3071880" y="1357200"/>
            <a:ext cx="2666880" cy="428760"/>
          </a:xfrm>
          <a:prstGeom prst="rect">
            <a:avLst/>
          </a:prstGeom>
          <a:ln w="0">
            <a:noFill/>
          </a:ln>
        </p:spPr>
      </p:pic>
      <p:sp>
        <p:nvSpPr>
          <p:cNvPr id="50" name="6 Metin kutusu"/>
          <p:cNvSpPr/>
          <p:nvPr/>
        </p:nvSpPr>
        <p:spPr>
          <a:xfrm>
            <a:off x="0" y="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MARKETING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F44F-C8A0-43C5-9796-D4A21ADCCC75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 İçerik Yer Tutucusu" descr="pages-horizontal-typing-on-ipad.jpg"/>
          <p:cNvPicPr/>
          <p:nvPr/>
        </p:nvPicPr>
        <p:blipFill>
          <a:blip r:embed="rId1">
            <a:lum bright="-34000"/>
          </a:blip>
          <a:stretch/>
        </p:blipFill>
        <p:spPr>
          <a:xfrm>
            <a:off x="142920" y="1285920"/>
            <a:ext cx="8929800" cy="5286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81440" y="3960"/>
            <a:ext cx="341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O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7 Metin kutusu"/>
          <p:cNvSpPr/>
          <p:nvPr/>
        </p:nvSpPr>
        <p:spPr>
          <a:xfrm>
            <a:off x="428760" y="1446120"/>
            <a:ext cx="83581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ffff"/>
                </a:solidFill>
                <a:uFillTx/>
                <a:latin typeface="Calibri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High Launching  P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Multi - tasking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Flash support for the web brow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USB 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1FCF-8847-447A-9631-93FEB110B279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 İçerik Yer Tutucusu" descr="pages-horizontal-typing-on-ipad.jpg"/>
          <p:cNvPicPr/>
          <p:nvPr/>
        </p:nvPicPr>
        <p:blipFill>
          <a:blip r:embed="rId1">
            <a:lum bright="-34000"/>
          </a:blip>
          <a:stretch/>
        </p:blipFill>
        <p:spPr>
          <a:xfrm>
            <a:off x="142920" y="1285920"/>
            <a:ext cx="8929800" cy="5286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7680" y="15120"/>
            <a:ext cx="3409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O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7 Metin kutusu"/>
          <p:cNvSpPr/>
          <p:nvPr/>
        </p:nvSpPr>
        <p:spPr>
          <a:xfrm>
            <a:off x="428760" y="144612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memory 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While typing on an iPad  screen viewing angle could be awkward during long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16:9 screen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O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e-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the one that makes the brightness of the screen, close to being like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the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real pages of a book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6D7A-415B-48B9-9EC5-AEBDA277654C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3 İçerik Yer Tutucusu" descr="keynote-using-iphoto-on-ipad.jpg"/>
          <p:cNvPicPr/>
          <p:nvPr/>
        </p:nvPicPr>
        <p:blipFill>
          <a:blip r:embed="rId1"/>
          <a:stretch/>
        </p:blipFill>
        <p:spPr>
          <a:xfrm>
            <a:off x="38160" y="1273320"/>
            <a:ext cx="9072360" cy="5572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SW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6 Metin kutusu"/>
          <p:cNvSpPr/>
          <p:nvPr/>
        </p:nvSpPr>
        <p:spPr>
          <a:xfrm>
            <a:off x="285840" y="1401840"/>
            <a:ext cx="8858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ffff"/>
                </a:solidFill>
                <a:uFillTx/>
                <a:latin typeface="Calibri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Ads within newspapers will be able to be interactive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, may contain links back to corporate branded websites, may allow users to watch and download videos, readers to see a gallery of photographs and the size of  iPad ,may allow them to become more involved and engaged than ever. iPad could be a new way for marketers to reach consu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Ability to place more targeted advertising around specific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8D2D-C14D-44C8-9A02-A43BAF65FB23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3 İçerik Yer Tutucusu" descr="keynote-using-iphoto-on-ipad.jpg"/>
          <p:cNvPicPr/>
          <p:nvPr/>
        </p:nvPicPr>
        <p:blipFill>
          <a:blip r:embed="rId1"/>
          <a:stretch/>
        </p:blipFill>
        <p:spPr>
          <a:xfrm>
            <a:off x="71280" y="1285920"/>
            <a:ext cx="8929800" cy="5286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SW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T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8 Dikdörtgen"/>
          <p:cNvSpPr/>
          <p:nvPr/>
        </p:nvSpPr>
        <p:spPr>
          <a:xfrm>
            <a:off x="214200" y="1214280"/>
            <a:ext cx="8715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Interactivity Capabilities 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(For example, someone watching  a TV show  may like what an actor is wearing and want to know more about the brand , the viewer may simply click on that item for more information or to be taken to the brand’s websit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Many other apps will be available in the future and everybody is waiting for the 3G version soon to be rel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D51B-C85F-41B2-838C-D46E2F232932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3 Resim" descr="keynote-on-ipad.jpg"/>
          <p:cNvPicPr/>
          <p:nvPr/>
        </p:nvPicPr>
        <p:blipFill>
          <a:blip r:embed="rId1"/>
          <a:stretch/>
        </p:blipFill>
        <p:spPr>
          <a:xfrm>
            <a:off x="65160" y="760320"/>
            <a:ext cx="9001080" cy="6072120"/>
          </a:xfrm>
          <a:prstGeom prst="rect">
            <a:avLst/>
          </a:prstGeom>
          <a:ln w="0">
            <a:noFill/>
          </a:ln>
        </p:spPr>
      </p:pic>
      <p:sp>
        <p:nvSpPr>
          <p:cNvPr id="105" name="5 Metin kutusu"/>
          <p:cNvSpPr/>
          <p:nvPr/>
        </p:nvSpPr>
        <p:spPr>
          <a:xfrm>
            <a:off x="2846520" y="0"/>
            <a:ext cx="336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6 Metin kutusu"/>
          <p:cNvSpPr/>
          <p:nvPr/>
        </p:nvSpPr>
        <p:spPr>
          <a:xfrm>
            <a:off x="428760" y="857160"/>
            <a:ext cx="83581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ffff"/>
                </a:solidFill>
                <a:uFillTx/>
                <a:latin typeface="Calibri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The brand name of iP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Most of consumers and marketing guru’s defined the iPad name as terrible. People mean jokes about the naming of iPad because of it resembles the women’s hygienic p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00b0f0"/>
                </a:solidFill>
                <a:latin typeface="Calibri"/>
              </a:rPr>
              <a:t>The iPad may  compete with other Mac products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, including the iPhone and iTo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600D-9A08-45F9-B0D4-2EC6266DF32A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3 Resim" descr="ipad-keyboard-dock.jpg"/>
          <p:cNvPicPr/>
          <p:nvPr/>
        </p:nvPicPr>
        <p:blipFill>
          <a:blip r:embed="rId1"/>
          <a:stretch/>
        </p:blipFill>
        <p:spPr>
          <a:xfrm>
            <a:off x="142920" y="1000080"/>
            <a:ext cx="885816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4 Metin kutusu"/>
          <p:cNvSpPr/>
          <p:nvPr/>
        </p:nvSpPr>
        <p:spPr>
          <a:xfrm>
            <a:off x="1500120" y="28584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iPad."/>
          <p:cNvPicPr/>
          <p:nvPr/>
        </p:nvPicPr>
        <p:blipFill>
          <a:blip r:embed="rId2"/>
          <a:stretch/>
        </p:blipFill>
        <p:spPr>
          <a:xfrm>
            <a:off x="214200" y="285840"/>
            <a:ext cx="1076400" cy="495360"/>
          </a:xfrm>
          <a:prstGeom prst="rect">
            <a:avLst/>
          </a:prstGeom>
          <a:ln w="0">
            <a:noFill/>
          </a:ln>
        </p:spPr>
      </p:pic>
      <p:sp>
        <p:nvSpPr>
          <p:cNvPr id="111" name="7 Metin kutusu"/>
          <p:cNvSpPr/>
          <p:nvPr/>
        </p:nvSpPr>
        <p:spPr>
          <a:xfrm>
            <a:off x="2714760" y="214200"/>
            <a:ext cx="3806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etin kutusu"/>
          <p:cNvSpPr/>
          <p:nvPr/>
        </p:nvSpPr>
        <p:spPr>
          <a:xfrm>
            <a:off x="357120" y="178596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Regarding to the weaknesses of iPad, I can say that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pple's marketing strategy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s to create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popular consumer device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with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adding business functionality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Despite some disadvantages , Apple  sold so many iPad in US. That s why they delayed their launching date in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Although, it has lots of features  for users it  still has a big gap to be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AF98-5CE8-4D71-8B5D-51DFA3E5393F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 Resim" descr="send-share-export-for-ipad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5" name="4 Metin kutusu"/>
          <p:cNvSpPr/>
          <p:nvPr/>
        </p:nvSpPr>
        <p:spPr>
          <a:xfrm>
            <a:off x="1357200" y="415800"/>
            <a:ext cx="6000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.. my opinion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 Metin kutusu"/>
          <p:cNvSpPr/>
          <p:nvPr/>
        </p:nvSpPr>
        <p:spPr>
          <a:xfrm>
            <a:off x="357120" y="135900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Pad is a great device to consume content and make presentations, but it s not a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Pad is an expensive and enjoyable media- p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People do buy iPad  for  media entertainment  , not for neces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You can buy  a netbook  which  is cheaper than iP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t would be more appropriate  brand name if  it might  have created a sense of revolution or a sense of inno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CBDF-8272-4299-8FD6-B3195C9289B6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images.apple.com/home/images/ipad_hero_20100403.png"/>
          <p:cNvPicPr/>
          <p:nvPr/>
        </p:nvPicPr>
        <p:blipFill>
          <a:blip r:embed="rId1"/>
          <a:stretch/>
        </p:blipFill>
        <p:spPr>
          <a:xfrm>
            <a:off x="0" y="1857240"/>
            <a:ext cx="9101160" cy="4857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iPad is here."/>
          <p:cNvPicPr/>
          <p:nvPr/>
        </p:nvPicPr>
        <p:blipFill>
          <a:blip r:embed="rId2"/>
          <a:stretch/>
        </p:blipFill>
        <p:spPr>
          <a:xfrm>
            <a:off x="3143160" y="1357200"/>
            <a:ext cx="2667240" cy="4287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1785960" y="285840"/>
            <a:ext cx="6019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s for all your atten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5631-A2B1-4878-83C7-882A11065C20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tl00_MainContentPlaceHolder_imgArticleImage" descr="How Apple's iPad will revolutionise media and marketing"/>
          <p:cNvPicPr/>
          <p:nvPr/>
        </p:nvPicPr>
        <p:blipFill>
          <a:blip r:embed="rId1"/>
          <a:stretch/>
        </p:blipFill>
        <p:spPr>
          <a:xfrm>
            <a:off x="71280" y="1071720"/>
            <a:ext cx="9001440" cy="5643360"/>
          </a:xfrm>
          <a:prstGeom prst="rect">
            <a:avLst/>
          </a:prstGeom>
          <a:ln w="0">
            <a:noFill/>
          </a:ln>
        </p:spPr>
      </p:pic>
      <p:sp>
        <p:nvSpPr>
          <p:cNvPr id="53" name="4 Metin kutusu"/>
          <p:cNvSpPr/>
          <p:nvPr/>
        </p:nvSpPr>
        <p:spPr>
          <a:xfrm>
            <a:off x="2714760" y="415800"/>
            <a:ext cx="3806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5 Metin kutusu"/>
          <p:cNvSpPr/>
          <p:nvPr/>
        </p:nvSpPr>
        <p:spPr>
          <a:xfrm>
            <a:off x="500040" y="3132000"/>
            <a:ext cx="814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Pad was launched together with its high expectations for the  consumer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after months of created specul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ss reviews have been mixed with biggest question being "Do I really need one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During this presentation,I would like to focus on Apple ‘s iPad Marketing Strategy and its SWOT Analysis to clarify the questions in your m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D632-D9A9-4A3B-9570-A8053F5471F5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http://images.apple.com/ipad/specs/images/dimensions_20100127.jpg"/>
          <p:cNvPicPr/>
          <p:nvPr/>
        </p:nvPicPr>
        <p:blipFill>
          <a:blip r:embed="rId1"/>
          <a:stretch/>
        </p:blipFill>
        <p:spPr>
          <a:xfrm>
            <a:off x="33480" y="1096920"/>
            <a:ext cx="9078840" cy="5656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0160" y="417240"/>
            <a:ext cx="47865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ABOUT iPad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7 Dikdörtgen"/>
          <p:cNvSpPr/>
          <p:nvPr/>
        </p:nvSpPr>
        <p:spPr>
          <a:xfrm>
            <a:off x="1071720" y="192888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4E29-785E-4B8E-9DFD-A13F171A1D4C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929120" y="1520640"/>
            <a:ext cx="3643560" cy="44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440" bIns="34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al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Height: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9.56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inches (24 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idth: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7.47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inches (19 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pth: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.50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inch (13.4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e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5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pounds (680 g) Wi-Fi mod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6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pounds (730 g) Wi-Fi + 3G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://images.apple.com/ipad/specs/images/dimensions_20100127.jpg"/>
          <p:cNvPicPr/>
          <p:nvPr/>
        </p:nvPicPr>
        <p:blipFill>
          <a:blip r:embed="rId1"/>
          <a:stretch/>
        </p:blipFill>
        <p:spPr>
          <a:xfrm>
            <a:off x="33480" y="1096920"/>
            <a:ext cx="9078840" cy="5656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0160" y="417240"/>
            <a:ext cx="47865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ABOUT iPad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EA3A-7450-4916-9B82-90ECCEF1F41E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7 Dikdörtgen"/>
          <p:cNvSpPr/>
          <p:nvPr/>
        </p:nvSpPr>
        <p:spPr>
          <a:xfrm>
            <a:off x="1071720" y="192888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929120" y="1503720"/>
            <a:ext cx="364356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440" bIns="34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6 Metin kutusu"/>
          <p:cNvSpPr/>
          <p:nvPr/>
        </p:nvSpPr>
        <p:spPr>
          <a:xfrm>
            <a:off x="4929120" y="172548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GB, 32GB, or 64GB flash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 to 10 hours of surfing the web on Wi-Fi, watching video, or listening to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.7-inch (diagonal) LED-backlit glossy widescreen Multi-Touch display with IP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24-by-768-pixel resolution at 132 pixels per inch (p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GHz Apple A4 custom-designed, high-performance, low-power system-on-a-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6715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APPLE’s MARKETİNG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4 Resim" descr="ipad marketing"/>
          <p:cNvPicPr/>
          <p:nvPr/>
        </p:nvPicPr>
        <p:blipFill>
          <a:blip r:embed="rId1"/>
          <a:stretch/>
        </p:blipFill>
        <p:spPr>
          <a:xfrm>
            <a:off x="142920" y="1071720"/>
            <a:ext cx="8858160" cy="5572080"/>
          </a:xfrm>
          <a:prstGeom prst="rect">
            <a:avLst/>
          </a:prstGeom>
          <a:ln w="0">
            <a:noFill/>
          </a:ln>
        </p:spPr>
      </p:pic>
      <p:sp>
        <p:nvSpPr>
          <p:cNvPr id="69" name="6 Metin kutusu"/>
          <p:cNvSpPr/>
          <p:nvPr/>
        </p:nvSpPr>
        <p:spPr>
          <a:xfrm>
            <a:off x="428760" y="1212840"/>
            <a:ext cx="385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ffffff"/>
                </a:solidFill>
                <a:uFillTx/>
                <a:latin typeface="Calibri"/>
              </a:rPr>
              <a:t>Marketing Strategy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Create innovative products and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Drive the Consumer Technology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Position itself as the market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Focus on Brand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Continious investment in R&amp;D and respond Consumer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1B86-20A1-4A61-B168-92FC54F1C109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7 Resim" descr="http://www.blogcdn.com/www.engadget.com/media/2010/01/apple-creation-0335-rm-eng.jpg"/>
          <p:cNvPicPr/>
          <p:nvPr/>
        </p:nvPicPr>
        <p:blipFill>
          <a:blip r:embed="rId1"/>
          <a:stretch/>
        </p:blipFill>
        <p:spPr>
          <a:xfrm>
            <a:off x="214200" y="1143000"/>
            <a:ext cx="8715600" cy="5643720"/>
          </a:xfrm>
          <a:prstGeom prst="rect">
            <a:avLst/>
          </a:prstGeom>
          <a:ln w="0">
            <a:noFill/>
          </a:ln>
        </p:spPr>
      </p:pic>
      <p:sp>
        <p:nvSpPr>
          <p:cNvPr id="72" name="3 Başlık"/>
          <p:cNvSpPr/>
          <p:nvPr/>
        </p:nvSpPr>
        <p:spPr>
          <a:xfrm>
            <a:off x="2000160" y="274680"/>
            <a:ext cx="55008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APPLE’s iPad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 Metin kutusu"/>
          <p:cNvSpPr/>
          <p:nvPr/>
        </p:nvSpPr>
        <p:spPr>
          <a:xfrm>
            <a:off x="428760" y="1212840"/>
            <a:ext cx="8286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ffffff"/>
                </a:solidFill>
                <a:uFillTx/>
                <a:latin typeface="Calibri"/>
              </a:rPr>
              <a:t>Marketing Strategy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First, Apple launched  iPad in US market than they planned to distribute it  in other countries after 3-4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Apple is targeting  with this new device to replace the netbooks.</a:t>
            </a:r>
            <a:r>
              <a:rPr b="0" lang="tr-TR" sz="2400" spc="-1" strike="noStrike">
                <a:solidFill>
                  <a:srgbClr val="ffffff"/>
                </a:solidFill>
                <a:latin typeface="Calibri"/>
              </a:rPr>
              <a:t> T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he device was aimed to stay between smartphones and lap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Pad was designed and was developed to browse the web, email, play games and even read e- books – a front in which it will do battle with Amazon’s increasingly popular KİN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6172-A7F1-4FC4-8EA2-11B9BB28AF63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 Resim" descr="http://bindapple.com/wp-content/uploads/2010/04/swot-analysi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214720"/>
            <a:ext cx="464328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4 Metin kutusu"/>
          <p:cNvSpPr/>
          <p:nvPr/>
        </p:nvSpPr>
        <p:spPr>
          <a:xfrm>
            <a:off x="4929120" y="2070000"/>
            <a:ext cx="421488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s it worth spending my money 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s iPad an unnecessary produc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s iPa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ly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olutionary and magic product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ages.apple.com/ipad/home/images/hero2_20100225.png"/>
          <p:cNvPicPr/>
          <p:nvPr/>
        </p:nvPicPr>
        <p:blipFill>
          <a:blip r:embed="rId3"/>
          <a:stretch/>
        </p:blipFill>
        <p:spPr>
          <a:xfrm>
            <a:off x="142920" y="98280"/>
            <a:ext cx="1630440" cy="1973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57280" y="571680"/>
            <a:ext cx="607248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DO I REALLY NEED O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7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952B-95D4-4E2E-B4AD-D7E3B9324282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3 Resim" descr="keynote-on-ipad.jpg"/>
          <p:cNvPicPr/>
          <p:nvPr/>
        </p:nvPicPr>
        <p:blipFill>
          <a:blip r:embed="rId1"/>
          <a:stretch/>
        </p:blipFill>
        <p:spPr>
          <a:xfrm>
            <a:off x="142920" y="785880"/>
            <a:ext cx="8786880" cy="5929200"/>
          </a:xfrm>
          <a:prstGeom prst="rect">
            <a:avLst/>
          </a:prstGeom>
          <a:ln w="0">
            <a:noFill/>
          </a:ln>
        </p:spPr>
      </p:pic>
      <p:sp>
        <p:nvSpPr>
          <p:cNvPr id="81" name="4 Metin kutusu"/>
          <p:cNvSpPr/>
          <p:nvPr/>
        </p:nvSpPr>
        <p:spPr>
          <a:xfrm>
            <a:off x="428760" y="1000080"/>
            <a:ext cx="83581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ffffff"/>
                </a:solidFill>
                <a:uFillTx/>
                <a:latin typeface="Calibri"/>
              </a:rPr>
              <a:t>Str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New technology :  is the best merge between a smartphone and a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User – Friendly  : the user interface is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Super slim and  light-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Multi - touch screen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Display and ability to read much larger blocks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 Metin kutusu"/>
          <p:cNvSpPr/>
          <p:nvPr/>
        </p:nvSpPr>
        <p:spPr>
          <a:xfrm>
            <a:off x="2928960" y="142920"/>
            <a:ext cx="339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WOT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6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BFC9-171A-4BC4-9399-894CF8025587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3 İçerik Yer Tutucusu" descr="keynote-over-vga-on-ipad.jpg"/>
          <p:cNvPicPr/>
          <p:nvPr/>
        </p:nvPicPr>
        <p:blipFill>
          <a:blip r:embed="rId1"/>
          <a:stretch/>
        </p:blipFill>
        <p:spPr>
          <a:xfrm>
            <a:off x="214200" y="928800"/>
            <a:ext cx="8715600" cy="5643360"/>
          </a:xfrm>
          <a:prstGeom prst="rect">
            <a:avLst/>
          </a:prstGeom>
          <a:ln w="0">
            <a:noFill/>
          </a:ln>
        </p:spPr>
      </p:pic>
      <p:sp>
        <p:nvSpPr>
          <p:cNvPr id="85" name="5 Dikdörtgen"/>
          <p:cNvSpPr/>
          <p:nvPr/>
        </p:nvSpPr>
        <p:spPr>
          <a:xfrm>
            <a:off x="500040" y="1509840"/>
            <a:ext cx="82152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It’s a very cool presentation device : Sales people and anybody who makes presentation can load their PowerPoint files to a folder in iTunes and open them in Key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Stunning vis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Absolutely beautiful extern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tr-TR" sz="2400" spc="-1" strike="noStrike">
                <a:solidFill>
                  <a:srgbClr val="ffffff"/>
                </a:solidFill>
                <a:latin typeface="Calibri"/>
              </a:rPr>
              <a:t>Super fast  wi-fi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6 Metin kutusu"/>
          <p:cNvSpPr/>
          <p:nvPr/>
        </p:nvSpPr>
        <p:spPr>
          <a:xfrm>
            <a:off x="2835720" y="142920"/>
            <a:ext cx="336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tr-TR" sz="3600" spc="-1" strike="noStrike">
                <a:solidFill>
                  <a:srgbClr val="000000"/>
                </a:solidFill>
                <a:latin typeface="Calibri"/>
              </a:rPr>
              <a:t>WOT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D686-93EB-4C6C-A32C-70C694F3C01D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1:34:20Z</dcterms:created>
  <dc:creator>Fatih Ünal</dc:creator>
  <dc:description/>
  <cp:keywords>ipad presentation</cp:keywords>
  <dc:language>en-US</dc:language>
  <cp:lastModifiedBy> Fatih Ünal</cp:lastModifiedBy>
  <dcterms:modified xsi:type="dcterms:W3CDTF">2010-09-19T16:34:10Z</dcterms:modified>
  <cp:revision>186</cp:revision>
  <dc:subject>ipad presentation</dc:subject>
  <dc:title>ipad presentation</dc:title>
</cp:coreProperties>
</file>